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3BC-5D8B-4826-A4C9-DC7816ED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0FB-F7BA-4618-AFE0-DBA3994A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8F6-4F8D-4741-BE88-94578270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498-FEA1-472A-82F2-E1269E95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72EE-3BC5-421B-9A19-CB7BFFE2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5D8A-DF1C-4B28-99DB-7D3D8967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F047-3B7E-4415-99DF-DB425974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1769-915E-4684-832F-6E5D4E34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4CAA-7E53-4965-A94C-12D4CB3B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5C50-EBFD-4FC7-BBBE-8C0E1B1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4DB5-03B1-4E43-B3FE-2B3C174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35F-580E-4F6E-8B45-BF9E674D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E3C9-BD1F-4C9B-9BB0-F7B52D9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8C8-65DC-418D-9162-866D43FB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B24E-C91E-4C8C-90C5-DD254C05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21C4-5F66-4DE3-B0E7-BBC313B2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D682-789D-4908-81B9-12BF2992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A94-64C0-4CD4-95FA-1C5ADBFB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984-2C9D-4665-8D8D-3A06B9F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A3C-BB30-45A8-86E2-9CA6516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DBD-D5FD-4F18-84B9-05144B10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94D-25AE-4F93-BC07-E4312F1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66D-362A-4E73-B001-B449F825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F38-14BE-435E-9902-96AEDC2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605-2EC3-4C44-AB44-2FF5B50C5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5B1E-DEE1-4484-B3DB-C8DE6BDD8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очечный самомассаж  для детей дошкольного возраст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амомассаж для лица и шеи для детей «Индеец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ль массажа – научить детей расслаблению мышц лица и шеи при выполнении массажа перед зеркалом. Представим, что мы индейцы, наносящие боевую раскрас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исуем» линии от середины лба к ушам сильными движениями – повторяем 3 р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исуем» линии от носа к ушам, при этом широко расставляем пальцы – повторяем 3 р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исуем» линии от середины подбородка по направлению к ушам – повторяем 3 р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исуем» линии на шее по направлению от подбородка к груди – повторяем 3 р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Пошел дождик» - легонько постукиваем пальцами по лицу, как будто играя на пиани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Вытираем с лица потекшую краску», легонько проводя по лицу ладонями, предварительно разогрев их, потерев друг об дру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Стряхиваем с рук оставшиеся капельки воды», опустив руки вни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омассаж по системе А.А. Уманской -  одна из самых эффективных  методик по укреплению здоровья организма, которая подходит от новорожденных до взрослых! Эта методика основана на воздействии  девяти биоточек       организ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человека на теле имеются особые точки, которые регулируют деятельность внутренних органов. Массаж этих точек повышает защитные силы организма в целом, а также слизистых оболочек носа, горла, бронхов. Под воздействием самомассажа организм и взрослого, и ребёнка начинает лечить себя сам. Самомассаж делать несложно. Слегка следует надавливать на точку и делать круговые движения 9 раз по часовой стрелке и 9 раз против часовой стрелки. Лучше всего точечный массаж делать не только по утрам, но еще днем (если есть такая возможность) и вечером, то есть не реже чем через каждые пять-шесть час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90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ссаж в детском саду – основные при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личным действием обладает артикуляционный массаж, который заключается в воздействии на ушную раковину. Дети могут выполнять все массажные приемы самостоятельно под руководством воспитателя групп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облегчения понимания ребенком связи между своим телом и ухом можно провести аналогию, что ушная раковина похожа на свернувшегося калачиком спящего ребенка. При этом мочка уха – это голова, а все остальные части уха соответствуют туловищу и конечност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ссаж ушных раковин помогает улучшить работу мозга, поскольку улучшает кровоток во всем организме человека. Массаж уха помогает сосредоточиться, повысить внимательность, а также увеличить работоспособность и поднять бодрость духа. Поскольку ушная раковина рефлекторно связана со всеми органами тела, то ее массаж позволяет значительно улучшить работу органов и повысить иммунит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бенка следует научить самомассажу ушных раковин, который следует проводить два раза в день в течение периода времени, пока он находится в детском саду. Во-первых, объясните ребенку, что перед массажем следует вымыть руки и уши, а затем вытереть их полотенцем. во-вторых научите малыша зажимать ткани между большим и указательным пальцами, и делать ими разминающие движения с постепенным перемещением с одного участка кожи на друг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скажите ребенку, что проводить массаж нужно только в течение одной минуты на одном ушке. При этом для массажа ребенок должен сесть удобно, расслабиться, отдышаться и восстановить дыхание, если он перед этим бегал и игр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бы ребенок хорошо запомнил последовательность массажных приемов, лучше всего донести их в форме игры. Для этого можно выучить с ребенком стихотворение, под которое он будет выполнять определенные действия. Приведем пример удачного стихотво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озьмите ушки за макуш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массирует уши указательным и большим пальцем руки, причем большой палец располагается по задней поверхности ушной раковин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зяли ушки за макуш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крепко охватывает мочку уха большим и указательным пальце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отяну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аккуратно тянет ухо ввер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ощипа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щипает всю поверхность уха несильными захватами большим и указательным пальцам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низ до мочек добежа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щипковыми движениями перемещаются пальцы ребенка от верхней части ушной раковины к мочк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чки надо пальцами скорей размя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ебенок пальцами разминает мочку ух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верх по ушкам проведем и до краешка дойде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ребенок захватывает кончик мочки указательным и большим пальцем и проводит по краю ушной раковины до самого верхнего края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Точечный самомассаж лица для де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6275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ль массажа – предотвратить простудные заболевания, научиться управлять мимикой лица. Выполняется в игровой форме, имитируя работу скульпт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жимаем пальцами на переносицу, точки в середине бровей, производя вращательные движения сначала по часовой стрелке, а затем против часовой стрелки. Выполняем 5-6 р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лагая усилия, оказывая давление, «рисуем» брови, придавая им красивый изгиб. «Вылепливаем» густые брови при помощи щип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гкими нежными прикосновениями лепим глаза, расчесываем реснич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дем пальцами от переносицы к кончику носа, «вылепливая» длинный нос для Бурати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34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5580000" cy="59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массаж лица для детей в стихах «Нос, умойся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Кран, откройся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правой рукой делаем вращательные движения, «открывая» кр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Нос, умойся!»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растираем указательными пальцами обеих рук крылья н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Мойтесь сразу оба глаза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нежно проводим руками над глаз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Мойтесь, уши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растираем ладонями уш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Мойся, шейка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аккуратными движениями гладим шею спере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Шейка, мойся хорошенько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гладим шею сзади, от основания черепа к гру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Мойся, мойся, обливайся!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аккуратно поглаживаем ще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«Грязь, смывайся! Грязь, смывайся!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трем ладошки друг о дру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378000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2:15:08Z</dcterms:created>
  <dc:creator>Nikolai</dc:creator>
  <dc:description/>
  <dc:language>en-US</dc:language>
  <cp:lastModifiedBy>Nikolai</cp:lastModifiedBy>
  <dcterms:modified xsi:type="dcterms:W3CDTF">2014-12-08T13:13:37Z</dcterms:modified>
  <cp:revision>2</cp:revision>
  <dc:subject/>
  <dc:title>Точечный самомассаж  для детей дошкольного возраста.</dc:title>
</cp:coreProperties>
</file>