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9F9-2320-4E79-9179-5BCB3D12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7ED-DFCD-4E83-A3C0-81D00D8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9AA-9586-4992-8096-28C056C0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DA9-050A-40A2-84AC-D10E95A7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0B8-6A5F-4B4E-8956-FF7171F8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CCD-7DAD-40EA-AC93-A54D72B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996A-9761-400D-A27D-2263394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1CDB-BC3B-4FD7-A8D4-A9AEE6DC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562-F6E1-49F2-A7B6-100271E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F95-5A44-475A-BA54-B155B20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C56-C5CE-4C36-823A-A2A783F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84A-2E48-4DBA-8FA5-B95145C2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C2B-9AE0-4BA2-BC9C-3B4C8C1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DAF1-C21B-486A-BF83-93E3753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A77B-99C8-4C7F-9829-7ECA4F7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9C85-C93D-43CF-A5AF-4DE87111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4F2-250F-4A6C-9906-DAA55A13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7E5-2D60-4CEC-AC75-6539C8D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D3A-3B6E-411F-96E6-802D5FC8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D33-907E-4601-AB5D-8BD1D96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F47-C4C9-4DE5-B5B6-73E3023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F3E-3897-4D0E-A323-B8AEF83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3E8-8D12-4055-B95A-C3EA2F5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215-0345-4E95-A01A-7F94349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8D1-4C36-4666-AF54-0A5D39F1B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403D-8729-470A-8BE2-985AD7D9A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очечный самомассаж  для детей дошкольного возраст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амомассаж для лица и шеи для детей «Индеец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ь массажа – научить детей расслаблению мышц лица и шеи при выполнении массажа перед зеркалом. Представим, что мы индейцы, наносящие боевую раскрас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середины лба к ушам сильными движениями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носа к ушам, при этом широко расставляем пальцы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середины подбородка по направлению к ушам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на шее по направлению от подбородка к груди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Пошел дождик» - легонько постукиваем пальцами по лицу, как будто играя на пиани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Вытираем с лица потекшую краску», легонько проводя по лицу ладонями, предварительно разогрев их, потерев друг об дру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Стряхиваем с рук оставшиеся капельки воды», опустив руки вни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омассаж по системе А.А. Уманской -  одна из самых эффективных  методик по укреплению здоровья организма, которая подходит от новорожденных до взрослых! Эта методика основана на воздействии  девяти биоточек       орган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человека на теле имеются особые точки, которые регулируют деятельность внутренних органов. Массаж этих точек повышает защитные силы организма в целом, а также слизистых оболочек носа, горла, бронхов. Под воздействием самомассажа организм и взрослого, и ребёнка начинает лечить себя сам. Самомассаж делать несложно. Слегка следует надавливать на точку и делать круговые движения 9 раз по часовой стрелке и 9 раз против часовой стрелки. Лучше всего точечный массаж делать не только по утрам, но еще днем (если есть такая возможность) и вечером, то есть не реже чем через каждые пять-шесть час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90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ссаж в детском саду – основные при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личным действием обладает артикуляционный массаж, который заключается в воздействии на ушную раковину. Дети могут выполнять все массажные приемы самостоятельно под руководством воспитателя групп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облегчения понимания ребенком связи между своим телом и ухом можно провести аналогию, что ушная раковина похожа на свернувшегося калачиком спящего ребенка. При этом мочка уха – это голова, а все остальные части уха соответствуют туловищу и конечност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ссаж ушных раковин помогает улучшить работу мозга, поскольку улучшает кровоток во всем организме человека. Массаж уха помогает сосредоточиться, повысить внимательность, а также увеличить работоспособность и поднять бодрость духа. Поскольку ушная раковина рефлекторно связана со всеми органами тела, то ее массаж позволяет значительно улучшить работу органов и повысить иммунит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бенка следует научить самомассажу ушных раковин, который следует проводить два раза в день в течение периода времени, пока он находится в детском саду. Во-первых, объясните ребенку, что перед массажем следует вымыть руки и уши, а затем вытереть их полотенцем. во-вторых научите малыша зажимать ткани между большим и указательным пальцами, и делать ими разминающие движения с постепенным перемещением с одного участка кожи на друг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кажите ребенку, что проводить массаж нужно только в течение одной минуты на одном ушке. При этом для массажа ребенок должен сесть удобно, расслабиться, отдышаться и восстановить дыхание, если он перед этим бегал и игр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ы ребенок хорошо запомнил последовательность массажных приемов, лучше всего донести их в форме игры. Для этого можно выучить с ребенком стихотворение, под которое он будет выполнять определенные действия. Приведем пример удачного стихотво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озьмите ушки за макуш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массирует уши указательным и большим пальцем руки, причем большой палец располагается по задней поверхности ушной ракови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зяли ушки за макуш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крепко охватывает мочку уха большим и указательным пальце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тяну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аккуратно тянет ухо ввер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щипа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щипает всю поверхность уха несильными захватами большим и указательным пальцам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низ до мочек добежа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щипковыми движениями перемещаются пальцы ребенка от верхней части ушной раковины к мочк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чки надо пальцами скорей размя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пальцами разминает мочку ух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верх по ушкам проведем и до краешка дойде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ребенок захватывает кончик мочки указательным и большим пальцем и проводит по краю ушной раковины до самого верхнего края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очечный самомассаж лица дл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6275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ь массажа – предотвратить простудные заболевания, научиться управлять мимикой лица. Выполняется в игровой форме, имитируя работу скульпт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жимаем пальцами на переносицу, точки в середине бровей, производя вращательные движения сначала по часовой стрелке, а затем против часовой стрелки. Выполняем 5-6 р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лагая усилия, оказывая давление, «рисуем» брови, придавая им красивый изгиб. «Вылепливаем» густые брови при помощи щип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гкими нежными прикосновениями лепим глаза, расчесываем ресни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дем пальцами от переносицы к кончику носа, «вылепливая» длинный нос для Бурати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4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55800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массаж лица для детей в стихах «Нос, умойся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Кран, откройся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правой рукой делаем вращательные движения, «открывая» к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Нос, умойся!»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растираем указательными пальцами обеих рук крылья н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тесь сразу оба глаза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нежно проводим руками над глаз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тесь, уши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растираем ладонями уш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ся, шейка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аккуратными движениями гладим шею спере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Шейка, мойся хорошенько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гладим шею сзади, от основания черепа к гру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ся, мойся, обливайся!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аккуратно поглаживаем щ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Грязь, смывайся! Грязь, смывайся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трем ладошки друг о дру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78000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2:15:08Z</dcterms:created>
  <dc:creator>Nikolai</dc:creator>
  <dc:description/>
  <dc:language>en-US</dc:language>
  <cp:lastModifiedBy>Nikolai</cp:lastModifiedBy>
  <dcterms:modified xsi:type="dcterms:W3CDTF">2014-12-08T13:13:37Z</dcterms:modified>
  <cp:revision>2</cp:revision>
  <dc:subject/>
  <dc:title>Точечный самомассаж  для детей дошкольного возраста.</dc:title>
</cp:coreProperties>
</file>