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0FE-B611-40C3-AB64-620B14D4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01F-626C-47DD-9825-EA04A355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887-65DB-489D-8B9F-2EE31E02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577-E411-49AA-8919-721BCB0C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F96-A827-4EDE-83DF-DE8F8ECA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4A3-90A7-404F-BE91-3C52F059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72A-897B-4D8D-8B6E-16354F1E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D94-84D5-4B13-BF6E-69F7F9C3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BBF-E053-4D49-853B-DE72ABC2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ADB-5788-4243-91D2-B644634A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918-B9F0-4BED-ADDA-369BA435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4A3-FD32-4A56-A34B-1BEF8982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5F9A-1C6D-4092-A05F-8CC1F8E71D9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5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GOOD AFTERNOON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4280" y="1563480"/>
            <a:ext cx="71740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skerville Old Face"/>
              </a:rPr>
              <a:t>          </a:t>
            </a:r>
            <a:r>
              <a:rPr b="0" lang="en-US" sz="4800" spc="-1" strike="noStrike">
                <a:solidFill>
                  <a:srgbClr val="002060"/>
                </a:solidFill>
                <a:latin typeface="Baskerville Old Face"/>
              </a:rPr>
              <a:t>Today is Frida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53735"/>
                </a:solidFill>
                <a:latin typeface="Baskerville Old Face"/>
              </a:rPr>
              <a:t>     </a:t>
            </a:r>
            <a:r>
              <a:rPr b="0" lang="en-US" sz="4800" spc="-1" strike="noStrike">
                <a:solidFill>
                  <a:srgbClr val="ff0000"/>
                </a:solidFill>
                <a:latin typeface="Baskerville Old Face"/>
              </a:rPr>
              <a:t>It is the 20</a:t>
            </a:r>
            <a:r>
              <a:rPr b="0" lang="en-US" sz="4800" spc="-1" strike="noStrike" baseline="30000">
                <a:solidFill>
                  <a:srgbClr val="ff0000"/>
                </a:solidFill>
                <a:latin typeface="Baskerville Old Face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Baskerville Old Face"/>
              </a:rPr>
              <a:t> of Februar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Watch-TV-on-PC-with-3000-channels"/>
          <p:cNvPicPr/>
          <p:nvPr/>
        </p:nvPicPr>
        <p:blipFill>
          <a:blip r:embed="rId1"/>
          <a:stretch/>
        </p:blipFill>
        <p:spPr>
          <a:xfrm>
            <a:off x="0" y="0"/>
            <a:ext cx="5829480" cy="3860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atching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writingдев"/>
          <p:cNvPicPr/>
          <p:nvPr/>
        </p:nvPicPr>
        <p:blipFill>
          <a:blip r:embed="rId1"/>
          <a:stretch/>
        </p:blipFill>
        <p:spPr>
          <a:xfrm>
            <a:off x="0" y="0"/>
            <a:ext cx="486576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rit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гр в футб"/>
          <p:cNvPicPr/>
          <p:nvPr/>
        </p:nvPicPr>
        <p:blipFill>
          <a:blip r:embed="rId1"/>
          <a:stretch/>
        </p:blipFill>
        <p:spPr>
          <a:xfrm>
            <a:off x="0" y="0"/>
            <a:ext cx="5076720" cy="5076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foot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рогулка"/>
          <p:cNvPicPr/>
          <p:nvPr/>
        </p:nvPicPr>
        <p:blipFill>
          <a:blip r:embed="rId1"/>
          <a:stretch/>
        </p:blipFill>
        <p:spPr>
          <a:xfrm>
            <a:off x="0" y="0"/>
            <a:ext cx="5508720" cy="5151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alk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интернет"/>
          <p:cNvPicPr/>
          <p:nvPr/>
        </p:nvPicPr>
        <p:blipFill>
          <a:blip r:embed="rId1"/>
          <a:stretch/>
        </p:blipFill>
        <p:spPr>
          <a:xfrm>
            <a:off x="0" y="0"/>
            <a:ext cx="6156360" cy="4618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rfing the INTERN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кинотеатр"/>
          <p:cNvPicPr/>
          <p:nvPr/>
        </p:nvPicPr>
        <p:blipFill>
          <a:blip r:embed="rId1"/>
          <a:stretch/>
        </p:blipFill>
        <p:spPr>
          <a:xfrm>
            <a:off x="0" y="0"/>
            <a:ext cx="6227640" cy="4145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ing to the cin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покупки"/>
          <p:cNvPicPr/>
          <p:nvPr/>
        </p:nvPicPr>
        <p:blipFill>
          <a:blip r:embed="rId1"/>
          <a:stretch/>
        </p:blipFill>
        <p:spPr>
          <a:xfrm>
            <a:off x="0" y="0"/>
            <a:ext cx="4016520" cy="5143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ing shopp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22-300x284"/>
          <p:cNvPicPr/>
          <p:nvPr/>
        </p:nvPicPr>
        <p:blipFill>
          <a:blip r:embed="rId1"/>
          <a:stretch/>
        </p:blipFill>
        <p:spPr>
          <a:xfrm>
            <a:off x="0" y="0"/>
            <a:ext cx="5364000" cy="5078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Jogg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1640" y="285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estions you can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714560" y="1214280"/>
            <a:ext cx="404028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do you like d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do you do in  your free (spare)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160" y="92160"/>
            <a:ext cx="40417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ow to re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3160" y="1000080"/>
            <a:ext cx="4613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Baskerville Old Fac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watch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TV.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swim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Baskerville Old Fac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</a:t>
            </a:r>
            <a:r>
              <a:rPr b="0" lang="en-US" sz="2800" spc="-1" strike="noStrike">
                <a:solidFill>
                  <a:srgbClr val="e46c0a"/>
                </a:solidFill>
                <a:latin typeface="Baskerville Old Face"/>
              </a:rPr>
              <a:t>LIKE + VERB+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like watching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like swimm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Baskerville Old Fac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</a:t>
            </a:r>
            <a:r>
              <a:rPr b="0" lang="en-US" sz="2800" spc="-1" strike="noStrike">
                <a:solidFill>
                  <a:srgbClr val="e46c0a"/>
                </a:solidFill>
                <a:latin typeface="Baskerville Old Face"/>
              </a:rPr>
              <a:t>GO + VERB+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  (sports, exerci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go swimm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go jogg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mpar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42880" y="1428480"/>
            <a:ext cx="50007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 do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ke + gerun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(V-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we talk about general likes: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I like fish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428480"/>
            <a:ext cx="40388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ke + infinitiv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we talk about more specific likes: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I like to go fishing at the week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195120"/>
            <a:ext cx="843588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OU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:] g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ing, 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ns, 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ing, post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, d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c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, 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y, 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ture, 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ɔ:] 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acing, 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r, s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ɔ] 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ging, 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d, 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by, 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ar, 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mon, 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 i:] 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ng, 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nd, 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, 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adv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, 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d, 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, 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, 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ju:] 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, 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s, 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cal, 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ful, 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rans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560" y="642600"/>
            <a:ext cx="8929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going to the cinema. I usually go to the cinema on Saturdays.</a:t>
            </a:r>
            <a:br>
              <a:rPr sz="2800"/>
            </a:b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like watching TV. I always watch television in the even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spending time with my family. I spend a lot of time with my family.</a:t>
            </a:r>
            <a:br>
              <a:rPr sz="2800"/>
            </a:b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like playing the guitar. I play the flute and the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playing computer games. I play video g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hang around with my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sometimes surf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4001" t="20393" r="13000" b="1133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Line 5"/>
          <p:cNvSpPr/>
          <p:nvPr/>
        </p:nvSpPr>
        <p:spPr>
          <a:xfrm>
            <a:off x="3780000" y="771480"/>
            <a:ext cx="1728720" cy="1295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"/>
          <p:cNvSpPr/>
          <p:nvPr/>
        </p:nvSpPr>
        <p:spPr>
          <a:xfrm flipV="1">
            <a:off x="3708360" y="3292560"/>
            <a:ext cx="1800360" cy="1224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3708360" y="3919680"/>
            <a:ext cx="1800360" cy="596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"/>
          <p:cNvSpPr/>
          <p:nvPr/>
        </p:nvSpPr>
        <p:spPr>
          <a:xfrm flipV="1">
            <a:off x="3708360" y="2571840"/>
            <a:ext cx="1800360" cy="72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708360" y="2643120"/>
            <a:ext cx="1800360" cy="1368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1"/>
          <p:cNvSpPr/>
          <p:nvPr/>
        </p:nvSpPr>
        <p:spPr>
          <a:xfrm flipV="1">
            <a:off x="3708360" y="700200"/>
            <a:ext cx="1800360" cy="1366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3708360" y="14191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Bookman Old Style"/>
              </a:rPr>
              <a:t>Unit 8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WE HAVE A LOT IN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9154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Bodoni MT"/>
              </a:rPr>
              <a:t>SECTION 1</a:t>
            </a:r>
            <a:r>
              <a:rPr b="0" lang="en-US" sz="3200" spc="-1" strike="noStrike">
                <a:solidFill>
                  <a:srgbClr val="c0504d"/>
                </a:solidFill>
                <a:latin typeface="Bookman Old Style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Do we like doing the same thing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o we have the same hobb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leisure"/>
          <p:cNvPicPr/>
          <p:nvPr/>
        </p:nvPicPr>
        <p:blipFill>
          <a:blip r:embed="rId1"/>
          <a:stretch/>
        </p:blipFill>
        <p:spPr>
          <a:xfrm>
            <a:off x="0" y="-3240"/>
            <a:ext cx="9144000" cy="4432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0" y="394344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Baskerville Old Face"/>
              </a:rPr>
              <a:t>Hobbies differ like tasties. If you have chosen a hobby according to your character and taste you are lucky because your life becomes more interes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9" descr="booksforkids"/>
          <p:cNvPicPr/>
          <p:nvPr/>
        </p:nvPicPr>
        <p:blipFill>
          <a:blip r:embed="rId1"/>
          <a:stretch/>
        </p:blipFill>
        <p:spPr>
          <a:xfrm>
            <a:off x="0" y="0"/>
            <a:ext cx="6372360" cy="4245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0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a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hildren-piano"/>
          <p:cNvPicPr/>
          <p:nvPr/>
        </p:nvPicPr>
        <p:blipFill>
          <a:blip r:embed="rId1"/>
          <a:stretch/>
        </p:blipFill>
        <p:spPr>
          <a:xfrm>
            <a:off x="0" y="0"/>
            <a:ext cx="6300720" cy="4065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300720" y="843120"/>
            <a:ext cx="244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musical instru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gaming-kids"/>
          <p:cNvPicPr/>
          <p:nvPr/>
        </p:nvPicPr>
        <p:blipFill>
          <a:blip r:embed="rId1"/>
          <a:stretch/>
        </p:blipFill>
        <p:spPr>
          <a:xfrm>
            <a:off x="0" y="0"/>
            <a:ext cx="651672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video ga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sten-music-student-girl"/>
          <p:cNvPicPr/>
          <p:nvPr/>
        </p:nvPicPr>
        <p:blipFill>
          <a:blip r:embed="rId1"/>
          <a:stretch/>
        </p:blipFill>
        <p:spPr>
          <a:xfrm>
            <a:off x="0" y="0"/>
            <a:ext cx="5940360" cy="3944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istening to mus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tock-illustration-395348-girl-surfing-internet-happy-version"/>
          <p:cNvPicPr/>
          <p:nvPr/>
        </p:nvPicPr>
        <p:blipFill>
          <a:blip r:embed="rId1"/>
          <a:stretch/>
        </p:blipFill>
        <p:spPr>
          <a:xfrm>
            <a:off x="0" y="0"/>
            <a:ext cx="4791240" cy="5143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computer ga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6:31:59Z</dcterms:created>
  <dc:creator>Admin</dc:creator>
  <dc:description/>
  <dc:language>en-US</dc:language>
  <cp:lastModifiedBy>User</cp:lastModifiedBy>
  <dcterms:modified xsi:type="dcterms:W3CDTF">2015-02-19T18:28:58Z</dcterms:modified>
  <cp:revision>15</cp:revision>
  <dc:subject/>
  <dc:title>Unit 8  WE HAVE A LOT IN COMMON</dc:title>
</cp:coreProperties>
</file>