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016-87E9-4A7F-AD7D-A18C1036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324-4F5E-4836-B1DD-CF8A3F1B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7DC-DF96-43C4-977D-D4B62679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79A-E35B-4FDA-9C10-FEEFC227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F93-7B57-490D-A7BA-3C32B49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F35-502E-4017-8447-A6AA3AE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9DD-4B62-4584-812B-D38E533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FFB-6B68-4612-8136-A686DAF6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4D7-4C2C-4B6C-BCC7-23C09D7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1C5-8834-473D-A4C5-4CC5D3A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F0E-8228-4CB4-9978-0DCE86B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667-BDC3-40A7-AD5B-010A94E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1A09-FFBC-472A-A66B-E7E58F3A87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119664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Машина должна работать, человек - думать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из фирм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то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50920" y="147276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мизинец) – мыслительный процесс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е знания, опыт я сегодня получи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езымянный) – близость цел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я сегодня делал и чего дости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редний) – состояние дух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м было сегодня моё преобладающее настро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указательный) – услуга, помощь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м я сегодня помог, чем порадовал или чему поспособствова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ольшой) – бодрость, физическая форм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м было моё физическое состояние сегодн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одержимое 5" descr="67952874.gif"/>
          <p:cNvPicPr/>
          <p:nvPr/>
        </p:nvPicPr>
        <p:blipFill>
          <a:blip r:embed="rId1"/>
          <a:stretch/>
        </p:blipFill>
        <p:spPr>
          <a:xfrm>
            <a:off x="5983200" y="333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ловая иг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азработка и продажа программного продукта в сред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692360" y="62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а иг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1359360"/>
            <a:ext cx="842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формить  программный продукт, записать программу и отладить её в программ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снабдить инструкцией для рекла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а фирм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Разработать программу рациональным способом и объяснить суть програм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1619280" y="907920"/>
            <a:ext cx="6265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трудники фир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зиде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грамми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инанси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недже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инансовая ведо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00000" y="1341360"/>
          <a:ext cx="7056720" cy="3600360"/>
        </p:xfrm>
        <a:graphic>
          <a:graphicData uri="http://schemas.openxmlformats.org/drawingml/2006/table">
            <a:tbl>
              <a:tblPr/>
              <a:tblGrid>
                <a:gridCol w="2351160"/>
                <a:gridCol w="2352600"/>
                <a:gridCol w="2352960"/>
              </a:tblGrid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грамма с ошиб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ub Command1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4.Text = Text2.Tex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   - 4  Text1.Text * Text3.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ext4.Text &lt; 0 Then Print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   Text5.Text = -Text2.Text + Sqr Text4.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6.Text = -Text2.Text - Sqr(Text4.T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64328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16360" y="2205000"/>
            <a:ext cx="71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12000" y="220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33200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4360" y="4365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258920" y="551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64000" y="328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                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трих к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рих код состоит из серии параллельных, расположенных рядом штрихов и промежутков между ними. Предопределенная ширина используется для кодирования данных в символ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3" descr="04_03.gif"/>
          <p:cNvPicPr/>
          <p:nvPr/>
        </p:nvPicPr>
        <p:blipFill>
          <a:blip r:embed="rId1"/>
          <a:stretch/>
        </p:blipFill>
        <p:spPr>
          <a:xfrm>
            <a:off x="611280" y="4724280"/>
            <a:ext cx="4633920" cy="1773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images.jpg"/>
          <p:cNvPicPr/>
          <p:nvPr/>
        </p:nvPicPr>
        <p:blipFill>
          <a:blip r:embed="rId2"/>
          <a:stretch/>
        </p:blipFill>
        <p:spPr>
          <a:xfrm>
            <a:off x="0" y="0"/>
            <a:ext cx="2556000" cy="1717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Voyager_MS-9540_skaner_shtrihkodov.jpg"/>
          <p:cNvPicPr/>
          <p:nvPr/>
        </p:nvPicPr>
        <p:blipFill>
          <a:blip r:embed="rId3"/>
          <a:stretch/>
        </p:blipFill>
        <p:spPr>
          <a:xfrm>
            <a:off x="5940360" y="4221000"/>
            <a:ext cx="3203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6028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считать информацию содержащуюся в штрих коде, сканирующее устройство, например, сканер "палочка", двигается через штрих код от одного края к другому. Во время движения устройства через штрих код, ширина штрихов и пробелов анализируется декодером и первоначально закодированные данные восстанавливаются в формате воспринимаемом программным обеспеч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3" descr="barcode-scanner.jpg"/>
          <p:cNvPicPr/>
          <p:nvPr/>
        </p:nvPicPr>
        <p:blipFill>
          <a:blip r:embed="rId1"/>
          <a:stretch/>
        </p:blipFill>
        <p:spPr>
          <a:xfrm>
            <a:off x="5292720" y="476280"/>
            <a:ext cx="3424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рих коды 4 товаров следующ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2098839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иск, цена: 3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600344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щая тетрадь, цена: 3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2419853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нига, цена: 25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1716334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онитор, цена: 75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5-02-25T10:26:38Z</dcterms:modified>
  <cp:revision>19</cp:revision>
  <dc:subject/>
  <dc:title>Слайд 1</dc:title>
</cp:coreProperties>
</file>