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2A6-13EB-4E46-AC71-FF7425E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F63-5712-4083-9B9D-CB8DED0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8E1-F49A-439D-B20F-2C8D338A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0F-AEFC-439A-A695-7844A62C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87D-5F84-4C40-9D02-2020538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46D-8F86-49A0-A134-2B3155C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DB2-BFBB-4E99-9A48-9D5AA02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D50-CC94-4E2A-B3F4-DF9F65E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8C1-3B75-4D82-B0EE-00F348A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B3D-B4AC-40C5-9F9F-B1D8545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3B2-8948-460B-A0C6-17A43EE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60B-54AB-4854-B830-EFD3E2C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B752-4141-4835-AA51-D74AD0D2A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119664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Машина должна работать, человек - думать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из фирм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то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50920" y="147276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мизинец) – мыслительный процесс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е знания, опыт я сегодня получи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езымянный) – близость цел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я сегодня делал и чего дости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редний) – состояние дух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м было сегодня моё преобладающее настро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указательный) – услуга, помощь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м я сегодня помог, чем порадовал или чему поспособствова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большой) – бодрость, физическая форм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м было моё физическое состояние сегодн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одержимое 5" descr="67952874.gif"/>
          <p:cNvPicPr/>
          <p:nvPr/>
        </p:nvPicPr>
        <p:blipFill>
          <a:blip r:embed="rId1"/>
          <a:stretch/>
        </p:blipFill>
        <p:spPr>
          <a:xfrm>
            <a:off x="5983200" y="333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ловая иг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азработка и продажа программного продукта в сред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692360" y="62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а иг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1359360"/>
            <a:ext cx="842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формить  программный продукт, записать программу и отладить её в программ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снабдить инструкцией для рекла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а фирм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Разработать программу рациональным способом и объяснить суть програм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1619280" y="907920"/>
            <a:ext cx="6265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трудники фир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зиде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грамми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инанси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недже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инансовая ведо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00000" y="1341360"/>
          <a:ext cx="7056720" cy="3600360"/>
        </p:xfrm>
        <a:graphic>
          <a:graphicData uri="http://schemas.openxmlformats.org/drawingml/2006/table">
            <a:tbl>
              <a:tblPr/>
              <a:tblGrid>
                <a:gridCol w="2351160"/>
                <a:gridCol w="2352600"/>
                <a:gridCol w="2352960"/>
              </a:tblGrid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грамма с ошиб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ub Command1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4.Text = Text2.Tex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   - 4  Text1.Text * Text3.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ext4.Text &lt; 0 Then Print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   Text5.Text = -Text2.Text + Sqr Text4.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6.Text = -Text2.Text - Sqr(Text4.T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64328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16360" y="2205000"/>
            <a:ext cx="71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12000" y="220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332000" y="38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4360" y="4365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258920" y="551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64000" y="328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                   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трих к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рих код состоит из серии параллельных, расположенных рядом штрихов и промежутков между ними. Предопределенная ширина используется для кодирования данных в символ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3" descr="04_03.gif"/>
          <p:cNvPicPr/>
          <p:nvPr/>
        </p:nvPicPr>
        <p:blipFill>
          <a:blip r:embed="rId1"/>
          <a:stretch/>
        </p:blipFill>
        <p:spPr>
          <a:xfrm>
            <a:off x="611280" y="4724280"/>
            <a:ext cx="4633920" cy="1773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images.jpg"/>
          <p:cNvPicPr/>
          <p:nvPr/>
        </p:nvPicPr>
        <p:blipFill>
          <a:blip r:embed="rId2"/>
          <a:stretch/>
        </p:blipFill>
        <p:spPr>
          <a:xfrm>
            <a:off x="0" y="0"/>
            <a:ext cx="2556000" cy="1717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Voyager_MS-9540_skaner_shtrihkodov.jpg"/>
          <p:cNvPicPr/>
          <p:nvPr/>
        </p:nvPicPr>
        <p:blipFill>
          <a:blip r:embed="rId3"/>
          <a:stretch/>
        </p:blipFill>
        <p:spPr>
          <a:xfrm>
            <a:off x="5940360" y="4221000"/>
            <a:ext cx="3203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26028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считать информацию содержащуюся в штрих коде, сканирующее устройство, например, сканер "палочка", двигается через штрих код от одного края к другому. Во время движения устройства через штрих код, ширина штрихов и пробелов анализируется декодером и первоначально закодированные данные восстанавливаются в формате воспринимаемом программным обеспеч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3" descr="barcode-scanner.jpg"/>
          <p:cNvPicPr/>
          <p:nvPr/>
        </p:nvPicPr>
        <p:blipFill>
          <a:blip r:embed="rId1"/>
          <a:stretch/>
        </p:blipFill>
        <p:spPr>
          <a:xfrm>
            <a:off x="5292720" y="476280"/>
            <a:ext cx="3424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рих коды 4 товаров следующ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2098839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иск, цена: 3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600344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щая тетрадь, цена: 3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2419853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нига, цена: 25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1716334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онитор, цена: 75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5-02-25T10:26:38Z</dcterms:modified>
  <cp:revision>19</cp:revision>
  <dc:subject/>
  <dc:title>Слайд 1</dc:title>
</cp:coreProperties>
</file>