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DC43-41B2-4B62-BCE8-41F603C21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4423-71DF-4643-A991-58E5094F3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D99D-AC90-4051-8404-65BB5D767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8532-8431-4FAB-8EA2-91360A731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7F48-F399-4AC7-AB87-58A3EF609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нормативов и выбор объектов нормрования определяются новым пониманием стандарта общего образования, в котором основной акцент переносится с содержания на результаты образования. Поэтому при разработке как Требований стандарта, так и документов, обеспечивающих его  реализацию, должны быть заданы рамки не только для изучаемого учебного материала, но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сновные способы учебных дей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средством которых дети осваивают данный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ми словами, наряду с традиционным вопросом «Чему учить?», по мнению разработчиков, важнейшим становится вопрос «Как учить?» или, точнее, «Как учить так, чтобы инициировать у детей собственные вопросы: 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у мне нужно научиться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“Как мне этому научиться?”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5F2F-37B7-429A-9ED1-405F087A55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D024-03CE-400A-AA59-CBBBD354B5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614-3774-4D7D-9A71-C4DF92D7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D9C-1376-40FD-B990-3A920917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D3A-BC0F-43AD-AFB4-98A08EA5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AAE-189D-42E2-9AA5-6397155F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612-6FD1-44AB-B82F-09FA7A83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A91-10FF-4D45-BF47-12157170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F64-7699-430D-BA23-FF3DE4DC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1D8-1398-4F04-A570-03FB9CA8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E48-129B-4FC1-A60F-60E510E0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B50-803E-41B8-ACA7-D14BF154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E4A-573E-48A7-877E-FD8BC295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2F9-0482-4665-8BD1-D2056CF5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3219-ED0E-4899-86A8-DEE9BFAD9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3340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рок в соответствии с 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7377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.А. Разагатова, МОУ ДПО (ПК) «Центр развития образования г.о. Сама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765000"/>
          <a:ext cx="8229600" cy="5361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8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ость учебно-воспитательной деятельности преподава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овес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-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слыш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гляд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вид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делает са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ость учебно-познавательной деятельности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Line 29"/>
          <p:cNvSpPr/>
          <p:nvPr/>
        </p:nvSpPr>
        <p:spPr>
          <a:xfrm>
            <a:off x="5292720" y="1916280"/>
            <a:ext cx="2158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4"/>
          <p:cNvSpPr/>
          <p:nvPr/>
        </p:nvSpPr>
        <p:spPr>
          <a:xfrm>
            <a:off x="5508720" y="5373720"/>
            <a:ext cx="2158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Аспектный анализ учебного занят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(системы учебных занят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Аспектный анализ (самоанализ) урока (системы уроков) это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етальное и всестороннее рассмотрение его как единого целого под определенным углом зрения (аспектом).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 Выбор аспектов зависит как от аналитической потребности, так и от возникшей практической необходи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Например: методы формирования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УУД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ализ урока в соответствии с ФГОС НО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ь посещения (аспект)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, учитель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личество учащихся в класс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сутствовали на урок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983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дактическая задача урока (краткий оценочный анализ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Соответствие дидактической задачи урока отобранному содержа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Результативность решения дидактической задач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держание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ответствие основного содержания урока содержанию программы и учеб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13800" cy="529272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тоды об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ответствие приемов обучения и учения (методов обучения) решению триединой образовательной це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ы об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Соответствие форм обучения (фронтальная, групповая, индивидуальная, коллективная) решению основной дидактической задачи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Целесообразность использования предложенных заданий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413000"/>
          <a:ext cx="8713800" cy="529272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зультативность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стижение цели и решение основной дидактической задачи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ая направленность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ая направленность вопросов, упражнений и задач, предлагаемых для выполнения школьникам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1413000"/>
          <a:ext cx="8785440" cy="5184720"/>
        </p:xfrm>
        <a:graphic>
          <a:graphicData uri="http://schemas.openxmlformats.org/drawingml/2006/table">
            <a:tbl>
              <a:tblPr/>
              <a:tblGrid>
                <a:gridCol w="4302360"/>
                <a:gridCol w="44830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мостоятельная работа школьников как форма организации учебной деятель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овень </a:t>
                      </a: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сти школьников при решении дидактической задачи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арактер самостоятельной учебной деятельности</a:t>
                      </a: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(репродуктивный, творчес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Взаимопомощь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9280" y="1413000"/>
          <a:ext cx="8785440" cy="5184720"/>
        </p:xfrm>
        <a:graphic>
          <a:graphicData uri="http://schemas.openxmlformats.org/drawingml/2006/table">
            <a:tbl>
              <a:tblPr/>
              <a:tblGrid>
                <a:gridCol w="4302360"/>
                <a:gridCol w="44830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универсальных учебных действий на каждом этапе урока 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личностные, регулятивные, познавательные, коммуникативн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Соответствие содержания зад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Организация деятельности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Виды У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413000"/>
          <a:ext cx="8713800" cy="531180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ИКТ-компетентност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ИКТ на уроке, уровень сформированности ИКТ компетентности учащих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руктура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ответствие структуры урока основной дидактической задач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413000"/>
          <a:ext cx="8713800" cy="528768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едагогический сти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блюдение норм педагогической эт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игиенические требов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пературный режим, проветривание класса, чередование видов деятельности, динамические пау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ждый урок должен быть для наставника задачей, которую он должен выполнять, обдумывая это заранее: на каждом уроке он должен чего-нибудь достигнуть, сделать шаг дальше и заставить весь класс сделать этот ш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ализ урока в соответствии с ФГОС НО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ип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дактическая задач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и урока (образовательная, воспитательная, развивающая)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первичного предъявления нов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формирования первоначальных предмет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применения предмет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обобщения и системат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повт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нтрольн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ррекционн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мбинированн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чебная экску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решения практических, проект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первичного предъявления новых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ервичное усвоение новых предметных знаний, ум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роизведение своими словами правил, понятий, алгоритмов, выполнение действий по образцу, алгоритм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рок формирования первоначальных предмет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511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усваиваемых знаний или способов учебных действий в условиях решения учебных задач (заданий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вильное воспроизведение образцов выполнения заданий, безошибочное применение алгоритмов и правил при решении учебных зада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применения предметных ум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686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предметных умений в условиях решения учебных задач повышенной сложн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е решение задач (выполнение упражнений) повышенной сложности отдельными учениками или коллективом клас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обобщения и системат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стематизация предметных умений, универсальных действий (решение предметных задач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ние сформулировать обобщенный вывод, уровень сформированности УУ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повто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2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4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крепление предметных умений, формирование УУ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ошибочное выполнение упражнений, решение задач отдельными учениками, коллективом класса; безошибочные устные ответы; умение находить и исправлять ошибки, оказывать взаимопомощь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трольный 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оверка предметных умений решать практические зада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зультаты контрольной или самостоятельной работ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ррекционный ур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дивидуальная работа над допущенными ошибка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е нахождение и исправление ошиб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мбинированный ур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шение задач, которые невозможно выполнить в рамках одного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шение поставленных дидактических зада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581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ная педагогическая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рганизация условий, инициирующих детское 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50920" y="0"/>
            <a:ext cx="8604000" cy="75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250920" y="3905280"/>
            <a:ext cx="2879640" cy="2952720"/>
          </a:xfrm>
          <a:prstGeom prst="ellipse">
            <a:avLst/>
          </a:prstGeom>
          <a:solidFill>
            <a:srgbClr val="ffff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Чему 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бразова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6012000" y="3832200"/>
            <a:ext cx="2879640" cy="3025800"/>
          </a:xfrm>
          <a:prstGeom prst="ellipse">
            <a:avLst/>
          </a:prstGeom>
          <a:solidFill>
            <a:srgbClr val="cc99ff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3132000" y="3429000"/>
            <a:ext cx="2880000" cy="3166920"/>
          </a:xfrm>
          <a:prstGeom prst="ellipse">
            <a:avLst/>
          </a:prstGeom>
          <a:solidFill>
            <a:srgbClr val="ccffcc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ahoma"/>
              </a:rPr>
              <a:t>Ради чего учить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324000" y="981000"/>
            <a:ext cx="8820000" cy="9144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звитие личности учащегося на основе осво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ниверсальных способов деятельности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чебная экскурс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600200"/>
          <a:ext cx="8229600" cy="511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посредственное изучение явлений окружающего ми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владение и применение предметных знаний и умений при изучении явлений окружающего мира в реальных жизненных ситуациях; творческое оформление отчет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решения практических, проектны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ая направленность изучения теоретических положен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спользование средств учебного курса в целях изучения окружающего ми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Характеризует конечный результат урока, т.е., что и в какой степени должно измениться, совершенствоваться в области знаний и умений у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628640"/>
          <a:ext cx="8974080" cy="4978440"/>
        </p:xfrm>
        <a:graphic>
          <a:graphicData uri="http://schemas.openxmlformats.org/drawingml/2006/table">
            <a:tbl>
              <a:tblPr/>
              <a:tblGrid>
                <a:gridCol w="4427640"/>
                <a:gridCol w="454644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еспечение осознания и усвоения понятий, законов, правил, алгоритмов, закономер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своение = понимание + запоми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вильное воспроизве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Методы и приемы предъявления нового материала школьник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Формы организации учебной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Методы и приемы оказания индивидуальной помощи учащимся, затрудняющимся в устном воспроизведении терминов, правил, алгоритмов и т.д.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628640"/>
          <a:ext cx="8974080" cy="4624560"/>
        </p:xfrm>
        <a:graphic>
          <a:graphicData uri="http://schemas.openxmlformats.org/drawingml/2006/table">
            <a:tbl>
              <a:tblPr/>
              <a:tblGrid>
                <a:gridCol w="4427640"/>
                <a:gridCol w="4546440"/>
              </a:tblGrid>
              <a:tr h="188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ирований умений применения теоретических положений в условиях решения учебны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владение = усвоение + применение в условиях решения учебных зада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Методы и формы организации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мостоятельной 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чебной деятельности школьни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Методы и приемы оказания индивидуальной помощи учащимся, испытывающим трудности при решении учебных задач со стороны учителя и одноклассников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052640"/>
          <a:ext cx="8974080" cy="5805360"/>
        </p:xfrm>
        <a:graphic>
          <a:graphicData uri="http://schemas.openxmlformats.org/drawingml/2006/table">
            <a:tbl>
              <a:tblPr/>
              <a:tblGrid>
                <a:gridCol w="4427640"/>
                <a:gridCol w="4546440"/>
              </a:tblGrid>
              <a:tr h="181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ирование УУД в условиях решения учебных задач (познавательная деятельность, речевая деятельность и работа с источником информации, организационная деятельно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Приемы обучения учащихся работе с источниками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Формы организации учебной деятельности школьников (фронтальная, парная, группов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Приемы индивидуальной помощи учащимся со стороны учителя и одноклассников непосредственные и опосредованные с помощью пособ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197000"/>
          <a:ext cx="8723160" cy="5510160"/>
        </p:xfrm>
        <a:graphic>
          <a:graphicData uri="http://schemas.openxmlformats.org/drawingml/2006/table">
            <a:tbl>
              <a:tblPr/>
              <a:tblGrid>
                <a:gridCol w="4303440"/>
                <a:gridCol w="4419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ирование УУД в условиях решения практических зада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использования средств учебного предмета в целях изучения окружающего ми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1197000"/>
          <a:ext cx="8723160" cy="5510160"/>
        </p:xfrm>
        <a:graphic>
          <a:graphicData uri="http://schemas.openxmlformats.org/drawingml/2006/table">
            <a:tbl>
              <a:tblPr/>
              <a:tblGrid>
                <a:gridCol w="4303440"/>
                <a:gridCol w="4419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вторение (обобщение или систематизация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Объем содержания обобщения и систематизации (отдельные темы, глава, и т.д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Методы повторения (обобщение, систематизация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197000"/>
          <a:ext cx="8723160" cy="5510160"/>
        </p:xfrm>
        <a:graphic>
          <a:graphicData uri="http://schemas.openxmlformats.org/drawingml/2006/table">
            <a:tbl>
              <a:tblPr/>
              <a:tblGrid>
                <a:gridCol w="4303440"/>
                <a:gridCol w="4419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нтроль за степенью усвоения учебного материала и сформированностью предметных, метапредметных ум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зультаты вы выполнения контрольных работ, в том числе интегрирован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разовательна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относится с темой и содержанием урока, его дидактической зада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питательная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– формирование личностных УУД, через содержание учебного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вивающая –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тие познавательных (интеллекта), коммуникативных, регулятивных (воли) УУ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Учебная деятельность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самостоятельная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ятельность ученика по усвоению знаний, умений и навыков, в которой он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изменяется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и эти изменения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осозн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9674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6934320" y="4343400"/>
            <a:ext cx="1990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онные формы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ронтальная форма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рупповая (парная) форма обучения; группы сменного сост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дивидуальная форма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ллективная форма организации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ронтальная форм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600200"/>
          <a:ext cx="8964720" cy="4541760"/>
        </p:xfrm>
        <a:graphic>
          <a:graphicData uri="http://schemas.openxmlformats.org/drawingml/2006/table">
            <a:tbl>
              <a:tblPr/>
              <a:tblGrid>
                <a:gridCol w="4284720"/>
                <a:gridCol w="468000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овесная и наглядная передача учебной информации одновременно всем учащимся, обмен информацией между учителем и деть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оизвольное внимание учащихся в процессе объяснения учителя, фронтального опроса; корректирующая информация со стороны учителя, правильные ответы дет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рупповая (парная) форм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1600200"/>
          <a:ext cx="8964720" cy="4541760"/>
        </p:xfrm>
        <a:graphic>
          <a:graphicData uri="http://schemas.openxmlformats.org/drawingml/2006/table">
            <a:tbl>
              <a:tblPr/>
              <a:tblGrid>
                <a:gridCol w="4284720"/>
                <a:gridCol w="468000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рганизация парной работы или выполнение дифференцированных заданий группой школьни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чебное сотрудничество (умение договариваться, распределять работу, оценивать свой вклад в результат общей деятельности); соревнование между группа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ндивидуальная форм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197000"/>
          <a:ext cx="8964720" cy="5095800"/>
        </p:xfrm>
        <a:graphic>
          <a:graphicData uri="http://schemas.openxmlformats.org/drawingml/2006/table">
            <a:tbl>
              <a:tblPr/>
              <a:tblGrid>
                <a:gridCol w="4284720"/>
                <a:gridCol w="4680000"/>
              </a:tblGrid>
              <a:tr h="11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бота с учебником, выполнение самостоятельных или контрольных заданий, устный ответ у доски, индивидуальное сообщение новой для класса информации (доклад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епень самостоятельности при работе с учебником, при выполнении самостоятельных работ, при устном сообщении; результативность индивидуальной помощи со стороны учителя или учащихся; опосредованное оказание индивидуальной помощи через источники информ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лективная форма организации обучения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197000"/>
          <a:ext cx="8785440" cy="3814560"/>
        </p:xfrm>
        <a:graphic>
          <a:graphicData uri="http://schemas.openxmlformats.org/drawingml/2006/table">
            <a:tbl>
              <a:tblPr/>
              <a:tblGrid>
                <a:gridCol w="4105440"/>
                <a:gridCol w="468000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астичная или полная передача организации учебного занятия учащимся клас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здание условий, при которых учащиеся самостоятельно организуют и проводят фрагменты уроков или весь ур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рганизационный момен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ветствие учителя, подготовка рабочих мес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1600200"/>
          <a:ext cx="8785440" cy="491508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6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становка цели урока в начале или в процессе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улировка цели учителем или детьми и способы фиксации цели урока. Приемы обучения, демонстрирующие недостаточность имеющихся знаний, несформированность УУД, 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600200"/>
          <a:ext cx="8785440" cy="497664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ктуализация знаний, УУД в начале урока или в процессе его по мере необходим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повторения системы опорных понятий или ранее усвоенных учебных действий, необходимых и достаточных для восприятия нового материала школьник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1600200"/>
          <a:ext cx="8785440" cy="467208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ервичное восприятие и усвоение нового теоретического учебного материала (правил, понятий, алгоритмов…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привлечения внимания детей к принципиально новым сведениям, приемы первичного закрепления (выражаются в речи дете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00200"/>
          <a:ext cx="8785440" cy="497664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теоретических положений в условиях выполнения упражнений и решения зада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роизведение учащимися способов решений задач, выполнение упражнений по образцу, применение грамматических правил при написании слов, предлож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Учебная задача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- цель, которую перед собой ставит уче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19320" y="2514600"/>
            <a:ext cx="2741400" cy="400068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3657600" y="2590920"/>
            <a:ext cx="5105520" cy="1218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Чему? Зач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1600200"/>
          <a:ext cx="8785440" cy="452592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е творческое использование сформированных умений и навы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шение учебных задач повышенной трудности или практическ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1600200"/>
          <a:ext cx="8785440" cy="452592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намическая пауз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сновные приемы динамической пау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1600200"/>
          <a:ext cx="8785440" cy="454968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общение усвоенного и включение его в систему ранее усвоенных ЗУНов и УУ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спользование нового содержания совместно с ранее изученным в условиях фронтального опроса, беседы, при решении задач и выполнении упраж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1413000"/>
          <a:ext cx="8785440" cy="543564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2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флексия деятельн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дведение итогов совместной и индивидуальной деятельности учеников (новое содержание, изученное на уроке и оценка личного вклада в совместную учебную деятельность), достижение поставленной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79280" y="1413000"/>
          <a:ext cx="8785440" cy="5435640"/>
        </p:xfrm>
        <a:graphic>
          <a:graphicData uri="http://schemas.openxmlformats.org/drawingml/2006/table">
            <a:tbl>
              <a:tblPr/>
              <a:tblGrid>
                <a:gridCol w="4032360"/>
                <a:gridCol w="475308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2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нтроль за процессом и результатом учебной деятельности школьни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учение способам контроля и самооценки деятельности. Умение учащихся самостоятельно находить и исправлять ошибки, определять степень успеш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оявляется в устных высказываниях детей и в результатах письменных работ. 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язь универсальных учебных действи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содержанием учеб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2560" y="11426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 ступени начального общего образования имеет особое значение обеспечение при организации учебного процесса сбалансированного развития у обучающихся логического, наглядно-образного и знаково-символи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ждый учебный предмет в зависимости от предметного содержания и способов организации учебной деятельности обучающихся раскрывает определённые возможности для формирования 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еспечивают формирование познавательных, коммуникативных и регулятивных действ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бота с текстом открывает возможности для формирования логических действий анализа, сравнения, установления причинно-следственных связ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риентация в морфологической и синтаксической структуре языка и усвоение правил строения слова и предложения, графической формы букв обеспечивает развитие знаково-символических действий – замещения (например, звука буквой), моделирования (например, состава слова путём составления схемы) и преобразования модели (видоизменения сло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учение русского языка создаёт условия для формирования «языкового чутья» как результата ориентировки ребёнка в грамматической и синтаксической структуре родного языка и обеспечивает успешное развитие адекватных возрасту форм и функций речи, включая обобщающую и планирующую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еспечивают формирование всех видов УУД личностных познавательных, коммуникативных и регулятивных действий (с приоритетом развития ценностно-смысловой сферы  и коммуникац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мыслообразование через прослеживание судьбы героя и ориентацию учащегося в системе личностных смыс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определение и самопознания на основе сравнения образа «Я» с героями литературных произведений посредством эмоционально-действенной идент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ы гражданской идентичности путём знакомства с героическим историческим прошлым своего народа и своей страны и переживания гордости и эмоциональной сопричастности подвигам и достижениям её гражд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стетических ценностей и на их основе эстетических критерие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равственно-этического оценивания через выявление морального содержания и нравственного значения действий персонаж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моционально-личностной децентрации на основе отождествления себя с героями произведения, соотнесения и сопоставления их позиций, взглядов и мн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понимать контекстную речь на основе воссоздания картины событий и поступков персонаж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произвольно и выразительно строить контекстную речь с учётом целей коммуникации, особенностей слушателя, в том числе используя аудиовизуальные сре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устанавливать логическую причинно-следственную последовательность событий и действий героев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строить план с выделением существенной и дополнитель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а развития у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знавательных 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первую очер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огиче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горитмиче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ключа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наково-символ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ланирование (последовательности действий по решению задач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истематизацию и структурирование знаний, перевод с одного языка на друг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делиров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ифференциация существенных и несущественных условий, аксиомати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ормирование элементов системного мышления и приобретение основ информационной грамот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обое значение имеет математика для формирования общего приёма решения задач как универсального учебного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Учебное действ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- система существенных признаков понятия или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124080"/>
            <a:ext cx="2244600" cy="3276720"/>
          </a:xfrm>
          <a:prstGeom prst="rect">
            <a:avLst/>
          </a:prstGeom>
          <a:ln w="0">
            <a:noFill/>
          </a:ln>
        </p:spPr>
      </p:pic>
      <p:sp>
        <p:nvSpPr>
          <p:cNvPr id="66" name="Oval 4"/>
          <p:cNvSpPr/>
          <p:nvPr/>
        </p:nvSpPr>
        <p:spPr>
          <a:xfrm>
            <a:off x="3886200" y="3429000"/>
            <a:ext cx="4800600" cy="800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К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чащийся должен осваивать системы социально принятых знаков и символов, существующих в современной культуре и необходимых как для обучения, так и для его социализаци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еспечивает формирование у обучающихся целостной научной картины природного и социокультурного мира, отношений человека с природой, обществом, другими людьми, государством, осознания своего места в обществе, создавая основу становления мировоззрения, жизненного самоопределения и формирования российской гражданской идентичност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различать государственную символику Российской Федерации и своего региона, описывать достопримечательности столицы и родного края, находить на карте Российскую Федерацию, Москву – столицу России, свой регион и его столицу; ознакомление с особенностями некоторых зарубежных стр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основ исторической памяти – умения различать в историческом времени прошлое, настоящее, будущее, ориентации в основных исторических событиях своего народа и России и ощущения чувства гордости за славу и достижения своего народа и России, фиксировать в информационной среде элементы истории семьи, своего реги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основ экологического сознания, грамотности и культуры учащихся, освоение элементарных норм адекватного природосообразного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звитие морально-этического сознания – норм и правил взаимоотношений человека с другими людьми, социальными группами и сообще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фере личностных универсальных учебных действий изучение предмета способствует принятию обучающимися правил здорового образа жизни, пониманию необходимости здорового образа жизни в интересах укрепления физического, психического и психологического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знаватель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владение начальными формами исследовательской деятельности, включая умения поиска и работы с информацией, в том числе с использованием различных средств И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действий замещения и моделирования (использования готовых моделей для объяснения явлений или выявления свойств объектов и создания моделей, в том числе в интерактивной сред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логических действий сравнения, подведения под понятия, аналогии, классификации объектов живой и неживой природы на основе внешних признаков или известных характерных свойст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становление причинно-следственных связей в окружающем мире, в том числе на многообразном материале природы и культуры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традиционный урок – делается в новой необычной фор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шибка, когда форма начинает превалировать над содерж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Эти уроки развлекают, забавляют, возбуждают, изумляют. Но хорошо бы не забывать, что урок, ну хоть немножечко должен еще и обучать» - Ю.К. Баба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традиционные ти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сорев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 взаим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тегрированный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определяет выбор  уро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ип 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труктур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сход времени на различных типах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мерная форма план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кущее время урока, этап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йствия 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йствия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дактические требования к у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кое формулирование образовательных задач, связь с развивающими и воспитательными задачами, место в общей системе ур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ределение содержания урока в соответствии с требованием учебной программы, целями урока, уровнем подготовк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нозирование уровня усвоения знаний, сформированности умений 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бор наиболее рациональных методов, приемов и средств обучения, стимулирования и контроля, обеспечивающий познавательную активность, сочетание различных форм коллективной и индивидуальной работы, максимальную самостоятельность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условий успешного 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ологические требования 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тношение нагрузки н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мять и мышле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ределение объема воспроизводящей и творческ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четание усвоений знаний в готовом виде и в процессе самостоятельного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чет контроля, анализа оценки деятельности школьников, осуществляемых учителем, и взаимной критической оценки, самоконтроля и самоана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тношение побуждения к деятельности и поб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Самоконтроль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- определение правильности выполненного действ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95280" y="2514600"/>
            <a:ext cx="274176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Oval 4"/>
          <p:cNvSpPr/>
          <p:nvPr/>
        </p:nvSpPr>
        <p:spPr>
          <a:xfrm>
            <a:off x="3807000" y="2857680"/>
            <a:ext cx="4803480" cy="1028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Правиль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познавательной деятельности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путей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приятия учениками изучаемых объектов и явлений, их осмы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 установок в форме убеждения, вн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устойчивого внимания и сосредоточ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 различных форм работы для актуализации в памяти ранее усвоенных знаний и умений, необходимых для восприятия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приемов и форм работы, обеспечивающих активность и самостоятельность мышл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упреждение механического переноса умений и навыков на новые услови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ет возрастных особ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урока в соответствии с индивидуальными и возрастными особенностям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ведение урока с учетом сильных и слабых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фференцированный подход к сильным и слабым учащи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игиеническ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емпературный 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ветр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св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едупреждение утомления и пере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редование видов деятельности (слушание, счет, письмо, практ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оевременное и качественное проведение физмину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блюдение правильной рабочей п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бования к технике проведен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ок должен быть эмоциональным, вызывать интерес, воспитывать познавательную потре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мп и ритм должны быть оптимальными, действия заверш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минирование атмосферы доброжелательности и активного творческого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мена видов деятельности учащихся, сочетание различных методов и приемов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блюдение единого орфографического реж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еспечение активного учения каждого 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емление учителя самостоятельно планировать у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ние принципов дидактики, их иерархии, взаимосвязей и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чное и одновременно творческое выполнение программно-методических требований к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ние типологи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 игровой формы, когда это служит лучшему выполнению образовательных целей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чет обученности, обучаемости, учебных и воспитательных возможностей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улировка, кроме темы урока так называемого «имени уро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воспитательной функции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мплексное планирование задач урока (стр. 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деление в содержание материала объекта прочного усвоения и отработка на уроке именно э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думывание хотя бы для себя ценностных оснований выбора содержания и трактовки учебного материала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мощь детям в раскрытии личностного смысла изучаем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ора на межпредметные связи с целью их использования для формирования у учащихся целостного представления о системе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ктическая направленность учеб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ключение в содержание урока упражнений творческ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бор оптимального сочетания и соотношения метод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ние разных технологий развивающего обучения и их только дифференцированное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четание общеклассных форм работы с групповыми и индивидуа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уществление дифференцированного подхода к учащимся только на основе диагностики их реальных учебных дост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ирование надпредметных способов учебной деятельности (например анализирование от предмета к явлению, процессу, понят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бота по мотивации учебной деятельности  - формирование мотивации п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условий для проявления самосто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циональное использование средств обучения (учебников, пособий, технически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ключение компьютеров в педагогические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ифференциация домашни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ние и применение психосберегающих, здоровьесберегающих и здоровьеразвивающи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еспечение благоприятных гигиенических уч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еспечение эстетических усл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щение -  сочетание требовательности и уважения к личности уча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мидж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отношение рационального и эмоционального в работе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спользование артистических умений, педагогической техники и исполнительск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кое следование замыслу урока и готовность гибко перестраивать его ход при изменении учеб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гулярный анализ полученных на урока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ценка и самооценка работы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Самооценка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- определение степени соответствия эталону или качества выполненного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1600" y="3124080"/>
            <a:ext cx="235116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Oval 4"/>
          <p:cNvSpPr/>
          <p:nvPr/>
        </p:nvSpPr>
        <p:spPr>
          <a:xfrm>
            <a:off x="3733920" y="3429000"/>
            <a:ext cx="4686120" cy="213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Хорош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Можно лучш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>
            <a:hlinkClick r:id="rId2" action="ppaction://hlinksldjump"/>
          </p:cNvPr>
          <p:cNvSpPr/>
          <p:nvPr/>
        </p:nvSpPr>
        <p:spPr>
          <a:xfrm>
            <a:off x="7924680" y="63244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28760" y="-4608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«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Эффективный» способ использования информативного источника знаний невозможен при реализации нов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457200" y="1674720"/>
            <a:ext cx="8226360" cy="4373640"/>
            <a:chOff x="457200" y="1674720"/>
            <a:chExt cx="8226360" cy="4373640"/>
          </a:xfrm>
        </p:grpSpPr>
        <p:pic>
          <p:nvPicPr>
            <p:cNvPr id="7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1674720"/>
              <a:ext cx="8226360" cy="43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5"/>
            <p:cNvSpPr/>
            <p:nvPr/>
          </p:nvSpPr>
          <p:spPr>
            <a:xfrm>
              <a:off x="457200" y="1674720"/>
              <a:ext cx="8226360" cy="43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22:07:28Z</dcterms:created>
  <dc:creator>Пользователь</dc:creator>
  <dc:description/>
  <dc:language>en-US</dc:language>
  <cp:lastModifiedBy>пользователь</cp:lastModifiedBy>
  <dcterms:modified xsi:type="dcterms:W3CDTF">2013-02-13T07:16:16Z</dcterms:modified>
  <cp:revision>28</cp:revision>
  <dc:subject/>
  <dc:title>Урок в соответствии с ФГОС</dc:title>
</cp:coreProperties>
</file>