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A3D2-3D55-47A4-9F64-62949DE3CF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7BA2-A580-4939-9F5B-2F4EADF953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2185-5B09-4264-BAD0-079286634D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2F27-0071-46EE-95CB-22E79D5364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C4A3-423A-4A30-BA8D-B565D1C3BB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системы нормативов и выбор объектов нормрования определяются новым пониманием стандарта общего образования, в котором основной акцент переносится с содержания на результаты образования. Поэтому при разработке как Требований стандарта, так и документов, обеспечивающих его  реализацию, должны быть заданы рамки не только для изучаемого учебного материала, но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сновные способы учебных действ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осредством которых дети осваивают данный учебный матери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ыми словами, наряду с традиционным вопросом «Чему учить?», по мнению разработчиков, важнейшим становится вопрос «Как учить?» или, точнее, «Как учить так, чтобы инициировать у детей собственные вопросы: “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му мне нужно научиться?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”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“Как мне этому научиться?”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6F13-6D9C-4959-ACA9-C7650BD603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6F5C-7DDA-473B-BAC7-8E4CD55A57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3BB6-C09E-49CD-8B56-B03D5BE7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EDD0-AF46-4E02-91FA-EFE2D082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786D-F225-4B08-8BDF-7B48C2B5C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752B-5492-4596-BEA2-11A318FAE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161E-064A-4839-8799-B7142117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62D6-2501-40B0-8AC7-EDB57994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0078-D4CF-4EA3-8E43-1D9981CE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07F0-297D-4A37-8279-7F6995E8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40E9-4434-434E-97E7-59818C0B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086E-9000-4C77-A6C6-CEE166B6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856A-03F1-4AA5-BD5F-50A79795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F56A-33ED-4672-8B6B-BAFB7FB4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0199-E3F5-4B73-9BB7-5991389878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3340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рок в соответствии с ФГ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737712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Н.А. Разагатова, МОУ ДПО (ПК) «Центр развития образования г.о. Самар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765000"/>
          <a:ext cx="8229600" cy="5361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785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ффективность учебно-воспитательной деятельности преподавате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8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ловес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%-2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слыш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агляд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вид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актическ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делает сам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5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ффективность учебно-познавательной деятельности учащих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" name="Line 29"/>
          <p:cNvSpPr/>
          <p:nvPr/>
        </p:nvSpPr>
        <p:spPr>
          <a:xfrm>
            <a:off x="5292720" y="1916280"/>
            <a:ext cx="21589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4"/>
          <p:cNvSpPr/>
          <p:nvPr/>
        </p:nvSpPr>
        <p:spPr>
          <a:xfrm>
            <a:off x="5508720" y="5373720"/>
            <a:ext cx="21589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Аспектный анализ учебного занят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(системы учебных занят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alibri"/>
                <a:ea typeface="Lucida Sans Unicode"/>
              </a:rPr>
              <a:t>Аспектный анализ (самоанализ) урока (системы уроков) это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детальное и всестороннее рассмотрение его как единого целого под определенным углом зрения (аспектом).</a:t>
            </a:r>
            <a:r>
              <a:rPr b="0" lang="ru-RU" sz="2800" spc="-1" strike="noStrike">
                <a:solidFill>
                  <a:srgbClr val="333399"/>
                </a:solidFill>
                <a:latin typeface="Calibri"/>
                <a:ea typeface="Lucida Sans Unicode"/>
              </a:rPr>
              <a:t> Выбор аспектов зависит как от аналитической потребности, так и от возникшей практической необходим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alibri"/>
                <a:ea typeface="Lucida Sans Unicode"/>
              </a:rPr>
              <a:t>Например: методы формирования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УУД</a:t>
            </a:r>
            <a:r>
              <a:rPr b="0" lang="ru-RU" sz="2800" spc="-1" strike="noStrike">
                <a:solidFill>
                  <a:srgbClr val="333399"/>
                </a:solidFill>
                <a:latin typeface="Calibri"/>
                <a:ea typeface="Lucida Sans Unicode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нализ урока в соответствии с ФГОС НО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Цель посещения (аспект)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ат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ласс, учитель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оличество учащихся в класс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исутствовали на уроке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едущие аспекты анализа уро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229600" cy="4983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0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дущие аспекты анализа уро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идактическая задача урока (краткий оценочный анализ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Соответствие дидактической задачи урока отобранному содержани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Результативность решения дидактической задач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одержание уро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оответствие основного содержания урока содержанию программы и учебни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00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едущие аспекты анализа уро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413000"/>
          <a:ext cx="8713800" cy="5292720"/>
        </p:xfrm>
        <a:graphic>
          <a:graphicData uri="http://schemas.openxmlformats.org/drawingml/2006/table">
            <a:tbl>
              <a:tblPr/>
              <a:tblGrid>
                <a:gridCol w="4267440"/>
                <a:gridCol w="4446360"/>
              </a:tblGrid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дущие аспекты анализа уро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04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Методы обуч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оответствие приемов обучения и учения (методов обучения) решению триединой образовательной цел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ормы обуч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 Соответствие форм обучения (фронтальная, групповая, индивидуальная, коллективная) решению основной дидактической задачи уро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 Целесообразность использования предложенных заданий</a:t>
                      </a: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00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едущие аспекты анализа уро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9280" y="1413000"/>
          <a:ext cx="8713800" cy="5292720"/>
        </p:xfrm>
        <a:graphic>
          <a:graphicData uri="http://schemas.openxmlformats.org/drawingml/2006/table">
            <a:tbl>
              <a:tblPr/>
              <a:tblGrid>
                <a:gridCol w="4267440"/>
                <a:gridCol w="4446360"/>
              </a:tblGrid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дущие аспекты анализа уро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04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езультативность уро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остижение цели и решение основной дидактической задачи уро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актическая направленность уро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актическая направленность вопросов, упражнений и задач, предлагаемых для выполнения школьникам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00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едущие аспекты анализа уро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79280" y="1413000"/>
          <a:ext cx="8785440" cy="5184720"/>
        </p:xfrm>
        <a:graphic>
          <a:graphicData uri="http://schemas.openxmlformats.org/drawingml/2006/table">
            <a:tbl>
              <a:tblPr/>
              <a:tblGrid>
                <a:gridCol w="4302360"/>
                <a:gridCol w="4483080"/>
              </a:tblGrid>
              <a:tr h="15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дущие аспекты анализа уро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6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мостоятельная работа школьников как форма организации учебной деятельности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ровень </a:t>
                      </a: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амостоятельности школьников при решении дидактической задачи ур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 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Характер самостоятельной учебной деятельности</a:t>
                      </a: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(репродуктивный, творчески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. Взаимопомощь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00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едущие аспекты анализа уро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79280" y="1413000"/>
          <a:ext cx="8785440" cy="5184720"/>
        </p:xfrm>
        <a:graphic>
          <a:graphicData uri="http://schemas.openxmlformats.org/drawingml/2006/table">
            <a:tbl>
              <a:tblPr/>
              <a:tblGrid>
                <a:gridCol w="4302360"/>
                <a:gridCol w="4483080"/>
              </a:tblGrid>
              <a:tr h="15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дущие аспекты анализа уро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6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Формирование универсальных учебных действий на каждом этапе урока 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личностные, регулятивные, познавательные, коммуникативные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 Соответствие содержания зада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 Организация деятельности учащих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. Виды УУ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00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едущие аспекты анализа уро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9280" y="1413000"/>
          <a:ext cx="8713800" cy="5311800"/>
        </p:xfrm>
        <a:graphic>
          <a:graphicData uri="http://schemas.openxmlformats.org/drawingml/2006/table">
            <a:tbl>
              <a:tblPr/>
              <a:tblGrid>
                <a:gridCol w="4267440"/>
                <a:gridCol w="4446360"/>
              </a:tblGrid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дущие аспекты анализа уро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Формирование ИКТ-компетентност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менение ИКТ на уроке, уровень сформированности ИКТ компетентности учащихс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труктура уро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оответствие структуры урока основной дидактической задач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00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едущие аспекты анализа уро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9280" y="1413000"/>
          <a:ext cx="8713800" cy="5287680"/>
        </p:xfrm>
        <a:graphic>
          <a:graphicData uri="http://schemas.openxmlformats.org/drawingml/2006/table">
            <a:tbl>
              <a:tblPr/>
              <a:tblGrid>
                <a:gridCol w="4267440"/>
                <a:gridCol w="4446360"/>
              </a:tblGrid>
              <a:tr h="102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дущие аспекты анализа уро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04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едагогический стил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облюдение норм педагогической этик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Гигиенические требова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пературный режим, проветривание класса, чередование видов деятельности, динамические пауз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ждый урок должен быть для наставника задачей, которую он должен выполнять, обдумывая это заранее: на каждом уроке он должен чего-нибудь достигнуть, сделать шаг дальше и заставить весь класс сделать этот ша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733720"/>
            <a:ext cx="8229600" cy="3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. Д. Уш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нализ урока в соответствии с ФГОС НО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ема уро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ип уро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идактическая задача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Цели урока (образовательная, воспитательная, развивающая)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ип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Урок первичного предъявления новых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Урок формирования первоначальных предметных ум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Урок применения предметных ум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Урок обобщения и системат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Урок повтор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онтрольный у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оррекционный у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омбинированный у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Учебная экскур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Урок решения практических, проектных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рок первичного предъявления новых зн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229600" cy="4486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ивность об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3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ервичное усвоение новых предметных знаний, ум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оспроизведение своими словами правил, понятий, алгоритмов, выполнение действий по образцу, алгоритм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рок формирования первоначальных предметных ум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600200"/>
          <a:ext cx="8229600" cy="5113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8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ивность об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менение усваиваемых знаний или способов учебных действий в условиях решения учебных задач (заданий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авильное воспроизведение образцов выполнения заданий, безошибочное применение алгоритмов и правил при решении учебных зада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рок применения предметных ум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686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7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ивность об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менение предметных умений в условиях решения учебных задач повышенной сложност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амостоятельное решение задач (выполнение упражнений) повышенной сложности отдельными учениками или коллективом класс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рок обобщения и систематиз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600200"/>
          <a:ext cx="8229600" cy="4486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ивность об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3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истематизация предметных умений, универсальных действий (решение предметных задач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мение сформулировать обобщенный вывод, уровень сформированности УУД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рок повтор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600200"/>
          <a:ext cx="8229600" cy="4626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ивность об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4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акрепление предметных умений, формирование УУД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езошибочное выполнение упражнений, решение задач отдельными учениками, коллективом класса; безошибочные устные ответы; умение находить и исправлять ошибки, оказывать взаимопомощь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нтрольный ур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600200"/>
          <a:ext cx="8229600" cy="4486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ивность об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3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оверка предметных умений решать практические задач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езультаты контрольной или самостоятельной работ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ррекционный уро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229600" cy="4486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ивность об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3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Индивидуальная работа над допущенными ошибкам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амостоятельное нахождение и исправление ошибо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мбинированный уро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600200"/>
          <a:ext cx="8229600" cy="4486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ивность об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3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ешение задач, которые невозможно выполнить в рамках одного уро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ешение поставленных дидактических зада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920" y="2276640"/>
            <a:ext cx="8642160" cy="4581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ff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Основная педагогическая задач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организация условий, инициирующих детское дей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50920" y="0"/>
            <a:ext cx="8604000" cy="757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истемно-деятельностный подх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5"/>
          <p:cNvSpPr/>
          <p:nvPr/>
        </p:nvSpPr>
        <p:spPr>
          <a:xfrm>
            <a:off x="250920" y="3905280"/>
            <a:ext cx="2879640" cy="2952720"/>
          </a:xfrm>
          <a:prstGeom prst="ellipse">
            <a:avLst/>
          </a:prstGeom>
          <a:solidFill>
            <a:srgbClr val="ffff00"/>
          </a:solidFill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ahoma"/>
              </a:rPr>
              <a:t>Чему уч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одерж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образования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6"/>
          <p:cNvSpPr/>
          <p:nvPr/>
        </p:nvSpPr>
        <p:spPr>
          <a:xfrm>
            <a:off x="6012000" y="3832200"/>
            <a:ext cx="2879640" cy="3025800"/>
          </a:xfrm>
          <a:prstGeom prst="ellipse">
            <a:avLst/>
          </a:prstGeom>
          <a:solidFill>
            <a:srgbClr val="cc99ff"/>
          </a:solidFill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Tahoma"/>
              </a:rPr>
              <a:t>Как уч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технолог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5"/>
          <p:cNvSpPr/>
          <p:nvPr/>
        </p:nvSpPr>
        <p:spPr>
          <a:xfrm>
            <a:off x="3132000" y="3429000"/>
            <a:ext cx="2880000" cy="3166920"/>
          </a:xfrm>
          <a:prstGeom prst="ellipse">
            <a:avLst/>
          </a:prstGeom>
          <a:solidFill>
            <a:srgbClr val="ccffcc"/>
          </a:solidFill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ahoma"/>
              </a:rPr>
              <a:t>Ради чего учить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ahoma"/>
              </a:rPr>
              <a:t>Це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ahoma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7"/>
          <p:cNvSpPr/>
          <p:nvPr/>
        </p:nvSpPr>
        <p:spPr>
          <a:xfrm>
            <a:off x="324000" y="981000"/>
            <a:ext cx="8820000" cy="91440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азвитие личности учащегося на основе осво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универсальных способов деятельности.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чебная экскурсия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" y="1600200"/>
          <a:ext cx="8229600" cy="5113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8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ивность об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посредственное изучение явлений окружающего мир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владение и применение предметных знаний и умений при изучении явлений окружающего мира в реальных жизненных ситуациях; творческое оформление отчет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рок решения практических, проектных зада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600200"/>
          <a:ext cx="8229600" cy="4486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ивность об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3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актическая направленность изучения теоретических положени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Использование средств учебного курса в целях изучения окружающего мир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идактическая задача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Характеризует конечный результат урока, т.е., что и в какой степени должно измениться, совершенствоваться в области знаний и умений у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идактическая задача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1628640"/>
          <a:ext cx="8974080" cy="4978440"/>
        </p:xfrm>
        <a:graphic>
          <a:graphicData uri="http://schemas.openxmlformats.org/drawingml/2006/table">
            <a:tbl>
              <a:tblPr/>
              <a:tblGrid>
                <a:gridCol w="4427640"/>
                <a:gridCol w="4546440"/>
              </a:tblGrid>
              <a:tr h="186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дидактические (обучающие) задачи урок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1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беспечение осознания и усвоения понятий, законов, правил, алгоритмов, закономернос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своение = понимание + запомин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авильное воспроизвед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Методы и приемы предъявления нового материала школьника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Формы организации учебной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. Методы и приемы оказания индивидуальной помощи учащимся, затрудняющимся в устном воспроизведении терминов, правил, алгоритмов и т.д.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идактическая задача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1628640"/>
          <a:ext cx="8974080" cy="4624560"/>
        </p:xfrm>
        <a:graphic>
          <a:graphicData uri="http://schemas.openxmlformats.org/drawingml/2006/table">
            <a:tbl>
              <a:tblPr/>
              <a:tblGrid>
                <a:gridCol w="4427640"/>
                <a:gridCol w="4546440"/>
              </a:tblGrid>
              <a:tr h="188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дидактические (обучающие) задачи урок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74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ормирований умений применения теоретических положений в условиях решения учебных зада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владение = усвоение + применение в условиях решения учебных зада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Методы и формы организации 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мостоятельной </a:t>
                      </a: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чебной деятельности школьник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Методы и приемы оказания индивидуальной помощи учащимся, испытывающим трудности при решении учебных задач со стороны учителя и одноклассников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идактическая задача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0" y="1052640"/>
          <a:ext cx="8974080" cy="5805360"/>
        </p:xfrm>
        <a:graphic>
          <a:graphicData uri="http://schemas.openxmlformats.org/drawingml/2006/table">
            <a:tbl>
              <a:tblPr/>
              <a:tblGrid>
                <a:gridCol w="4427640"/>
                <a:gridCol w="4546440"/>
              </a:tblGrid>
              <a:tr h="181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дидактические (обучающие) задачи урок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98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ормирование УУД в условиях решения учебных задач (познавательная деятельность, речевая деятельность и работа с источником информации, организационная деятельнос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Приемы обучения учащихся работе с источниками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Формы организации учебной деятельности школьников (фронтальная, парная, группов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.Приемы индивидуальной помощи учащимся со стороны учителя и одноклассников непосредственные и опосредованные с помощью пособий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идактическая задача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50920" y="1197000"/>
          <a:ext cx="8723160" cy="5510160"/>
        </p:xfrm>
        <a:graphic>
          <a:graphicData uri="http://schemas.openxmlformats.org/drawingml/2006/table">
            <a:tbl>
              <a:tblPr/>
              <a:tblGrid>
                <a:gridCol w="4303440"/>
                <a:gridCol w="44197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дидактические (обучающие) задачи урок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7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ормирование УУД в условиях решения практических зада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емы использования средств учебного предмета в целях изучения окружающего мир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идактическая задача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50920" y="1197000"/>
          <a:ext cx="8723160" cy="5510160"/>
        </p:xfrm>
        <a:graphic>
          <a:graphicData uri="http://schemas.openxmlformats.org/drawingml/2006/table">
            <a:tbl>
              <a:tblPr/>
              <a:tblGrid>
                <a:gridCol w="4303440"/>
                <a:gridCol w="44197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дидактические (обучающие) задачи урок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7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овторение (обобщение или систематизация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Объем содержания обобщения и систематизации (отдельные темы, глава, и т.д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Методы повторения (обобщение, систематизация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идактическая задача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50920" y="1197000"/>
          <a:ext cx="8723160" cy="5510160"/>
        </p:xfrm>
        <a:graphic>
          <a:graphicData uri="http://schemas.openxmlformats.org/drawingml/2006/table">
            <a:tbl>
              <a:tblPr/>
              <a:tblGrid>
                <a:gridCol w="4303440"/>
                <a:gridCol w="44197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дидактические (обучающие) задачи урок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7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онтроль за степенью усвоения учебного материала и сформированностью предметных, метапредметных ум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езультаты вы выполнения контрольных работ, в том числе интегрированн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бразовательная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-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оотносится с темой и содержанием урока, его дидактической задач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оспитательная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– формирование личностных УУД, через содержание учебного материа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звивающая –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азвитие познавательных (интеллекта), коммуникативных, регулятивных (воли) УУД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Учебная деятельность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Tahoma"/>
              </a:rPr>
              <a:t>самостоятельная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деятельность ученика по усвоению знаний, умений и навыков, в которой он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Tahoma"/>
              </a:rPr>
              <a:t>изменяется</a:t>
            </a: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 и эти изменения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Tahoma"/>
              </a:rPr>
              <a:t>осозна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j0396742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6934320" y="4343400"/>
            <a:ext cx="19904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рганизационные формы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Фронтальная форма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Групповая (парная) форма обучения; группы сменного сост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ндивидуальная форма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оллективная форма организации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ронтальная форма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1600200"/>
          <a:ext cx="8964720" cy="4541760"/>
        </p:xfrm>
        <a:graphic>
          <a:graphicData uri="http://schemas.openxmlformats.org/drawingml/2006/table">
            <a:tbl>
              <a:tblPr/>
              <a:tblGrid>
                <a:gridCol w="4284720"/>
                <a:gridCol w="4680000"/>
              </a:tblGrid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емы об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ловесная и наглядная передача учебной информации одновременно всем учащимся, обмен информацией между учителем и детьм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оизвольное внимание учащихся в процессе объяснения учителя, фронтального опроса; корректирующая информация со стороны учителя, правильные ответы дете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рупповая (парная) форма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0" y="1600200"/>
          <a:ext cx="8964720" cy="4541760"/>
        </p:xfrm>
        <a:graphic>
          <a:graphicData uri="http://schemas.openxmlformats.org/drawingml/2006/table">
            <a:tbl>
              <a:tblPr/>
              <a:tblGrid>
                <a:gridCol w="4284720"/>
                <a:gridCol w="4680000"/>
              </a:tblGrid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емы об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рганизация парной работы или выполнение дифференцированных заданий группой школьник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чебное сотрудничество (умение договариваться, распределять работу, оценивать свой вклад в результат общей деятельности); соревнование между группам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ндивидуальная форма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197000"/>
          <a:ext cx="8964720" cy="5095800"/>
        </p:xfrm>
        <a:graphic>
          <a:graphicData uri="http://schemas.openxmlformats.org/drawingml/2006/table">
            <a:tbl>
              <a:tblPr/>
              <a:tblGrid>
                <a:gridCol w="4284720"/>
                <a:gridCol w="4680000"/>
              </a:tblGrid>
              <a:tr h="116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емы об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бота с учебником, выполнение самостоятельных или контрольных заданий, устный ответ у доски, индивидуальное сообщение новой для класса информации (доклад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тепень самостоятельности при работе с учебником, при выполнении самостоятельных работ, при устном сообщении; результативность индивидуальной помощи со стороны учителя или учащихся; опосредованное оказание индивидуальной помощи через источники информа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ллективная форма организации обучения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79280" y="1197000"/>
          <a:ext cx="8785440" cy="3814560"/>
        </p:xfrm>
        <a:graphic>
          <a:graphicData uri="http://schemas.openxmlformats.org/drawingml/2006/table">
            <a:tbl>
              <a:tblPr/>
              <a:tblGrid>
                <a:gridCol w="4105440"/>
                <a:gridCol w="4680000"/>
              </a:tblGrid>
              <a:tr h="116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емы об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Частичная или полная передача организации учебного занятия учащимся класс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оздание условий, при которых учащиеся самостоятельно организуют и проводят фрагменты уроков или весь уро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ные этапы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этапы урока, воспроизводящего целостный учебный процесс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блюдаемые приемы обучения и 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рганизационный момен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ветствие учителя, подготовка рабочих мес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ные этапы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79280" y="1600200"/>
          <a:ext cx="8785440" cy="4915080"/>
        </p:xfrm>
        <a:graphic>
          <a:graphicData uri="http://schemas.openxmlformats.org/drawingml/2006/table">
            <a:tbl>
              <a:tblPr/>
              <a:tblGrid>
                <a:gridCol w="4303800"/>
                <a:gridCol w="4481640"/>
              </a:tblGrid>
              <a:tr h="226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этапы урока, воспроизводящего целостный учебный процесс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блюдаемые приемы обучения и 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65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остановка цели урока в начале или в процессе уро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ормулировка цели учителем или детьми и способы фиксации цели урока. Приемы обучения, демонстрирующие недостаточность имеющихся знаний, несформированность УУД, приемы формирования УУД, ИКТ-компетентности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ные этапы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79280" y="1600200"/>
          <a:ext cx="8785440" cy="4976640"/>
        </p:xfrm>
        <a:graphic>
          <a:graphicData uri="http://schemas.openxmlformats.org/drawingml/2006/table">
            <a:tbl>
              <a:tblPr/>
              <a:tblGrid>
                <a:gridCol w="4303800"/>
                <a:gridCol w="4481640"/>
              </a:tblGrid>
              <a:tr h="223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этапы урока, воспроизводящего целостный учебный процесс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блюдаемые приемы обучения и 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74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ктуализация знаний, УУД в начале урока или в процессе его по мере необходимост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емы повторения системы опорных понятий или ранее усвоенных учебных действий, необходимых и достаточных для восприятия нового материала школьникам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емы формирования УУД, ИКТ-компетентности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ные этапы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79280" y="1600200"/>
          <a:ext cx="8785440" cy="4672080"/>
        </p:xfrm>
        <a:graphic>
          <a:graphicData uri="http://schemas.openxmlformats.org/drawingml/2006/table">
            <a:tbl>
              <a:tblPr/>
              <a:tblGrid>
                <a:gridCol w="4303800"/>
                <a:gridCol w="4481640"/>
              </a:tblGrid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этапы урока, воспроизводящего целостный учебный процесс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блюдаемые приемы обучения и 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ервичное восприятие и усвоение нового теоретического учебного материала (правил, понятий, алгоритмов…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емы привлечения внимания детей к принципиально новым сведениям, приемы первичного закрепления (выражаются в речи дете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емы формирования УУД, ИКТ-компетентности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ные этапы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79280" y="1600200"/>
          <a:ext cx="8785440" cy="4976640"/>
        </p:xfrm>
        <a:graphic>
          <a:graphicData uri="http://schemas.openxmlformats.org/drawingml/2006/table">
            <a:tbl>
              <a:tblPr/>
              <a:tblGrid>
                <a:gridCol w="4303800"/>
                <a:gridCol w="4481640"/>
              </a:tblGrid>
              <a:tr h="223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этапы урока, воспроизводящего целостный учебный процесс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блюдаемые приемы обучения и 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74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менение теоретических положений в условиях выполнения упражнений и решения зада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оспроизведение учащимися способов решений задач, выполнение упражнений по образцу, применение грамматических правил при написании слов, предлож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емы формирования УУД, ИКТ-компетентности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Учебная задача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- цель, которую перед собой ставит уче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j0396744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219320" y="2514600"/>
            <a:ext cx="2741400" cy="4000680"/>
          </a:xfrm>
          <a:prstGeom prst="rect">
            <a:avLst/>
          </a:prstGeom>
          <a:ln w="0">
            <a:noFill/>
          </a:ln>
        </p:spPr>
      </p:pic>
      <p:sp>
        <p:nvSpPr>
          <p:cNvPr id="63" name="Oval 4"/>
          <p:cNvSpPr/>
          <p:nvPr/>
        </p:nvSpPr>
        <p:spPr>
          <a:xfrm>
            <a:off x="3657600" y="2590920"/>
            <a:ext cx="5105520" cy="1218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Чему? Заче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ные этапы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79280" y="1600200"/>
          <a:ext cx="8785440" cy="4525920"/>
        </p:xfrm>
        <a:graphic>
          <a:graphicData uri="http://schemas.openxmlformats.org/drawingml/2006/table">
            <a:tbl>
              <a:tblPr/>
              <a:tblGrid>
                <a:gridCol w="4303800"/>
                <a:gridCol w="4481640"/>
              </a:tblGrid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этапы урока, воспроизводящего целостный учебный процесс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блюдаемые приемы обучения и 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амостоятельное творческое использование сформированных умений и навык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ешение учебных задач повышенной трудности или практических зада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емы формирования УУД, ИКТ-компетентности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ные этапы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79280" y="1600200"/>
          <a:ext cx="8785440" cy="4525920"/>
        </p:xfrm>
        <a:graphic>
          <a:graphicData uri="http://schemas.openxmlformats.org/drawingml/2006/table">
            <a:tbl>
              <a:tblPr/>
              <a:tblGrid>
                <a:gridCol w="4303800"/>
                <a:gridCol w="4481640"/>
              </a:tblGrid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этапы урока, воспроизводящего целостный учебный процесс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блюдаемые приемы обучения и 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инамическая пауз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сновные приемы динамической пауз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ные этапы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79280" y="1600200"/>
          <a:ext cx="8785440" cy="4549680"/>
        </p:xfrm>
        <a:graphic>
          <a:graphicData uri="http://schemas.openxmlformats.org/drawingml/2006/table">
            <a:tbl>
              <a:tblPr/>
              <a:tblGrid>
                <a:gridCol w="4303800"/>
                <a:gridCol w="4481640"/>
              </a:tblGrid>
              <a:tr h="225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этапы урока, воспроизводящего целостный учебный процесс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блюдаемые приемы обучения и 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2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бобщение усвоенного и включение его в систему ранее усвоенных ЗУНов и УУД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Использование нового содержания совместно с ранее изученным в условиях фронтального опроса, беседы, при решении задач и выполнении упражн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емы формирования УУД, ИКТ-компетентност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ные этапы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79280" y="1413000"/>
          <a:ext cx="8785440" cy="5435640"/>
        </p:xfrm>
        <a:graphic>
          <a:graphicData uri="http://schemas.openxmlformats.org/drawingml/2006/table">
            <a:tbl>
              <a:tblPr/>
              <a:tblGrid>
                <a:gridCol w="4303800"/>
                <a:gridCol w="4481640"/>
              </a:tblGrid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этапы урока, воспроизводящего целостный учебный процесс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блюдаемые приемы обучения и 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20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ефлексия деятельност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одведение итогов совместной и индивидуальной деятельности учеников (новое содержание, изученное на уроке и оценка личного вклада в совместную учебную деятельность), достижение поставленной ц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емы формирования УУД, ИКТ-компетентности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ные этапы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79280" y="1413000"/>
          <a:ext cx="8785440" cy="5435640"/>
        </p:xfrm>
        <a:graphic>
          <a:graphicData uri="http://schemas.openxmlformats.org/drawingml/2006/table">
            <a:tbl>
              <a:tblPr/>
              <a:tblGrid>
                <a:gridCol w="4032360"/>
                <a:gridCol w="4753080"/>
              </a:tblGrid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этапы урока, воспроизводящего целостный учебный процесс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блюдаемые приемы обучения и 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20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онтроль за процессом и результатом учебной деятельности школьник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бучение способам контроля и самооценки деятельности. Умение учащихся самостоятельно находить и исправлять ошибки, определять степень успеш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оявляется в устных высказываниях детей и в результатах письменных работ. Приемы формирования УУД, ИКТ-компетентности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вязь универсальных учебных действий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 содержанием учебных предм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42560" y="1142640"/>
            <a:ext cx="9001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а ступени начального общего образования имеет особое значение обеспечение при организации учебного процесса сбалансированного развития у обучающихся логического, наглядно-образного и знаково-символического мыш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ждый учебный предмет в зависимости от предметного содержания и способов организации учебной деятельности обучающихся раскрывает определённые возможности для формирования универсальных учебных 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усский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856800"/>
            <a:ext cx="9001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беспечивают формирование познавательных, коммуникативных и регулятивных действ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абота с текстом открывает возможности для формирования логических действий анализа, сравнения, установления причинно-следственных связ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риентация в морфологической и синтаксической структуре языка и усвоение правил строения слова и предложения, графической формы букв обеспечивает развитие знаково-символических действий – замещения (например, звука буквой), моделирования (например, состава слова путём составления схемы) и преобразования модели (видоизменения слов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зучение русского языка создаёт условия для формирования «языкового чутья» как результата ориентировки ребёнка в грамматической и синтаксической структуре родного языка и обеспечивает успешное развитие адекватных возрасту форм и функций речи, включая обобщающую и планирующую фун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итературное чт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360" y="856800"/>
            <a:ext cx="9001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беспечивают формирование всех видов УУД личностных познавательных, коммуникативных и регулятивных действий (с приоритетом развития ценностно-смысловой сферы  и коммуникации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мыслообразование через прослеживание судьбы героя и ориентацию учащегося в системе личностных смысл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амоопределение и самопознания на основе сравнения образа «Я» с героями литературных произведений посредством эмоционально-действенной идентифик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сновы гражданской идентичности путём знакомства с героическим историческим прошлым своего народа и своей страны и переживания гордости и эмоциональной сопричастности подвигам и достижениям её гражда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эстетических ценностей и на их основе эстетических критерие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равственно-этического оценивания через выявление морального содержания и нравственного значения действий персонаж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эмоционально-личностной децентрации на основе отождествления себя с героями произведения, соотнесения и сопоставления их позиций, взглядов и мне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итературное чт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56800"/>
            <a:ext cx="9001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мение понимать контекстную речь на основе воссоздания картины событий и поступков персонаж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мение произвольно и выразительно строить контекстную речь с учётом целей коммуникации, особенностей слушателя, в том числе используя аудиовизуальные сред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мение устанавливать логическую причинно-следственную последовательность событий и действий героев произве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мение строить план с выделением существенной и дополнительной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856800"/>
            <a:ext cx="9001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нова развития у обучающих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знавательных действ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первую очеред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логическ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лгоритмическ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ключа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наково-символическ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ланирование (последовательности действий по решению задач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истематизацию и структурирование знаний, перевод с одного языка на друг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оделирова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ифференциация существенных и несущественных условий, аксиоматик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формирование элементов системного мышления и приобретение основ информационной грамотност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собое значение имеет математика для формирования общего приёма решения задач как универсального учебного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Учебное действие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- система существенных признаков понятия или алгорит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j0396744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447920" y="3124080"/>
            <a:ext cx="2244600" cy="3276720"/>
          </a:xfrm>
          <a:prstGeom prst="rect">
            <a:avLst/>
          </a:prstGeom>
          <a:ln w="0">
            <a:noFill/>
          </a:ln>
        </p:spPr>
      </p:pic>
      <p:sp>
        <p:nvSpPr>
          <p:cNvPr id="66" name="Oval 4"/>
          <p:cNvSpPr/>
          <p:nvPr/>
        </p:nvSpPr>
        <p:spPr>
          <a:xfrm>
            <a:off x="3886200" y="3429000"/>
            <a:ext cx="4800600" cy="800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Ка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56800"/>
            <a:ext cx="9001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учащийся должен осваивать системы социально принятых знаков и символов, существующих в современной культуре и необходимых как для обучения, так и для его социализации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кружающи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856800"/>
            <a:ext cx="9001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еспечивает формирование у обучающихся целостной научной картины природного и социокультурного мира, отношений человека с природой, обществом, другими людьми, государством, осознания своего места в обществе, создавая основу становления мировоззрения, жизненного самоопределения и формирования российской гражданской идентичности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ичностные У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мения различать государственную символику Российской Федерации и своего региона, описывать достопримечательности столицы и родного края, находить на карте Российскую Федерацию, Москву – столицу России, свой регион и его столицу; ознакомление с особенностями некоторых зарубежных стр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кружающи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56800"/>
            <a:ext cx="9001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ичностные У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формирование основ исторической памяти – умения различать в историческом времени прошлое, настоящее, будущее, ориентации в основных исторических событиях своего народа и России и ощущения чувства гордости за славу и достижения своего народа и России, фиксировать в информационной среде элементы истории семьи, своего регио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•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формирование основ экологического сознания, грамотности и культуры учащихся, освоение элементарных норм адекватного природосообразного пове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•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азвитие морально-этического сознания – норм и правил взаимоотношений человека с другими людьми, социальными группами и сообществ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 сфере личностных универсальных учебных действий изучение предмета способствует принятию обучающимися правил здорового образа жизни, пониманию необходимости здорового образа жизни в интересах укрепления физического, психического и психологического здоров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кружающи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856800"/>
            <a:ext cx="9001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знавательные У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владение начальными формами исследовательской деятельности, включая умения поиска и работы с информацией, в том числе с использованием различных средств ИК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формирование действий замещения и моделирования (использования готовых моделей для объяснения явлений или выявления свойств объектов и создания моделей, в том числе в интерактивной сред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формирование логических действий сравнения, подведения под понятия, аналогии, классификации объектов живой и неживой природы на основе внешних признаков или известных характерных свойст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становление причинно-следственных связей в окружающем мире, в том числе на многообразном материале природы и культуры родного кр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етрадиционный урок – делается в новой необычной фор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шибка, когда форма начинает превалировать над содержа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«Эти уроки развлекают, забавляют, возбуждают, изумляют. Но хорошо бы не забывать, что урок, ну хоть немножечко должен еще и обучать» - Ю.К. Баба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етрадиционные типы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рок-соревн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рок-путеше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рок-ска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рок-иг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рок-конфере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рок взаимного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нтегрированный 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 определяет выбор  уро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ль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ип 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труктура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Расход времени на различных типах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мерная форма плана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кущее время урока, этап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ействия учите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ействия учащих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дактические требования к уро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еткое формулирование образовательных задач, связь с развивающими и воспитательными задачами, место в общей системе уро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пределение содержания урока в соответствии с требованием учебной программы, целями урока, уровнем подготовк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гнозирование уровня усвоения знаний, сформированности умений и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бор наиболее рациональных методов, приемов и средств обучения, стимулирования и контроля, обеспечивающий познавательную активность, сочетание различных форм коллективной и индивидуальной работы, максимальную самостоятельность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здание условий успешного 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сихологические требования к ур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отношение нагрузки на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амять и мышление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пределение объема воспроизводящей и творческой деятельност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четание усвоений знаний в готовом виде и в процессе самостоятельного по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чет контроля, анализа оценки деятельности школьников, осуществляемых учителем, и взаимной критической оценки, самоконтроля и самоанали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отношение побуждения к деятельности и побу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 u="sng">
                <a:solidFill>
                  <a:srgbClr val="333399"/>
                </a:solidFill>
                <a:uFillTx/>
                <a:latin typeface="Tahoma"/>
              </a:rPr>
              <a:t>Самоконтроль</a:t>
            </a: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- определение правильности выполненного действ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j0396744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295280" y="2514600"/>
            <a:ext cx="2741760" cy="4000680"/>
          </a:xfrm>
          <a:prstGeom prst="rect">
            <a:avLst/>
          </a:prstGeom>
          <a:ln w="0">
            <a:noFill/>
          </a:ln>
        </p:spPr>
      </p:pic>
      <p:sp>
        <p:nvSpPr>
          <p:cNvPr id="69" name="Oval 4"/>
          <p:cNvSpPr/>
          <p:nvPr/>
        </p:nvSpPr>
        <p:spPr>
          <a:xfrm>
            <a:off x="3807000" y="2857680"/>
            <a:ext cx="4803480" cy="1028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Правиль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ганизация познавательной деятельности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ланирование путей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сприятия учениками изучаемых объектов и явлений, их осмы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спользование установок в форме убеждения, вну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ланирование устойчивого внимания и сосредоточ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спользование различных форм работы для актуализации в памяти ранее усвоенных знаний и умений, необходимых для восприятия н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ланирование приемов и форм работы, обеспечивающих активность и самостоятельность мышления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едупреждение механического переноса умений и навыков на новые условия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чет возрастных особеннос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ланирование урока в соответствии с индивидуальными и возрастными особенностям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ведение урока с учетом сильных и слабых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фференцированный подход к сильным и слабым учащим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игиенические треб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емпературный реж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оветри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све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едупреждение утомления и переутом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Чередование видов деятельности (слушание, счет, письмо, практи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воевременное и качественное проведение физмину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блюдение правильной рабочей по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ебования к технике проведения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рок должен быть эмоциональным, вызывать интерес, воспитывать познавательную потреб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емп и ритм должны быть оптимальными, действия заверше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оминирование атмосферы доброжелательности и активного творческого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мена видов деятельности учащихся, сочетание различных методов и приемов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блюдение единого орфографического реж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еспечение активного учения каждого шк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люсы современного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тремление учителя самостоятельно планировать уро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нание принципов дидактики, их иерархии, взаимосвязей и отно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очное и одновременно творческое выполнение программно-методических требований к уро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нание типологии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спользование игровой формы, когда это служит лучшему выполнению образовательных целей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чет обученности, обучаемости, учебных и воспитательных возможностей учащих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люсы современного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ормулировка, кроме темы урока так называемого «имени уро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ланирование воспитательной функции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мплексное планирование задач урока (стр. 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деление в содержание материала объекта прочного усвоения и отработка на уроке именно эт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думывание хотя бы для себя ценностных оснований выбора содержания и трактовки учебного материала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мощь детям в раскрытии личностного смысла изучаемого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люсы современного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пора на межпредметные связи с целью их использования для формирования у учащихся целостного представления о системе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актическая направленность учебного проц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ключение в содержание урока упражнений творческого харак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бор оптимального сочетания и соотношения методов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нание разных технологий развивающего обучения и их только дифференцированное приме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четание общеклассных форм работы с групповыми и индивидуаль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люсы современного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существление дифференцированного подхода к учащимся только на основе диагностики их реальных учебных дости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ормирование надпредметных способов учебной деятельности (например анализирование от предмета к явлению, процессу, понятию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бота по мотивации учебной деятельности  - формирование мотивации по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здание условий для проявления самостоятельност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циональное использование средств обучения (учебников, пособий, технических сред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люсы современного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ключение компьютеров в педагогические техноло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ифференциация домашних зад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нание и применение психосберегающих, здоровьесберегающих и здоровьеразвивающих технолог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беспечение благоприятных гигиенических учло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беспечение эстетических усло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бщение -  сочетание требовательности и уважения к личности учащего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мидж учи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оотношение рационального и эмоционального в работе с дет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спользование артистических умений, педагогической техники и исполнительского масте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люсы современного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еткое следование замыслу урока и готовность гибко перестраивать его ход при изменении учебной сит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гулярный анализ полученных на уроках результатов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ценка и самооценка работы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000" spc="-1" strike="noStrike" u="sng">
                <a:solidFill>
                  <a:srgbClr val="333399"/>
                </a:solidFill>
                <a:uFillTx/>
                <a:latin typeface="Tahoma"/>
              </a:rPr>
              <a:t>Самооценка</a:t>
            </a: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- определение степени соответствия эталону или качества выполненного 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j0396744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71600" y="3124080"/>
            <a:ext cx="2351160" cy="3429000"/>
          </a:xfrm>
          <a:prstGeom prst="rect">
            <a:avLst/>
          </a:prstGeom>
          <a:ln w="0">
            <a:noFill/>
          </a:ln>
        </p:spPr>
      </p:pic>
      <p:sp>
        <p:nvSpPr>
          <p:cNvPr id="72" name="Oval 4"/>
          <p:cNvSpPr/>
          <p:nvPr/>
        </p:nvSpPr>
        <p:spPr>
          <a:xfrm>
            <a:off x="3733920" y="3429000"/>
            <a:ext cx="4686120" cy="2133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Хорош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Можно лучш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>
            <a:hlinkClick r:id="rId2" action="ppaction://hlinksldjump"/>
          </p:cNvPr>
          <p:cNvSpPr/>
          <p:nvPr/>
        </p:nvSpPr>
        <p:spPr>
          <a:xfrm>
            <a:off x="7924680" y="632448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428760" y="-4608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«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Эффективный» способ использования информативного источника знаний невозможен при реализации нов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3"/>
          <p:cNvGrpSpPr/>
          <p:nvPr/>
        </p:nvGrpSpPr>
        <p:grpSpPr>
          <a:xfrm>
            <a:off x="457200" y="1674720"/>
            <a:ext cx="8226360" cy="4373640"/>
            <a:chOff x="457200" y="1674720"/>
            <a:chExt cx="8226360" cy="4373640"/>
          </a:xfrm>
        </p:grpSpPr>
        <p:pic>
          <p:nvPicPr>
            <p:cNvPr id="76" name="Picture 4" descr=""/>
            <p:cNvPicPr/>
            <p:nvPr/>
          </p:nvPicPr>
          <p:blipFill>
            <a:blip r:embed="rId1"/>
            <a:stretch/>
          </p:blipFill>
          <p:spPr>
            <a:xfrm>
              <a:off x="457200" y="1674720"/>
              <a:ext cx="8226360" cy="437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5"/>
            <p:cNvSpPr/>
            <p:nvPr/>
          </p:nvSpPr>
          <p:spPr>
            <a:xfrm>
              <a:off x="457200" y="1674720"/>
              <a:ext cx="8226360" cy="43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22:07:28Z</dcterms:created>
  <dc:creator>Пользователь</dc:creator>
  <dc:description/>
  <dc:language>en-US</dc:language>
  <cp:lastModifiedBy>пользователь</cp:lastModifiedBy>
  <dcterms:modified xsi:type="dcterms:W3CDTF">2013-02-13T07:16:16Z</dcterms:modified>
  <cp:revision>28</cp:revision>
  <dc:subject/>
  <dc:title>Урок в соответствии с ФГОС</dc:title>
</cp:coreProperties>
</file>