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3756-249F-4323-B7D5-DF960E87C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59D0-38B0-4776-9C83-2C3F463712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0D3D-F11F-478F-A93D-FE86FDBC6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1C12-81EB-4BB9-A144-EB6D8077E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E5EE-3002-4A86-8EB8-DBE9B5355F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системы нормативов и выбор объектов нормрования определяются новым пониманием стандарта общего образования, в котором основной акцент переносится с содержания на результаты образования. Поэтому при разработке как Требований стандарта, так и документов, обеспечивающих его  реализацию, должны быть заданы рамки не только для изучаемого учебного материала, но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сновные способы учебных действ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средством которых дети осваивают данный учебн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ми словами, наряду с традиционным вопросом «Чему учить?», по мнению разработчиков, важнейшим становится вопрос «Как учить?» или, точнее, «Как учить так, чтобы инициировать у детей собственные вопросы: “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му мне нужно научиться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”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“Как мне этому научиться?”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4F84-06CD-4CA2-B9AA-6FC767A20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1692-5574-42F1-8CB2-BA8443809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2FA-83AB-47A9-A969-A70D4368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5E2-49D1-4744-869B-AA3012AA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A49-AC33-41AB-98A1-28E0659A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50D-B98D-4AE9-9B3C-B23E90D2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769-89A3-4205-B6D4-45E5001B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0B0-A27B-47C5-810F-7331EAF4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39DF-BEB7-42F1-AF2D-31C9BC10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65E-7200-4CFE-A779-ED8C28CA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F68-0021-42BB-9C4B-0B7BFE86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29C-E527-4C9B-8046-760306CE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E47-534D-4F9A-AE17-CF892C1D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A6B-8063-4C0C-B00D-542A30D4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1685-5032-45EF-8622-8C1902EF9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3340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рок в соответствии с 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7377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.А. Разагатова, МОУ ДПО (ПК) «Центр развития образования г.о. Сама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765000"/>
          <a:ext cx="8229600" cy="5361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8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фективность учебно-воспитательной деятельности преподава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овес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%-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слыш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гляд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вид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ктическ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делает сам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фективность учебно-познавательной деятельности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Line 29"/>
          <p:cNvSpPr/>
          <p:nvPr/>
        </p:nvSpPr>
        <p:spPr>
          <a:xfrm>
            <a:off x="5292720" y="1916280"/>
            <a:ext cx="2158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4"/>
          <p:cNvSpPr/>
          <p:nvPr/>
        </p:nvSpPr>
        <p:spPr>
          <a:xfrm>
            <a:off x="5508720" y="5373720"/>
            <a:ext cx="2158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Аспектный анализ учебного занят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(системы учебных занят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  <a:ea typeface="Lucida Sans Unicode"/>
              </a:rPr>
              <a:t>Аспектный анализ (самоанализ) урока (системы уроков) это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етальное и всестороннее рассмотрение его как единого целого под определенным углом зрения (аспектом).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  <a:ea typeface="Lucida Sans Unicode"/>
              </a:rPr>
              <a:t> Выбор аспектов зависит как от аналитической потребности, так и от возникшей практической необходи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alibri"/>
                <a:ea typeface="Lucida Sans Unicode"/>
              </a:rPr>
              <a:t>Например: методы формирования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УУД</a:t>
            </a:r>
            <a:r>
              <a:rPr b="0" lang="ru-RU" sz="2800" spc="-1" strike="noStrike">
                <a:solidFill>
                  <a:srgbClr val="333399"/>
                </a:solidFill>
                <a:latin typeface="Calibri"/>
                <a:ea typeface="Lucida Sans Unicode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ализ урока в соответствии с ФГОС НО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ль посещения (аспект)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, учитель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личество учащихся в класс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сутствовали на урок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983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дактическая задача урока (краткий оценочный анализ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Соответствие дидактической задачи урока отобранному содержа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Результативность решения дидактической задач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держание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ответствие основного содержания урока содержанию программы и учебни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13800" cy="529272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етоды обуч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ответствие приемов обучения и учения (методов обучения) решению триединой образовательной це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ы обуч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 Соответствие форм обучения (фронтальная, групповая, индивидуальная, коллективная) решению основной дидактической задачи уро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 Целесообразность использования предложенных заданий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1413000"/>
          <a:ext cx="8713800" cy="529272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зультативность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остижение цели и решение основной дидактической задачи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ктическая направленность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ктическая направленность вопросов, упражнений и задач, предлагаемых для выполнения школьникам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1413000"/>
          <a:ext cx="8785440" cy="5184720"/>
        </p:xfrm>
        <a:graphic>
          <a:graphicData uri="http://schemas.openxmlformats.org/drawingml/2006/table">
            <a:tbl>
              <a:tblPr/>
              <a:tblGrid>
                <a:gridCol w="4302360"/>
                <a:gridCol w="44830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мостоятельная работа школьников как форма организации учебной деятель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овень </a:t>
                      </a: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амостоятельности школьников при решении дидактической задачи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 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арактер самостоятельной учебной деятельности</a:t>
                      </a: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(репродуктивный, творческ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 Взаимопомощь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79280" y="1413000"/>
          <a:ext cx="8785440" cy="5184720"/>
        </p:xfrm>
        <a:graphic>
          <a:graphicData uri="http://schemas.openxmlformats.org/drawingml/2006/table">
            <a:tbl>
              <a:tblPr/>
              <a:tblGrid>
                <a:gridCol w="4302360"/>
                <a:gridCol w="44830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ормирование универсальных учебных действий на каждом этапе урока 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личностные, регулятивные, познавательные, коммуникативны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 Соответствие содержания зад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 Организация деятельности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 Виды У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413000"/>
          <a:ext cx="8713800" cy="531180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ормирование ИКТ-компетентност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менение ИКТ на уроке, уровень сформированности ИКТ компетентности учащих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руктура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ответствие структуры урока основной дидактической задач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е аспекты анализ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413000"/>
          <a:ext cx="8713800" cy="5287680"/>
        </p:xfrm>
        <a:graphic>
          <a:graphicData uri="http://schemas.openxmlformats.org/drawingml/2006/table">
            <a:tbl>
              <a:tblPr/>
              <a:tblGrid>
                <a:gridCol w="4267440"/>
                <a:gridCol w="4446360"/>
              </a:tblGrid>
              <a:tr h="102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ие аспекты анализа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едагогический сти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блюдение норм педагогической эти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игиенические требов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пературный режим, проветривание класса, чередование видов деятельности, динамические пауз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ждый урок должен быть для наставника задачей, которую он должен выполнять, обдумывая это заранее: на каждом уроке он должен чего-нибудь достигнуть, сделать шаг дальше и заставить весь класс сделать этот ш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73372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. Д.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ализ урока в соответствии с ФГОС НО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ема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ип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идактическая задач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ли урока (образовательная, воспитательная, развивающая)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ип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первичного предъявления новых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формирования первоначальных предметных ум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применения предметных ум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обобщения и системат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повт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нтрольный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ррекционный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мбинированный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чебная экску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решения практических, проектны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первичного предъявления новых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ервичное усвоение новых предметных знаний, ум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спроизведение своими словами правил, понятий, алгоритмов, выполнение действий по образцу, алгоритм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рок формирования первоначальных предметных ум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5113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менение усваиваемых знаний или способов учебных действий в условиях решения учебных задач (заданий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вильное воспроизведение образцов выполнения заданий, безошибочное применение алгоритмов и правил при решении учебных зада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применения предметных ум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686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менение предметных умений в условиях решения учебных задач повышенной сложнос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амостоятельное решение задач (выполнение упражнений) повышенной сложности отдельными учениками или коллективом клас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обобщения и системат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стематизация предметных умений, универсальных действий (решение предметных задач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ние сформулировать обобщенный вывод, уровень сформированности УУ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повто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626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4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крепление предметных умений, формирование УУ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ошибочное выполнение упражнений, решение задач отдельными учениками, коллективом класса; безошибочные устные ответы; умение находить и исправлять ошибки, оказывать взаимопомощь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нтрольный у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оверка предметных умений решать практические задач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зультаты контрольной или самостоятельной работ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ррекционный ур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дивидуальная работа над допущенными ошибка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амостоятельное нахождение и исправление ошибо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мбинированный ур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шение задач, которые невозможно выполнить в рамках одного уро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шение поставленных дидактических зада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2276640"/>
            <a:ext cx="8642160" cy="4581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сновная педагогическая задач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рганизация условий, инициирующих детское 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50920" y="0"/>
            <a:ext cx="8604000" cy="75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истемно-деятельностный под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250920" y="3905280"/>
            <a:ext cx="2879640" cy="2952720"/>
          </a:xfrm>
          <a:prstGeom prst="ellipse">
            <a:avLst/>
          </a:prstGeom>
          <a:solidFill>
            <a:srgbClr val="ffff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Чему у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бразовани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6012000" y="3832200"/>
            <a:ext cx="2879640" cy="3025800"/>
          </a:xfrm>
          <a:prstGeom prst="ellipse">
            <a:avLst/>
          </a:prstGeom>
          <a:solidFill>
            <a:srgbClr val="cc99ff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3132000" y="3429000"/>
            <a:ext cx="2880000" cy="3166920"/>
          </a:xfrm>
          <a:prstGeom prst="ellipse">
            <a:avLst/>
          </a:prstGeom>
          <a:solidFill>
            <a:srgbClr val="ccffcc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ahoma"/>
              </a:rPr>
              <a:t>Ради чего учить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324000" y="981000"/>
            <a:ext cx="8820000" cy="9144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азвитие личности учащегося на основе осво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ниверсальных способов деятельности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чебная экскурс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600200"/>
          <a:ext cx="8229600" cy="5113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посредственное изучение явлений окружающего мир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владение и применение предметных знаний и умений при изучении явлений окружающего мира в реальных жизненных ситуациях; творческое оформление отчет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решения практических, проектны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ктическая направленность изучения теоретических положен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спользование средств учебного курса в целях изучения окружающего мир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Характеризует конечный результат урока, т.е., что и в какой степени должно измениться, совершенствоваться в области знаний и умений у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1628640"/>
          <a:ext cx="8974080" cy="4978440"/>
        </p:xfrm>
        <a:graphic>
          <a:graphicData uri="http://schemas.openxmlformats.org/drawingml/2006/table">
            <a:tbl>
              <a:tblPr/>
              <a:tblGrid>
                <a:gridCol w="4427640"/>
                <a:gridCol w="4546440"/>
              </a:tblGrid>
              <a:tr h="186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1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еспечение осознания и усвоения понятий, законов, правил, алгоритмов, закономер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своение = понимание + запомин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авильное воспроизве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Методы и приемы предъявления нового материала школьника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Формы организации учебной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 Методы и приемы оказания индивидуальной помощи учащимся, затрудняющимся в устном воспроизведении терминов, правил, алгоритмов и т.д.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628640"/>
          <a:ext cx="8974080" cy="4624560"/>
        </p:xfrm>
        <a:graphic>
          <a:graphicData uri="http://schemas.openxmlformats.org/drawingml/2006/table">
            <a:tbl>
              <a:tblPr/>
              <a:tblGrid>
                <a:gridCol w="4427640"/>
                <a:gridCol w="4546440"/>
              </a:tblGrid>
              <a:tr h="188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ирований умений применения теоретических положений в условиях решения учебны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владение = усвоение + применение в условиях решения учебных зада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Методы и формы организации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мостоятельной 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чебной деятельности школьни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Методы и приемы оказания индивидуальной помощи учащимся, испытывающим трудности при решении учебных задач со стороны учителя и одноклассников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052640"/>
          <a:ext cx="8974080" cy="5805360"/>
        </p:xfrm>
        <a:graphic>
          <a:graphicData uri="http://schemas.openxmlformats.org/drawingml/2006/table">
            <a:tbl>
              <a:tblPr/>
              <a:tblGrid>
                <a:gridCol w="4427640"/>
                <a:gridCol w="4546440"/>
              </a:tblGrid>
              <a:tr h="181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ирование УУД в условиях решения учебных задач (познавательная деятельность, речевая деятельность и работа с источником информации, организационная деятельнос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Приемы обучения учащихся работе с источниками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Формы организации учебной деятельности школьников (фронтальная, парная, группов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Приемы индивидуальной помощи учащимся со стороны учителя и одноклассников непосредственные и опосредованные с помощью пособ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197000"/>
          <a:ext cx="8723160" cy="5510160"/>
        </p:xfrm>
        <a:graphic>
          <a:graphicData uri="http://schemas.openxmlformats.org/drawingml/2006/table">
            <a:tbl>
              <a:tblPr/>
              <a:tblGrid>
                <a:gridCol w="4303440"/>
                <a:gridCol w="4419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ирование УУД в условиях решения практических зада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использования средств учебного предмета в целях изучения окружающего мир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1197000"/>
          <a:ext cx="8723160" cy="5510160"/>
        </p:xfrm>
        <a:graphic>
          <a:graphicData uri="http://schemas.openxmlformats.org/drawingml/2006/table">
            <a:tbl>
              <a:tblPr/>
              <a:tblGrid>
                <a:gridCol w="4303440"/>
                <a:gridCol w="4419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вторение (обобщение или систематизация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Объем содержания обобщения и систематизации (отдельные темы, глава, и т.д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Методы повторения (обобщение, систематизация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идактическая задач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197000"/>
          <a:ext cx="8723160" cy="5510160"/>
        </p:xfrm>
        <a:graphic>
          <a:graphicData uri="http://schemas.openxmlformats.org/drawingml/2006/table">
            <a:tbl>
              <a:tblPr/>
              <a:tblGrid>
                <a:gridCol w="4303440"/>
                <a:gridCol w="4419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дидактические (обучающие) задачи уро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нтроль за степенью усвоения учебного материала и сформированностью предметных, метапредметных ум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зультаты вы выполнения контрольных работ, в том числе интегрирован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разовательна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относится с темой и содержанием урока, его дидактической задач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спитательная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– формирование личностных УУД, через содержание учебного матери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вивающая –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звитие познавательных (интеллекта), коммуникативных, регулятивных (воли) УУ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Учебная деятельность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самостоятельная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деятельность ученика по усвоению знаний, умений и навыков, в которой он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изменяется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 и эти изменения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осозн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396742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6934320" y="4343400"/>
            <a:ext cx="1990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рганизационные формы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ронтальная форма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рупповая (парная) форма обучения; группы сменного сост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ндивидуальная форма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ллективная форма организации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ронтальная форма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600200"/>
          <a:ext cx="8964720" cy="4541760"/>
        </p:xfrm>
        <a:graphic>
          <a:graphicData uri="http://schemas.openxmlformats.org/drawingml/2006/table">
            <a:tbl>
              <a:tblPr/>
              <a:tblGrid>
                <a:gridCol w="4284720"/>
                <a:gridCol w="468000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емы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овесная и наглядная передача учебной информации одновременно всем учащимся, обмен информацией между учителем и деть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оизвольное внимание учащихся в процессе объяснения учителя, фронтального опроса; корректирующая информация со стороны учителя, правильные ответы дете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рупповая (парная) форма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1600200"/>
          <a:ext cx="8964720" cy="4541760"/>
        </p:xfrm>
        <a:graphic>
          <a:graphicData uri="http://schemas.openxmlformats.org/drawingml/2006/table">
            <a:tbl>
              <a:tblPr/>
              <a:tblGrid>
                <a:gridCol w="4284720"/>
                <a:gridCol w="468000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емы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рганизация парной работы или выполнение дифференцированных заданий группой школьник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чебное сотрудничество (умение договариваться, распределять работу, оценивать свой вклад в результат общей деятельности); соревнование между группа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ндивидуальная форма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197000"/>
          <a:ext cx="8964720" cy="5095800"/>
        </p:xfrm>
        <a:graphic>
          <a:graphicData uri="http://schemas.openxmlformats.org/drawingml/2006/table">
            <a:tbl>
              <a:tblPr/>
              <a:tblGrid>
                <a:gridCol w="4284720"/>
                <a:gridCol w="4680000"/>
              </a:tblGrid>
              <a:tr h="116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емы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бота с учебником, выполнение самостоятельных или контрольных заданий, устный ответ у доски, индивидуальное сообщение новой для класса информации (доклад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епень самостоятельности при работе с учебником, при выполнении самостоятельных работ, при устном сообщении; результативность индивидуальной помощи со стороны учителя или учащихся; опосредованное оказание индивидуальной помощи через источники информ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лективная форма организации обучения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1197000"/>
          <a:ext cx="8785440" cy="3814560"/>
        </p:xfrm>
        <a:graphic>
          <a:graphicData uri="http://schemas.openxmlformats.org/drawingml/2006/table">
            <a:tbl>
              <a:tblPr/>
              <a:tblGrid>
                <a:gridCol w="4105440"/>
                <a:gridCol w="468000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емы об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наблюд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астичная или полная передача организации учебного занятия учащимся клас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здание условий, при которых учащиеся самостоятельно организуют и проводят фрагменты уроков или весь уро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рганизационный момен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ветствие учителя, подготовка рабочих мес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1600200"/>
          <a:ext cx="8785440" cy="491508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6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становка цели урока в начале или в процессе уро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улировка цели учителем или детьми и способы фиксации цели урока. Приемы обучения, демонстрирующие недостаточность имеющихся знаний, несформированность УУД, 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600200"/>
          <a:ext cx="8785440" cy="497664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3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ктуализация знаний, УУД в начале урока или в процессе его по мере необходимос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повторения системы опорных понятий или ранее усвоенных учебных действий, необходимых и достаточных для восприятия нового материала школьника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1600200"/>
          <a:ext cx="8785440" cy="467208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ервичное восприятие и усвоение нового теоретического учебного материала (правил, понятий, алгоритмов…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привлечения внимания детей к принципиально новым сведениям, приемы первичного закрепления (выражаются в речи дете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600200"/>
          <a:ext cx="8785440" cy="497664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3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менение теоретических положений в условиях выполнения упражнений и решения зада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спроизведение учащимися способов решений задач, выполнение упражнений по образцу, применение грамматических правил при написании слов, предлож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Учебная задача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- цель, которую перед собой ставит уче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j039674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219320" y="2514600"/>
            <a:ext cx="2741400" cy="400068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3657600" y="2590920"/>
            <a:ext cx="5105520" cy="1218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Чему? Зач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1600200"/>
          <a:ext cx="8785440" cy="452592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амостоятельное творческое использование сформированных умений и навык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шение учебных задач повышенной трудности или практическ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1600200"/>
          <a:ext cx="8785440" cy="452592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намическая пауз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сновные приемы динамической пауз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79280" y="1600200"/>
          <a:ext cx="8785440" cy="454968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общение усвоенного и включение его в систему ранее усвоенных ЗУНов и УУ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спользование нового содержания совместно с ранее изученным в условиях фронтального опроса, беседы, при решении задач и выполнении упражн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1413000"/>
          <a:ext cx="8785440" cy="5435640"/>
        </p:xfrm>
        <a:graphic>
          <a:graphicData uri="http://schemas.openxmlformats.org/drawingml/2006/table">
            <a:tbl>
              <a:tblPr/>
              <a:tblGrid>
                <a:gridCol w="4303800"/>
                <a:gridCol w="448164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2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флексия деятельнос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дведение итогов совместной и индивидуальной деятельности учеников (новое содержание, изученное на уроке и оценка личного вклада в совместную учебную деятельность), достижение поставленной 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эта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79280" y="1413000"/>
          <a:ext cx="8785440" cy="5435640"/>
        </p:xfrm>
        <a:graphic>
          <a:graphicData uri="http://schemas.openxmlformats.org/drawingml/2006/table">
            <a:tbl>
              <a:tblPr/>
              <a:tblGrid>
                <a:gridCol w="4032360"/>
                <a:gridCol w="475308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ые этапы урока, воспроизводящего целостный учебный процесс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людаемые приемы обучения и уч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2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нтроль за процессом и результатом учебной деятельности школьник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учение способам контроля и самооценки деятельности. Умение учащихся самостоятельно находить и исправлять ошибки, определять степень успеш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роявляется в устных высказываниях детей и в результатах письменных работ. Приемы формирования УУД, ИКТ-компетентности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язь универсальных учебных действи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содержанием учебных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2560" y="1142640"/>
            <a:ext cx="9001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 ступени начального общего образования имеет особое значение обеспечение при организации учебного процесса сбалансированного развития у обучающихся логического, наглядно-образного и знаково-символического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ждый учебный предмет в зависимости от предметного содержания и способов организации учебной деятельности обучающихся раскрывает определённые возможности для формирования универсальных учебны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еспечивают формирование познавательных, коммуникативных и регулятивных действ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бота с текстом открывает возможности для формирования логических действий анализа, сравнения, установления причинно-следственных связ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риентация в морфологической и синтаксической структуре языка и усвоение правил строения слова и предложения, графической формы букв обеспечивает развитие знаково-символических действий – замещения (например, звука буквой), моделирования (например, состава слова путём составления схемы) и преобразования модели (видоизменения слов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зучение русского языка создаёт условия для формирования «языкового чутья» как результата ориентировки ребёнка в грамматической и синтаксической структуре родного языка и обеспечивает успешное развитие адекватных возрасту форм и функций речи, включая обобщающую и планирующую фун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еспечивают формирование всех видов УУД личностных познавательных, коммуникативных и регулятивных действий (с приоритетом развития ценностно-смысловой сферы  и коммуникаци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мыслообразование через прослеживание судьбы героя и ориентацию учащегося в системе личностных смыс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оопределение и самопознания на основе сравнения образа «Я» с героями литературных произведений посредством эмоционально-действенной идентиф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ы гражданской идентичности путём знакомства с героическим историческим прошлым своего народа и своей страны и переживания гордости и эмоциональной сопричастности подвигам и достижениям её гражд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стетических ценностей и на их основе эстетических критерие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равственно-этического оценивания через выявление морального содержания и нравственного значения действий персонаж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моционально-личностной децентрации на основе отождествления себя с героями произведения, соотнесения и сопоставления их позиций, взглядов и мн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ение понимать контекстную речь на основе воссоздания картины событий и поступков персонаж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ение произвольно и выразительно строить контекстную речь с учётом целей коммуникации, особенностей слушателя, в том числе используя аудиовизуальные сре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ение устанавливать логическую причинно-следственную последовательность событий и действий героев произ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ение строить план с выделением существенной и дополнительн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а развития у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знавательных действ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первую очер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огиче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лгоритмиче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ключа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наково-символ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ланирование (последовательности действий по решению задач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истематизацию и структурирование знаний, перевод с одного языка на друг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делиров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ифференциация существенных и несущественных условий, аксиомати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ормирование элементов системного мышления и приобретение основ информационной грамот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обое значение имеет математика для формирования общего приёма решения задач как универсального учебного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Учебное действие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- система существенных признаков понятия или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j039674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7920" y="3124080"/>
            <a:ext cx="2244600" cy="3276720"/>
          </a:xfrm>
          <a:prstGeom prst="rect">
            <a:avLst/>
          </a:prstGeom>
          <a:ln w="0">
            <a:noFill/>
          </a:ln>
        </p:spPr>
      </p:pic>
      <p:sp>
        <p:nvSpPr>
          <p:cNvPr id="66" name="Oval 4"/>
          <p:cNvSpPr/>
          <p:nvPr/>
        </p:nvSpPr>
        <p:spPr>
          <a:xfrm>
            <a:off x="3886200" y="3429000"/>
            <a:ext cx="4800600" cy="800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Ка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чащийся должен осваивать системы социально принятых знаков и символов, существующих в современной культуре и необходимых как для обучения, так и для его социализаци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еспечивает формирование у обучающихся целостной научной картины природного и социокультурного мира, отношений человека с природой, обществом, другими людьми, государством, осознания своего места в обществе, создавая основу становления мировоззрения, жизненного самоопределения и формирования российской гражданской идентичности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ые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различать государственную символику Российской Федерации и своего региона, описывать достопримечательности столицы и родного края, находить на карте Российскую Федерацию, Москву – столицу России, свой регион и его столицу; ознакомление с особенностями некоторых зарубежных стр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ые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ормирование основ исторической памяти – умения различать в историческом времени прошлое, настоящее, будущее, ориентации в основных исторических событиях своего народа и России и ощущения чувства гордости за славу и достижения своего народа и России, фиксировать в информационной среде элементы истории семьи, своего реги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ормирование основ экологического сознания, грамотности и культуры учащихся, освоение элементарных норм адекватного природосообразного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азвитие морально-этического сознания – норм и правил взаимоотношений человека с другими людьми, социальными группами и сообще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сфере личностных универсальных учебных действий изучение предмета способствует принятию обучающимися правил здорового образа жизни, пониманию необходимости здорового образа жизни в интересах укрепления физического, психического и психологического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знавательные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владение начальными формами исследовательской деятельности, включая умения поиска и работы с информацией, в том числе с использованием различных средств ИК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ормирование действий замещения и моделирования (использования готовых моделей для объяснения явлений или выявления свойств объектов и создания моделей, в том числе в интерактивной сред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ормирование логических действий сравнения, подведения под понятия, аналогии, классификации объектов живой и неживой природы на основе внешних признаков или известных характерных свойст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становление причинно-следственных связей в окружающем мире, в том числе на многообразном материале природы и культуры родн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традиционный урок – делается в новой необычной фор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шибка, когда форма начинает превалировать над содерж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«Эти уроки развлекают, забавляют, возбуждают, изумляют. Но хорошо бы не забывать, что урок, ну хоть немножечко должен еще и обучать» - Ю.К. Баба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етрадиционные тип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-соревн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-путеше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-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-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-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 взаим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нтегрированный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определяет выбор  уро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ип 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труктур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асход времени на различных типах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мерная форма план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кущее время урока, этап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йствия 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йствия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дактические требования к у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ткое формулирование образовательных задач, связь с развивающими и воспитательными задачами, место в общей системе ур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ределение содержания урока в соответствии с требованием учебной программы, целями урока, уровнем подготовк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гнозирование уровня усвоения знаний, сформированности умений 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бор наиболее рациональных методов, приемов и средств обучения, стимулирования и контроля, обеспечивающий познавательную активность, сочетание различных форм коллективной и индивидуальной работы, максимальную самостоятельность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ние условий успешного 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сихологические требования к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отношение нагрузки на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мять и мышлени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ределение объема воспроизводящей и творческ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четание усвоений знаний в готовом виде и в процессе самостоятельного по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чет контроля, анализа оценки деятельности школьников, осуществляемых учителем, и взаимной критической оценки, самоконтроля и самоана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отношение побуждения к деятельности и поб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Самоконтроль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- определение правильности выполненного действ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j039674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295280" y="2514600"/>
            <a:ext cx="2741760" cy="4000680"/>
          </a:xfrm>
          <a:prstGeom prst="rect">
            <a:avLst/>
          </a:prstGeom>
          <a:ln w="0">
            <a:noFill/>
          </a:ln>
        </p:spPr>
      </p:pic>
      <p:sp>
        <p:nvSpPr>
          <p:cNvPr id="69" name="Oval 4"/>
          <p:cNvSpPr/>
          <p:nvPr/>
        </p:nvSpPr>
        <p:spPr>
          <a:xfrm>
            <a:off x="3807000" y="2857680"/>
            <a:ext cx="4803480" cy="1028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Правиль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познавательной деятельности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ние путей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сприятия учениками изучаемых объектов и явлений, их осмы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ьзование установок в форме убеждения, вну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ние устойчивого внимания и сосредоточ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ьзование различных форм работы для актуализации в памяти ранее усвоенных знаний и умений, необходимых для восприятия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ние приемов и форм работы, обеспечивающих активность и самостоятельность мышлени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упреждение механического переноса умений и навыков на новые услови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ет возрастных особен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ние урока в соответствии с индивидуальными и возрастными особенностям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ведение урока с учетом сильных и слабых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фференцированный подход к сильным и слабым учащи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игиенические 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емпературный реж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ветр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св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едупреждение утомления и переутом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ередование видов деятельности (слушание, счет, письмо, практи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воевременное и качественное проведение физмину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блюдение правильной рабочей п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бования к технике проведения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рок должен быть эмоциональным, вызывать интерес, воспитывать познавательную потре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мп и ритм должны быть оптимальными, действия заверш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минирование атмосферы доброжелательности и активного творческого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мена видов деятельности учащихся, сочетание различных методов и приемов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блюдение единого орфографического реж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еспечение активного учения каждого шк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ремление учителя самостоятельно планировать у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ние принципов дидактики, их иерархии, взаимосвязей и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чное и одновременно творческое выполнение программно-методических требований к 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ние типологии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ьзование игровой формы, когда это служит лучшему выполнению образовательных целей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чет обученности, обучаемости, учебных и воспитательных возможностей уча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улировка, кроме темы урока так называемого «имени уро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ланирование воспитательной функции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мплексное планирование задач урока (стр. 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деление в содержание материала объекта прочного усвоения и отработка на уроке именно э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думывание хотя бы для себя ценностных оснований выбора содержания и трактовки учебного материала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мощь детям в раскрытии личностного смысла изучаем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ора на межпредметные связи с целью их использования для формирования у учащихся целостного представления о системе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ктическая направленность учеб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ключение в содержание урока упражнений творческого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бор оптимального сочетания и соотношения метод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ние разных технологий развивающего обучения и их только дифференцированное приме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четание общеклассных форм работы с групповыми и индивидуа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существление дифференцированного подхода к учащимся только на основе диагностики их реальных учебных дост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ирование надпредметных способов учебной деятельности (например анализирование от предмета к явлению, процессу, поняти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бота по мотивации учебной деятельности  - формирование мотивации п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ние условий для проявления самосто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циональное использование средств обучения (учебников, пособий, технически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ключение компьютеров в педагогические техн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ифференциация домашних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нание и применение психосберегающих, здоровьесберегающих и здоровьеразвивающих технол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еспечение благоприятных гигиенических уч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еспечение эстетических усло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щение -  сочетание требовательности и уважения к личности учащего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мидж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отношение рационального и эмоционального в работе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спользование артистических умений, педагогической техники и исполнительск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юсы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ткое следование замыслу урока и готовность гибко перестраивать его ход при изменении учеб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гулярный анализ полученных на урока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ценка и самооценка работы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Самооценка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- определение степени соответствия эталону или качества выполненного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j039674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1600" y="3124080"/>
            <a:ext cx="235116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Oval 4"/>
          <p:cNvSpPr/>
          <p:nvPr/>
        </p:nvSpPr>
        <p:spPr>
          <a:xfrm>
            <a:off x="3733920" y="3429000"/>
            <a:ext cx="4686120" cy="213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Хорош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Можно лучш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>
            <a:hlinkClick r:id="rId2" action="ppaction://hlinksldjump"/>
          </p:cNvPr>
          <p:cNvSpPr/>
          <p:nvPr/>
        </p:nvSpPr>
        <p:spPr>
          <a:xfrm>
            <a:off x="7924680" y="63244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28760" y="-4608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«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Эффективный» способ использования информативного источника знаний невозможен при реализации нов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457200" y="1674720"/>
            <a:ext cx="8226360" cy="4373640"/>
            <a:chOff x="457200" y="1674720"/>
            <a:chExt cx="8226360" cy="4373640"/>
          </a:xfrm>
        </p:grpSpPr>
        <p:pic>
          <p:nvPicPr>
            <p:cNvPr id="76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1674720"/>
              <a:ext cx="8226360" cy="43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5"/>
            <p:cNvSpPr/>
            <p:nvPr/>
          </p:nvSpPr>
          <p:spPr>
            <a:xfrm>
              <a:off x="457200" y="1674720"/>
              <a:ext cx="8226360" cy="43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22:07:28Z</dcterms:created>
  <dc:creator>Пользователь</dc:creator>
  <dc:description/>
  <dc:language>en-US</dc:language>
  <cp:lastModifiedBy>пользователь</cp:lastModifiedBy>
  <dcterms:modified xsi:type="dcterms:W3CDTF">2013-02-13T07:16:16Z</dcterms:modified>
  <cp:revision>28</cp:revision>
  <dc:subject/>
  <dc:title>Урок в соответствии с ФГОС</dc:title>
</cp:coreProperties>
</file>