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21D-5F0C-4486-B20A-A86598ED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AAB-573D-4603-8AC5-E33D6E73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FD0-A226-495F-85E4-3BC14023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14B-2575-4C52-86D8-2D173595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B80B-F35C-480C-BC11-17E485AA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A230-2727-4F7D-AA1A-7A1C6542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108D-AF62-4F53-87AC-CC563980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3216-D789-452D-80D8-07B6602E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2BAA-98F2-462E-9C16-9DDC10AB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9532-BD2E-499F-8D62-2B7EE432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A3A3-6979-404D-8DB7-9226EF98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67F-C444-49F9-8916-C40B05CF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92D4-025C-44BF-81F5-5CD417DA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ED9F-2520-4C74-8131-CC1B95D6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8990-E7CC-4C1C-BE80-2C9D9E1E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3406-DDE9-4A44-B753-29DDDAD7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1ECE-04E4-4C45-B85B-F4B9D368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E0B-8AD7-48E9-A8C6-1100FA37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2F0-DA75-47E5-A98A-EE44047D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BF2-2627-4924-8B43-5CB27F9E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285-7E1D-4D4D-9E4A-D7D6F3FF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C36-B8B1-4BC6-A6F5-EB9E94D2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796-2819-41A9-AFF3-82A86213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7A4-7EB9-4D26-8FDD-275BA279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F66C-A06C-4A06-89E2-89EB7A1D10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67EB-11D3-441C-BAE4-8B559C315C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Веселая грамматик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99cc"/>
                </a:solidFill>
                <a:latin typeface="Tahoma"/>
              </a:rPr>
              <a:t>Будем мы сейчас играть,</a:t>
            </a:r>
            <a:br>
              <a:rPr sz="4400"/>
            </a:br>
            <a:r>
              <a:rPr b="0" lang="ru-RU" sz="4400" spc="-1" strike="noStrike">
                <a:solidFill>
                  <a:srgbClr val="0099cc"/>
                </a:solidFill>
                <a:latin typeface="Tahoma"/>
              </a:rPr>
              <a:t>Запрещается молчать.</a:t>
            </a:r>
            <a:br>
              <a:rPr sz="4400"/>
            </a:br>
            <a:r>
              <a:rPr b="0" lang="ru-RU" sz="4400" spc="-1" strike="noStrike">
                <a:solidFill>
                  <a:srgbClr val="0099cc"/>
                </a:solidFill>
                <a:latin typeface="Tahoma"/>
              </a:rPr>
              <a:t>Ну-ка, дружно отвечаем</a:t>
            </a:r>
            <a:br>
              <a:rPr sz="4400"/>
            </a:br>
            <a:r>
              <a:rPr b="0" lang="ru-RU" sz="4400" spc="-1" strike="noStrike">
                <a:solidFill>
                  <a:srgbClr val="0099cc"/>
                </a:solidFill>
                <a:latin typeface="Tahoma"/>
              </a:rPr>
              <a:t>И друг-друга выручаем!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4. Отгадай загад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День прошел, темно вокруг,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появился в небе круг.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В эту ночь взошла она -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белоснежная   …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Отгадай загад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На дворе стоит зима,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льдом покрыта вся она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Ты с нее съезжаешь бойко,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ну конечно это …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Отгадай загад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Утром небо озарило.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Свет, тепло свое пролило.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Нежно светит нам в оконце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ярко-желтенькое</a:t>
            </a: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 ….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Отгадай загад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Он со стенами и с крышей: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есть пониже, есть повыше.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Он с дверями и с окном.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Ну конечно это…</a:t>
            </a:r>
            <a:r>
              <a:rPr b="0" lang="en-US" sz="3200" spc="-1" strike="noStrike">
                <a:solidFill>
                  <a:srgbClr val="0099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1987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2760" y="32220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189000"/>
            <a:ext cx="35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84720" y="1197000"/>
            <a:ext cx="3744720" cy="1855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2520720" cy="192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500720" y="3860640"/>
            <a:ext cx="27367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0"/>
          <a:ext cx="9144000" cy="68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216000"/>
          <a:ext cx="8497800" cy="66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6000"/>
                    <a:ext cx="8497800" cy="66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8000" y="14400"/>
          <a:ext cx="9036000" cy="68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400"/>
                    <a:ext cx="9036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КРАСНАЯ ШАПОЧ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арусель- крас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ыня – на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Шар – ш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Б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чка - 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чк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628640"/>
          <a:ext cx="449100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449100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63360"/>
          <a:ext cx="9144000" cy="681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360"/>
                    <a:ext cx="9144000" cy="68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Расположи  слова в алфавитном порядк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он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в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гр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езьяна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пард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лк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раф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дведь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лка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яц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бан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от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нтера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ж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сорог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кал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тилопа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рь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ыс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тилоп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Склад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ы – 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Ёлка – к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м - 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4000" y="1628640"/>
          <a:ext cx="4038480" cy="46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403848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6. Составь предложения по данной картин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013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Наступила зима.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5972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Письмо по памяти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Вот пришла зима серебристая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Белым снегом замела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оле чисто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Ты молодец!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670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Расположи слова в алфавитном порядк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лон, лев, тигр, обезьяна, гепард, волк, жираф, медведь, белка, заяц, кабан, енот, пантера, ёж, носорог, шакал, антилопа, хорь, рыс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тилопа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лка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лк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пард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от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ж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раф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яц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бан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в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дведь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сорог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езьяна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нтера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ысь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он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гр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кал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р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Цепочк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Составь цепочку из имен существительных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Точк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нгел -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л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ун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а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стр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а - а…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Лесенка из сло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155736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046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В каких словах растет ель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712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Придумать слова, в состав которых входит слово 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ель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Например: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карам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ел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Карам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 кис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 писат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 учит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 меб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 кап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 портф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 м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 понед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ник, картоф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3. Третий лишн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Гри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л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гра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ел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ушист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н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Ёл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егуроч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ед Мороз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иш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ляш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ти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Третий лишн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луб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рас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шист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о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сел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нцева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пис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Солнц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б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18:06:07Z</dcterms:created>
  <dc:creator>WinStyle</dc:creator>
  <dc:description/>
  <dc:language>en-US</dc:language>
  <cp:lastModifiedBy>WinStyle</cp:lastModifiedBy>
  <dcterms:modified xsi:type="dcterms:W3CDTF">2015-10-16T19:21:48Z</dcterms:modified>
  <cp:revision>18</cp:revision>
  <dc:subject/>
  <dc:title>Час занимательной грамматики «Люби и знай русский  язык»</dc:title>
</cp:coreProperties>
</file>