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D5F-23A2-4533-BF29-8E08CE0E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39D-B034-4713-8183-C509F5A3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EA3A-1692-42D8-904C-3652BAC9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A90-43D0-4730-B1B0-7DCE7709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9053-9023-4DD3-A321-E3BA69A8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8898-FE0F-41E3-8A42-AC9A907D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4CD5-A3D0-4E59-AB7B-21C21C37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CB82-A929-4472-8344-2898B0E0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16F9-3422-448E-9A75-5C445CB9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0875-ACFE-434F-9CBA-FFA79E62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2DBC-0AB9-4976-95F1-3A0DC6D2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836-E7C5-42C6-AFF7-46FF41A4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3992-8DCD-4C89-A76B-65D6E1E2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3F13-A6FB-4A94-921E-2BA6D2DC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CE3B-2423-46D7-8EF4-629C43D4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22E9-B7CD-4495-899F-50427A45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A6F6-382A-41B6-92C8-9EB5902C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937-B32B-47D5-B6B9-62FC20A5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52C-4739-4484-A5B9-58FEC758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4CB-CB9D-46CB-9815-49B89A12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ED7-17EE-4653-927A-0829CE5F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3F8-9051-483F-8B76-2F3004B4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383-B95F-49BC-AF55-6B127F6A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25F-1E9F-4AD2-9B48-300EE405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200D-A70A-4958-A781-15D3BFFBF2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92CD-BB76-4E71-B68C-4D23E72628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Веселая грамматик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99cc"/>
                </a:solidFill>
                <a:latin typeface="Tahoma"/>
              </a:rPr>
              <a:t>Будем мы сейчас играть,</a:t>
            </a:r>
            <a:br>
              <a:rPr sz="4400"/>
            </a:br>
            <a:r>
              <a:rPr b="0" lang="ru-RU" sz="4400" spc="-1" strike="noStrike">
                <a:solidFill>
                  <a:srgbClr val="0099cc"/>
                </a:solidFill>
                <a:latin typeface="Tahoma"/>
              </a:rPr>
              <a:t>Запрещается молчать.</a:t>
            </a:r>
            <a:br>
              <a:rPr sz="4400"/>
            </a:br>
            <a:r>
              <a:rPr b="0" lang="ru-RU" sz="4400" spc="-1" strike="noStrike">
                <a:solidFill>
                  <a:srgbClr val="0099cc"/>
                </a:solidFill>
                <a:latin typeface="Tahoma"/>
              </a:rPr>
              <a:t>Ну-ка, дружно отвечаем</a:t>
            </a:r>
            <a:br>
              <a:rPr sz="4400"/>
            </a:br>
            <a:r>
              <a:rPr b="0" lang="ru-RU" sz="4400" spc="-1" strike="noStrike">
                <a:solidFill>
                  <a:srgbClr val="0099cc"/>
                </a:solidFill>
                <a:latin typeface="Tahoma"/>
              </a:rPr>
              <a:t>И друг-друга выручаем!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4. Отгадай загад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День прошел, темно вокруг,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появился в небе круг.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В эту ночь взошла она -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белоснежная   …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Отгадай загад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На дворе стоит зима,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льдом покрыта вся она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Ты с нее съезжаешь бойко,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ну конечно это …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Отгадай загад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Утром небо озарило.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Свет, тепло свое пролило.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Нежно светит нам в оконце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ярко-желтенькое</a:t>
            </a: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 ….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Отгадай загад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Он со стенами и с крышей: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есть пониже, есть повыше.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Он с дверями и с окном.</a:t>
            </a:r>
            <a:br>
              <a:rPr sz="4800"/>
            </a:br>
            <a:r>
              <a:rPr b="0" i="1" lang="en-US" sz="4800" spc="-1" strike="noStrike">
                <a:solidFill>
                  <a:srgbClr val="0099cc"/>
                </a:solidFill>
                <a:latin typeface="Tahoma"/>
              </a:rPr>
              <a:t>Ну конечно это…</a:t>
            </a:r>
            <a:r>
              <a:rPr b="0" lang="en-US" sz="3200" spc="-1" strike="noStrike">
                <a:solidFill>
                  <a:srgbClr val="0099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1987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2760" y="32220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189000"/>
            <a:ext cx="35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84720" y="1197000"/>
            <a:ext cx="3744720" cy="1855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2520720" cy="192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500720" y="3860640"/>
            <a:ext cx="27367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0"/>
          <a:ext cx="9144000" cy="68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216000"/>
          <a:ext cx="8497800" cy="66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6000"/>
                    <a:ext cx="8497800" cy="66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8000" y="14400"/>
          <a:ext cx="9036000" cy="68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400"/>
                    <a:ext cx="9036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КРАСНАЯ ШАПОЧ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арусель- крас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ыня – на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Шар – ш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Б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чка - 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чк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628640"/>
          <a:ext cx="449100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449100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63360"/>
          <a:ext cx="9144000" cy="681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360"/>
                    <a:ext cx="9144000" cy="68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Расположи  слова в алфавитном порядк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он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в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гр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езьяна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пард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лк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раф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дведь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лка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яц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бан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от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нтера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ж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сорог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кал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тилопа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рь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ыс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тилоп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Склад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ы – 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Ёлка – к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м - 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4000" y="1628640"/>
          <a:ext cx="4038480" cy="46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403848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6. Составь предложения по данной картин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013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Наступила зима.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5972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Письмо по памяти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Вот пришла зима серебристая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Белым снегом замела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оле чисто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Ты молодец!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670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Расположи слова в алфавитном порядк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лон, лев, тигр, обезьяна, гепард, волк, жираф, медведь, белка, заяц, кабан, енот, пантера, ёж, носорог, шакал, антилопа, хорь, рыс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тилопа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лка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лк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пард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от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ж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раф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яц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бан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в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дведь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сорог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езьяна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нтера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ысь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он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гр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кал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р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Цепочк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Составь цепочку из имен существительных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Точк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нгел -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л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ун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а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стр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а - а…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Лесенка из сло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155736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046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В каких словах растет ель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712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Придумать слова, в состав которых входит слово 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ель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Например: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карам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ел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Карам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 кис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 писат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 учит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 меб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 кап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 портф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 м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 понед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ник, картоф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л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3. Третий лишн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Гри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л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гра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ел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ушист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н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Ёл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егуроч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ед Мороз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иш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ляш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ти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Третий лишн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луб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рас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шист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о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сел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нцева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пис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Солнц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б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18:06:07Z</dcterms:created>
  <dc:creator>WinStyle</dc:creator>
  <dc:description/>
  <dc:language>en-US</dc:language>
  <cp:lastModifiedBy>WinStyle</cp:lastModifiedBy>
  <dcterms:modified xsi:type="dcterms:W3CDTF">2015-10-16T19:21:48Z</dcterms:modified>
  <cp:revision>18</cp:revision>
  <dc:subject/>
  <dc:title>Час занимательной грамматики «Люби и знай русский  язык»</dc:title>
</cp:coreProperties>
</file>