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A85-732A-423E-9808-616DE6E1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EEA-FF59-4A21-8DA9-5E4C5FED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ABD-A88B-43D7-8A57-6A0932D7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B78-FC1B-42AA-866E-B00F3337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C04-866D-4C8A-BB1A-5361EF52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509-5423-4E5D-B883-333F29E2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951-FE0F-42D9-AE05-1CF92C5A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D69-74A7-462A-A8FD-3EBE6883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36A-E8C9-42C5-87BD-345B7C7C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790-2262-41EF-878C-235F4DC6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E1B-41A2-4D9E-868F-CC79AED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784-12A6-40FD-AE6F-F2E25ED2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0113-DECC-42F5-864D-152B4EA87A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80000" y="3160440"/>
            <a:ext cx="39204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826920" y="1773360"/>
            <a:ext cx="7201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Противостоять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агрессии 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332000" y="1996920"/>
            <a:ext cx="552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УТИ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РЕОДО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74560" y="549360"/>
            <a:ext cx="8569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НТРОЛЬ ОТРИЦАТЕЛЬНЫХ ЭМО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УМЕНИЕ СЛУШ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НЯТИЕ НАПРЯЖЕНИЯ ЧЕРЕЗ   СЧ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ДЫХ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НУТРЕННЯЯ УЛЫБ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КАЛИВАНИЕ, ОБЛИВАНИЕ ВОД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АПРАВЛЕНИЕ АГРЕССИИ НА НЕОДУШЕВЛЕННЫЙ ПРЕДМ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БРАЩЕНИЕ К ПСИХОЛО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1258920" y="1413000"/>
            <a:ext cx="6913440" cy="32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7c80"/>
                    </a:gs>
                  </a:gsLst>
                  <a:lin ang="5400000"/>
                </a:gradFill>
                <a:latin typeface="Monotype Corsiva"/>
              </a:rPr>
              <a:t>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7c8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ВИДЫ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АГР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ФИЗИЧЕСК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ЕРБАЛЬН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СВЕНН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ЗДРА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ОДОЗР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ЕГАТИВ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97520"/>
            <a:ext cx="77724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395280" y="2367000"/>
            <a:ext cx="8424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РИЧ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АГР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70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56908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ИЗКИЙ УРОВЕНЬ ОБ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ГРАНИЧЕНИЕ СВОБОДЫ, АКТИВНОСТИ, САМОВЫРА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ТКЛОНЕНИЕ В ПОВЕДЕНИИ (АЛКОГОЛИЗМ, НАРКОМА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ОБЛЕМЫ ВОС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ЕУМЕНИЕ ОТВЕЧАТЬ ЗА СВОИ ПОСТУП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МПЛЕКС НЕПОЛНОЦ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ЩИТНАЯ РЕАКЦИЯ НА СТР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692360" y="1905120"/>
            <a:ext cx="5957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РОЯВЛЕ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АГР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692280"/>
            <a:ext cx="72723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Д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УГРОЗ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ГРУБ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СКОРБ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СПЫЛЬЧИВ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Р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Л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116000" y="2459160"/>
            <a:ext cx="574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оследств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агр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УНИ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АПРЯ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ЗЛОБЛ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ЗОЧА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ЕВОЗМОЖНОСТЬ ДОСТИЧЬ Ц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БЕЗЫСХОД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ТРЕВ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БЕСПОМОЩ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ЕНУ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ТВЕТН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6T15:27:01Z</dcterms:modified>
  <cp:revision>18</cp:revision>
  <dc:subject/>
  <dc:title>PowerPoint Presentation</dc:title>
</cp:coreProperties>
</file>