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DF7-F428-42A4-9B1F-76E748EF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017-01CA-4F3E-A7D5-3E3CA9F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BDA-5257-4549-B915-A33EDDB8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48E-AE0E-44CE-B16C-985413F5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F34-9FE1-4F56-9829-47CA291C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4AF-FD3A-4779-AD1E-704176C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C31-93A8-43A1-A66A-3B72B95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F4A-CE87-46DC-BAD0-0E12EE1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C3-1CA3-4F1A-817C-6D73F793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99B-A56B-4A7A-A366-912B49A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C80-4C23-476B-B28E-681EF3F7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C79-23CB-49CC-BC24-E817415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AD0-49C4-4865-B8C0-9D308F3284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0" y="3160440"/>
            <a:ext cx="3920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826920" y="1773360"/>
            <a:ext cx="7201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Противостоять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агрессии 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332000" y="1996920"/>
            <a:ext cx="552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УТ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ЕОДО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74560" y="54936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НТРОЛЬ ОТРИЦАТЕЛЬНЫХ ЭМО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МЕНИЕ СЛУШ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ЯТИЕ НАПРЯЖЕНИЯ ЧЕРЕЗ   СЧ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ДЫХ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НУТРЕННЯЯ УЛЫБ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КАЛИВАНИЕ, ОБЛИВАНИЕ В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АВЛЕНИЕ АГРЕССИИ НА НЕОДУШЕВЛЕННЫЙ ПРЕДМ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РАЩЕНИЕ К ПСИХОЛО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1258920" y="1413000"/>
            <a:ext cx="691344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Monotype Corsiva"/>
              </a:rPr>
              <a:t>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7c8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ВИДЫ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ФИЗИЧЕСК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ЕРБАЛЬ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СВЕН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ЗД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ОДОЗР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ГАТИВ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97520"/>
            <a:ext cx="77724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395280" y="2367000"/>
            <a:ext cx="842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ИЧ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56908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ИЗКИЙ УРОВЕНЬ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ГРАНИЧЕНИЕ СВОБОДЫ, АКТИВНОСТИ, САМОВЫ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КЛОНЕНИЕ В ПОВЕДЕНИИ (АЛКОГОЛИЗМ, НАРКОМ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БЛЕМЫ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УМЕНИЕ ОТВЕЧАТЬ ЗА СВОИ ПОСТ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МПЛЕКС НЕПОЛНОЦ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ЩИТНАЯ РЕАКЦИЯ НА СТ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692360" y="1905120"/>
            <a:ext cx="5957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ОЯВЛЕ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692280"/>
            <a:ext cx="72723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Д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ГРО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ГРУБ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СКОРБ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СПЫЛЬЧИВ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116000" y="2459160"/>
            <a:ext cx="574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оследств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агр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УНИ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Я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ЗЛОБЛ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ЗОЧА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ВОЗМОЖНОСТЬ ДОСТИЧЬ 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БЕЗЫСХОД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РЕВ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БЕСПОМОЩ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ЕНУ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ВЕТ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6T15:27:01Z</dcterms:modified>
  <cp:revision>18</cp:revision>
  <dc:subject/>
  <dc:title>PowerPoint Presentation</dc:title>
</cp:coreProperties>
</file>