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6B1-F2B3-4224-BFBE-D45E52C3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2A5-6193-4D3D-A703-B4B0D702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129-7499-4CCD-BF46-8045934A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882-8FE9-40BB-A1EC-1FD99764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C9A-2EEA-4705-9114-444BAB8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A96-F64F-4782-9246-C1DAD7CA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8BE-9E6B-41EC-9830-0109EA8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232-ECD4-414D-B40D-DEBB326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130-9B66-4C19-9CB3-A87708A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41-1C43-4DB4-85FD-517B1073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FB9-957E-41C1-8039-E022965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409-8E01-4214-B38E-E89D10A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7A0-36EE-4F4C-9FEE-820693548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дбор видов учебной деятельности и методов обучения, соответствующих запланированным образовательным результа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чебное компьютер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00040" y="1643040"/>
            <a:ext cx="821520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следовательность моделей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учающийся вводит в предметную область,   предлагая  ему  последовательность соответствующих мод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500040" y="2786040"/>
            <a:ext cx="821520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студенту дают задания на исследование, прогноз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500040" y="3929040"/>
            <a:ext cx="82152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яснения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  образовательные   действия   реализуются в учебной модели на основе классификации различных типов объясн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500040" y="5214960"/>
            <a:ext cx="8143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чие гипотез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это инструменты обучаемого в формировании   и  обосновании   различных   предпо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лассификация видов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82680" y="17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 rot="10800000">
            <a:off x="250920" y="3068280"/>
            <a:ext cx="2735280" cy="2808360"/>
          </a:xfrm>
          <a:prstGeom prst="wedgeRoundRectCallout">
            <a:avLst>
              <a:gd name="adj1" fmla="val -26263"/>
              <a:gd name="adj2" fmla="val 100986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о слов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rot="10800000">
            <a:off x="3276720" y="2636640"/>
            <a:ext cx="2735280" cy="2808000"/>
          </a:xfrm>
          <a:prstGeom prst="wedgeRoundRectCallout">
            <a:avLst>
              <a:gd name="adj1" fmla="val -2935"/>
              <a:gd name="adj2" fmla="val 82333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rot="10800000">
            <a:off x="6227640" y="3284280"/>
            <a:ext cx="2735280" cy="2808360"/>
          </a:xfrm>
          <a:prstGeom prst="wedgeRoundRectCallout">
            <a:avLst>
              <a:gd name="adj1" fmla="val 42625"/>
              <a:gd name="adj2" fmla="val 104546"/>
              <a:gd name="adj3" fmla="val 16667"/>
            </a:avLst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 прак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f7ddc008737"/>
          <p:cNvPicPr/>
          <p:nvPr/>
        </p:nvPicPr>
        <p:blipFill>
          <a:blip r:embed="rId1"/>
          <a:stretch/>
        </p:blipFill>
        <p:spPr>
          <a:xfrm>
            <a:off x="-674640" y="14400"/>
            <a:ext cx="981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Organization Chart 6"/>
          <p:cNvGrpSpPr/>
          <p:nvPr/>
        </p:nvGrpSpPr>
        <p:grpSpPr>
          <a:xfrm>
            <a:off x="166680" y="174600"/>
            <a:ext cx="8569800" cy="6535440"/>
            <a:chOff x="166680" y="174600"/>
            <a:chExt cx="8569800" cy="6535440"/>
          </a:xfrm>
        </p:grpSpPr>
        <p:cxnSp>
          <p:nvCxnSpPr>
            <p:cNvPr id="51" name="_s15382"/>
            <p:cNvCxnSpPr/>
            <p:nvPr/>
          </p:nvCxnSpPr>
          <p:spPr>
            <a:xfrm rot="10800000">
              <a:off x="1078560" y="794160"/>
              <a:ext cx="842760" cy="5635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2" name="_s15380"/>
            <p:cNvCxnSpPr/>
            <p:nvPr/>
          </p:nvCxnSpPr>
          <p:spPr>
            <a:xfrm rot="10800000">
              <a:off x="1078560" y="794160"/>
              <a:ext cx="842760" cy="4790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3" name="_s15378"/>
            <p:cNvCxnSpPr/>
            <p:nvPr/>
          </p:nvCxnSpPr>
          <p:spPr>
            <a:xfrm rot="10800000">
              <a:off x="1078560" y="727560"/>
              <a:ext cx="842760" cy="39452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4" name="_s15376"/>
            <p:cNvCxnSpPr/>
            <p:nvPr/>
          </p:nvCxnSpPr>
          <p:spPr>
            <a:xfrm rot="10800000">
              <a:off x="1083960" y="737280"/>
              <a:ext cx="842760" cy="30999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5" name="_s15373"/>
            <p:cNvCxnSpPr/>
            <p:nvPr/>
          </p:nvCxnSpPr>
          <p:spPr>
            <a:xfrm rot="10800000">
              <a:off x="1071720" y="885960"/>
              <a:ext cx="842760" cy="22546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6" name="_s15372"/>
            <p:cNvCxnSpPr/>
            <p:nvPr/>
          </p:nvCxnSpPr>
          <p:spPr>
            <a:xfrm rot="10800000">
              <a:off x="1071720" y="717840"/>
              <a:ext cx="842760" cy="14094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57" name="_s15371"/>
            <p:cNvCxnSpPr/>
            <p:nvPr/>
          </p:nvCxnSpPr>
          <p:spPr>
            <a:xfrm rot="10800000">
              <a:off x="1071720" y="7826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58" name="_s15367"/>
            <p:cNvSpPr/>
            <p:nvPr/>
          </p:nvSpPr>
          <p:spPr>
            <a:xfrm>
              <a:off x="166680" y="17460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со словесной основ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5368"/>
            <p:cNvSpPr/>
            <p:nvPr/>
          </p:nvSpPr>
          <p:spPr>
            <a:xfrm>
              <a:off x="1861920" y="10198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амостоятельная работа с учебником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электронными образовательными ресурс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5369"/>
            <p:cNvSpPr/>
            <p:nvPr/>
          </p:nvSpPr>
          <p:spPr>
            <a:xfrm>
              <a:off x="1815480" y="18903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дготовка и представление публич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ыступления в виде презент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5370"/>
            <p:cNvSpPr/>
            <p:nvPr/>
          </p:nvSpPr>
          <p:spPr>
            <a:xfrm>
              <a:off x="1873800" y="271044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оиск информации в электронных справоч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зданиях: электронной энциклопедии, словаря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5375"/>
            <p:cNvSpPr/>
            <p:nvPr/>
          </p:nvSpPr>
          <p:spPr>
            <a:xfrm>
              <a:off x="1827360" y="34815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тбор и сравнение материала из нескольки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сточников (ЭОР, текст учебника, ресурс сети Интерн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5377"/>
            <p:cNvSpPr/>
            <p:nvPr/>
          </p:nvSpPr>
          <p:spPr>
            <a:xfrm>
              <a:off x="1873800" y="440100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оставление с помощью различных компьютер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редств обучения плана, тезисов ,резюме, аннот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5379"/>
            <p:cNvSpPr/>
            <p:nvPr/>
          </p:nvSpPr>
          <p:spPr>
            <a:xfrm>
              <a:off x="1914840" y="5246280"/>
              <a:ext cx="5464080" cy="702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дготовка докладов и выступлений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спользованием разнообразных источни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5381"/>
            <p:cNvSpPr/>
            <p:nvPr/>
          </p:nvSpPr>
          <p:spPr>
            <a:xfrm>
              <a:off x="1921680" y="614664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ыполнение тестовых заданий, решение зада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f7ddc008737"/>
          <p:cNvPicPr/>
          <p:nvPr/>
        </p:nvPicPr>
        <p:blipFill>
          <a:blip r:embed="rId1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Organization Chart 6"/>
          <p:cNvGrpSpPr/>
          <p:nvPr/>
        </p:nvGrpSpPr>
        <p:grpSpPr>
          <a:xfrm>
            <a:off x="166680" y="173160"/>
            <a:ext cx="8569800" cy="6253920"/>
            <a:chOff x="166680" y="173160"/>
            <a:chExt cx="8569800" cy="6253920"/>
          </a:xfrm>
        </p:grpSpPr>
        <p:cxnSp>
          <p:nvCxnSpPr>
            <p:cNvPr id="68" name="_s15382"/>
            <p:cNvCxnSpPr/>
            <p:nvPr/>
          </p:nvCxnSpPr>
          <p:spPr>
            <a:xfrm rot="10800000">
              <a:off x="1078560" y="792360"/>
              <a:ext cx="842760" cy="56347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69" name="_s15380"/>
            <p:cNvCxnSpPr/>
            <p:nvPr/>
          </p:nvCxnSpPr>
          <p:spPr>
            <a:xfrm rot="10800000">
              <a:off x="1078560" y="792360"/>
              <a:ext cx="842760" cy="4789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0" name="_s15378"/>
            <p:cNvCxnSpPr/>
            <p:nvPr/>
          </p:nvCxnSpPr>
          <p:spPr>
            <a:xfrm rot="10800000">
              <a:off x="1078560" y="725760"/>
              <a:ext cx="842760" cy="3944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1" name="_s15376"/>
            <p:cNvCxnSpPr/>
            <p:nvPr/>
          </p:nvCxnSpPr>
          <p:spPr>
            <a:xfrm rot="10800000">
              <a:off x="1083960" y="735840"/>
              <a:ext cx="842760" cy="30996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2" name="_s15373"/>
            <p:cNvCxnSpPr/>
            <p:nvPr/>
          </p:nvCxnSpPr>
          <p:spPr>
            <a:xfrm rot="10800000">
              <a:off x="1071720" y="884160"/>
              <a:ext cx="842760" cy="22543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3" name="_s15372"/>
            <p:cNvCxnSpPr/>
            <p:nvPr/>
          </p:nvCxnSpPr>
          <p:spPr>
            <a:xfrm rot="10800000">
              <a:off x="1054440" y="522720"/>
              <a:ext cx="842760" cy="14090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74" name="_s15371"/>
            <p:cNvCxnSpPr/>
            <p:nvPr/>
          </p:nvCxnSpPr>
          <p:spPr>
            <a:xfrm rot="10800000">
              <a:off x="1071720" y="7808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75" name="_s15367"/>
            <p:cNvSpPr/>
            <p:nvPr/>
          </p:nvSpPr>
          <p:spPr>
            <a:xfrm>
              <a:off x="166680" y="17316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на основе восприятия образ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68"/>
            <p:cNvSpPr/>
            <p:nvPr/>
          </p:nvSpPr>
          <p:spPr>
            <a:xfrm>
              <a:off x="1861920" y="10180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смотр и обсуждение учебных фильмов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езентаций, ролик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69"/>
            <p:cNvSpPr/>
            <p:nvPr/>
          </p:nvSpPr>
          <p:spPr>
            <a:xfrm>
              <a:off x="1815480" y="16401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Участие в телеконференциях, вебинар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370"/>
            <p:cNvSpPr/>
            <p:nvPr/>
          </p:nvSpPr>
          <p:spPr>
            <a:xfrm>
              <a:off x="1810080" y="2356200"/>
              <a:ext cx="550404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аблюдение за демонстрациями преподавател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5375"/>
            <p:cNvSpPr/>
            <p:nvPr/>
          </p:nvSpPr>
          <p:spPr>
            <a:xfrm>
              <a:off x="1803600" y="30153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бъяснение и интерпретация наблюдаемых явл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5377"/>
            <p:cNvSpPr/>
            <p:nvPr/>
          </p:nvSpPr>
          <p:spPr>
            <a:xfrm>
              <a:off x="1861920" y="384336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 графиков, таблиц, сх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5379"/>
            <p:cNvSpPr/>
            <p:nvPr/>
          </p:nvSpPr>
          <p:spPr>
            <a:xfrm>
              <a:off x="1950840" y="4527720"/>
              <a:ext cx="5462640" cy="702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зучение устройства механизмов и принцип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их действ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5381"/>
            <p:cNvSpPr/>
            <p:nvPr/>
          </p:nvSpPr>
          <p:spPr>
            <a:xfrm>
              <a:off x="1885680" y="544176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Анализ производственных ситуаций, ситуативн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Скругленный прямоугольник 12"/>
          <p:cNvSpPr/>
          <p:nvPr/>
        </p:nvSpPr>
        <p:spPr>
          <a:xfrm>
            <a:off x="1943280" y="6153120"/>
            <a:ext cx="5452920" cy="549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нализ проблемных учебных ситу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7327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534204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 flipH="1">
            <a:off x="250200" y="1197000"/>
            <a:ext cx="1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rganization Chart 6"/>
          <p:cNvGrpSpPr/>
          <p:nvPr/>
        </p:nvGrpSpPr>
        <p:grpSpPr>
          <a:xfrm>
            <a:off x="324000" y="322200"/>
            <a:ext cx="8569800" cy="6535440"/>
            <a:chOff x="324000" y="322200"/>
            <a:chExt cx="8569800" cy="6535440"/>
          </a:xfrm>
        </p:grpSpPr>
        <p:cxnSp>
          <p:nvCxnSpPr>
            <p:cNvPr id="88" name="_s15382"/>
            <p:cNvCxnSpPr/>
            <p:nvPr/>
          </p:nvCxnSpPr>
          <p:spPr>
            <a:xfrm rot="10800000">
              <a:off x="1235880" y="941760"/>
              <a:ext cx="842760" cy="5635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89" name="_s15380"/>
            <p:cNvCxnSpPr/>
            <p:nvPr/>
          </p:nvCxnSpPr>
          <p:spPr>
            <a:xfrm rot="10800000">
              <a:off x="1235880" y="941760"/>
              <a:ext cx="842760" cy="47905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0" name="_s15378"/>
            <p:cNvCxnSpPr/>
            <p:nvPr/>
          </p:nvCxnSpPr>
          <p:spPr>
            <a:xfrm rot="10800000">
              <a:off x="1235880" y="875160"/>
              <a:ext cx="842760" cy="39452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1" name="_s15376"/>
            <p:cNvCxnSpPr/>
            <p:nvPr/>
          </p:nvCxnSpPr>
          <p:spPr>
            <a:xfrm rot="10800000">
              <a:off x="1241280" y="884880"/>
              <a:ext cx="842760" cy="30999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2" name="_s15373"/>
            <p:cNvCxnSpPr/>
            <p:nvPr/>
          </p:nvCxnSpPr>
          <p:spPr>
            <a:xfrm rot="10800000">
              <a:off x="1229040" y="1033560"/>
              <a:ext cx="842760" cy="22546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3" name="_s15372"/>
            <p:cNvCxnSpPr/>
            <p:nvPr/>
          </p:nvCxnSpPr>
          <p:spPr>
            <a:xfrm rot="10800000">
              <a:off x="1229040" y="865440"/>
              <a:ext cx="842760" cy="14094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94" name="_s15371"/>
            <p:cNvCxnSpPr/>
            <p:nvPr/>
          </p:nvCxnSpPr>
          <p:spPr>
            <a:xfrm rot="10800000">
              <a:off x="1229040" y="930240"/>
              <a:ext cx="842760" cy="56412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95" name="_s15367"/>
            <p:cNvSpPr/>
            <p:nvPr/>
          </p:nvSpPr>
          <p:spPr>
            <a:xfrm>
              <a:off x="324000" y="322200"/>
              <a:ext cx="8569800" cy="56340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2600" spc="-1" strike="noStrike">
                  <a:solidFill>
                    <a:srgbClr val="008000"/>
                  </a:solidFill>
                  <a:latin typeface="Arial"/>
                </a:rPr>
                <a:t>Виды деятельности с практической основ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8"/>
            <p:cNvSpPr/>
            <p:nvPr/>
          </p:nvSpPr>
          <p:spPr>
            <a:xfrm>
              <a:off x="2019240" y="1167480"/>
              <a:ext cx="55173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становка опытов для демонстрации групп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5369"/>
            <p:cNvSpPr/>
            <p:nvPr/>
          </p:nvSpPr>
          <p:spPr>
            <a:xfrm>
              <a:off x="1972800" y="2037960"/>
              <a:ext cx="55638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дготовка и оформление с помощь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кладных программ отч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5370"/>
            <p:cNvSpPr/>
            <p:nvPr/>
          </p:nvSpPr>
          <p:spPr>
            <a:xfrm>
              <a:off x="2031120" y="285804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5375"/>
            <p:cNvSpPr/>
            <p:nvPr/>
          </p:nvSpPr>
          <p:spPr>
            <a:xfrm>
              <a:off x="1984680" y="3629160"/>
              <a:ext cx="555156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полнение работ практикум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5377"/>
            <p:cNvSpPr/>
            <p:nvPr/>
          </p:nvSpPr>
          <p:spPr>
            <a:xfrm>
              <a:off x="2031120" y="4548600"/>
              <a:ext cx="550512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ведение исследовательского эксперимен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5379"/>
            <p:cNvSpPr/>
            <p:nvPr/>
          </p:nvSpPr>
          <p:spPr>
            <a:xfrm>
              <a:off x="2072160" y="5393880"/>
              <a:ext cx="5464080" cy="7023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делирование и констру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5381"/>
            <p:cNvSpPr/>
            <p:nvPr/>
          </p:nvSpPr>
          <p:spPr>
            <a:xfrm>
              <a:off x="2079000" y="6294240"/>
              <a:ext cx="5457600" cy="5634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шение экспериментальных задач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6"/>
          <p:cNvSpPr/>
          <p:nvPr/>
        </p:nvSpPr>
        <p:spPr>
          <a:xfrm>
            <a:off x="2290680" y="278136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учебной и научно-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ипы учебных ситу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00000" y="19890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туация-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- 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- трен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ссическая ситу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живая ситу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ействия по алгорит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ситуация - иллюстр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14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27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сточник позн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14800" y="260280"/>
            <a:ext cx="567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альные, наглядные, практические мет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14200" y="14288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етоды л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286080" y="114300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организации обучения по выполнению лабораторных, практических работ по заданию и под руководством педаг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2428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ип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340000" y="2571840"/>
            <a:ext cx="523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ельно – иллюстративные,                              проблемно – развивающие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79280" y="3571920"/>
            <a:ext cx="3456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вень познавательной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564000" y="3571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тивные, продуктивные, эвристические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79280" y="48578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вень проблем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419640" y="47149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логический, диалогический, эвристический, исследовательский, алгоритмический, программный 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28760" y="57862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идактическая цель 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571920" y="607212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оды стимулирования, организации и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8f7ddc008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27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Возможности образовательной информацион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42920" y="1285920"/>
            <a:ext cx="9001080" cy="9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ть учебным процесс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и редактировать электронные таблицы, тексты и през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 и коллективно создавать и редактировать интерактивные учебные материалы, образовательн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ь мониторинг и фиксировать ход учебного процесса и результаты освоения основной образовательной программы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различные виды и формы контроля знаний, умений и навыков, осуществлять адаптивную (дифференцированную) подготовку к государственной (итоговой) аттес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взаимодействие между участниками учебного процесса, в том числе дистанционное (посредством локальных и глобальных сетей) использование данных, формируемых в ходе учебного процесса для решения задач управления образовательн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8f7ddc008737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етоды обуч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85880" y="1357200"/>
            <a:ext cx="3600360" cy="100656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на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785880" y="2643120"/>
            <a:ext cx="3672000" cy="92880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оциативны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85880" y="3857760"/>
            <a:ext cx="3600360" cy="8636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вын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85880" y="5072040"/>
            <a:ext cx="3672000" cy="8636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5143680" y="4500720"/>
            <a:ext cx="3600360" cy="86328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 ре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214960" y="2143080"/>
            <a:ext cx="3600360" cy="92880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ое компьютер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214960" y="3357720"/>
            <a:ext cx="3600360" cy="9284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посред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конфер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3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3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3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4:15:22Z</dcterms:created>
  <dc:creator>Tylen'.Inc</dc:creator>
  <dc:description/>
  <dc:language>en-US</dc:language>
  <cp:lastModifiedBy>User</cp:lastModifiedBy>
  <dcterms:modified xsi:type="dcterms:W3CDTF">2015-03-30T13:41:28Z</dcterms:modified>
  <cp:revision>34</cp:revision>
  <dc:subject/>
  <dc:title>Формы организации учебного процес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30000000000010250600207f5200358026400</vt:lpwstr>
  </property>
</Properties>
</file>