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A67-910A-4B6C-82C3-2674AD727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8789-D619-4163-891D-672EC2DAC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7DB-97C6-44F5-87C6-9F456EC8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F6F-0CEF-49B3-9814-A185E32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AC3-AFB5-4767-9E43-6479A274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CDE-4A36-4DFF-A967-E81EACC3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48C2-28CA-4397-9BE7-46D2F91C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CDF5-5F52-409E-907D-F2B5BC9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358B-C1F0-4387-B5D0-2D25B6B7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7231-DE49-48C1-8361-A6A4BA5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D808-6978-4EE5-B5EE-AD4BEB50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5252-CFC2-4171-A6FD-1CC1C71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55B4-AD53-49DD-B0F5-0FE71567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5B3-C44A-4256-9AE0-7968CA22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2371-4B44-451A-8C68-4469EA3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0ACA-2611-47E8-B696-3EAC582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06ED-71C4-499F-94F5-A72F58B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3B1-6040-4186-AFBD-21B9341E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B0AD-7072-4086-A6FE-77EA4861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76D-EBDB-4BDD-B91C-63C5FDD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420-B595-418D-8793-EDFFFC9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267-BDB6-45A3-9F51-57931D7C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392-A4F2-4D3F-B685-B05E646B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D21-8494-4B8F-87D4-4E1C1AB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18D-40FA-463A-A399-BF98140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63C-83F9-406F-9B9C-447272F7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D0EA-7FB7-4BFF-AADF-948DC1F5F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BA5-2B4F-4E1F-8746-214E6866F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39257"/>
                </a:solidFill>
                <a:latin typeface="Arial"/>
              </a:rPr>
              <a:t>Родительское собрание </a:t>
            </a:r>
            <a:r>
              <a:rPr b="0" lang="ru-RU" sz="4800" spc="-1" strike="noStrike">
                <a:solidFill>
                  <a:srgbClr val="cf1f45"/>
                </a:solidFill>
                <a:latin typeface="Arial"/>
              </a:rPr>
              <a:t>«Как помочь ребёнку стать внимательным»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1064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можно и нужно разви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Легко отвлекаемое внима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2464920"/>
            <a:ext cx="8569080" cy="4132440"/>
          </a:xfrm>
          <a:prstGeom prst="rect">
            <a:avLst/>
          </a:prstGeom>
          <a:solidFill>
            <a:srgbClr val="ebdb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ки –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9257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2193840"/>
            <a:ext cx="8229600" cy="4259520"/>
          </a:xfrm>
          <a:prstGeom prst="rect">
            <a:avLst/>
          </a:prstGeom>
          <a:solidFill>
            <a:srgbClr val="ebdb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ть буквы в словах –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мерах  пропускают цифры и знаки: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Если ребёнок переставляет слоги в словах, то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538800"/>
          </a:xfrm>
          <a:prstGeom prst="rect">
            <a:avLst/>
          </a:prstGeom>
          <a:solidFill>
            <a:srgbClr val="ebdb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Если ребёнок добавляет в слова гласные, то -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вязано с неустойчивостью произвольного внимания, например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f1f45"/>
                </a:solidFill>
                <a:latin typeface="Times New Roman"/>
              </a:rPr>
              <a:t>Цели:</a:t>
            </a:r>
            <a:r>
              <a:rPr b="1" i="1" lang="ru-RU" sz="4400" spc="-1" strike="noStrike">
                <a:solidFill>
                  <a:srgbClr val="cf1f45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b39257"/>
                </a:solidFill>
                <a:latin typeface="Times New Roman"/>
              </a:rPr>
              <a:t>1)  осмыслить то, что называют  «вниманием» и  познакомиться   основными свойствами внимания;</a:t>
            </a:r>
            <a:br>
              <a:rPr sz="3600"/>
            </a:br>
            <a:r>
              <a:rPr b="0" lang="ru-RU" sz="3600" spc="-1" strike="noStrike">
                <a:solidFill>
                  <a:srgbClr val="b39257"/>
                </a:solidFill>
                <a:latin typeface="Times New Roman"/>
              </a:rPr>
              <a:t>2) изучить в ходе собрания  упражнения и игры, которые способствуют  развитию внимания учащихся.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естандартные задачи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a887"/>
                </a:solidFill>
                <a:latin typeface="Arial"/>
              </a:rPr>
              <a:t>Каким этажом сверху будет  шестой этаж девятиэтажного до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a887"/>
                </a:solidFill>
                <a:latin typeface="Arial"/>
              </a:rPr>
              <a:t>Улитка от точки А проползла 2 см на север, потом 3 см на восток, потом 2 см на юг, а потом 3 см на запад. Где она оказалась в результ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Корректурная проб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IMG"/>
          <p:cNvPicPr/>
          <p:nvPr/>
        </p:nvPicPr>
        <p:blipFill>
          <a:blip r:embed="rId1"/>
          <a:stretch/>
        </p:blipFill>
        <p:spPr>
          <a:xfrm>
            <a:off x="2577960" y="1557360"/>
            <a:ext cx="4516560" cy="50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айди слов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IMG_0006"/>
          <p:cNvPicPr/>
          <p:nvPr/>
        </p:nvPicPr>
        <p:blipFill>
          <a:blip r:embed="rId1"/>
          <a:stretch/>
        </p:blipFill>
        <p:spPr>
          <a:xfrm>
            <a:off x="2387520" y="1700280"/>
            <a:ext cx="41785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айди спрятавшиеся слов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лпраптекамтрьдроздалжекарандаштмопр дятеллевшаноликлит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916360" y="2421000"/>
            <a:ext cx="208908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6443640" y="2492280"/>
            <a:ext cx="208908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2556000" y="3284640"/>
            <a:ext cx="309564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900000" y="4149720"/>
            <a:ext cx="187164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2843280" y="4149720"/>
            <a:ext cx="194472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859280" y="4149720"/>
            <a:ext cx="180036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Игровое 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«КТО ВНИМАТЕЛЬНЫЙ?»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предлагаю вам, уважаемые родители,  внимательно прослушать сказку «Лисёнок и лягушонок» Г.Юдина и подсчитать в ней количество слов со звуком «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у в большой луже, жил маленький лягушонок, который очень любил лепить из г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езет из лужи, наберет глины и сидит лепит. Сначала он лепил лепешечки. Потом стал лепить колобки и лимончики. Потом слепил слона и уже после этого – льва на лыжах и лошадь в лодке. Звери смотрели, смеялись и ласково гладили лягушонка по спине. Только один лисёнок (завидовал он, что ли?) приходил, все ломал, да еще и дразн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еленее всех зеленок – лупоглазый лягушонок! И это продолжалось до тех тор, пока лисенок не вы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шел он однажды к луже, сел рядом с лягушонком, долго смотрел, как он лепит, и грустно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Я ведь тоже раньше лепил, да только у меня ничего не полу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чего! – сказал лягушонок. – Ты не огорчайся! Зато ты роешь самые хитрые н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39257"/>
                </a:solidFill>
                <a:latin typeface="Arial"/>
              </a:rPr>
              <a:t>Игра «ПОЛСЛОВА ЗА ВАМИ»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игры становятся в круг и перебрасывают друг другу мяч. При этом бросающий громко говорит половину какого-нибудь слова, а тот, кто ловит, должен назвать его вторую половину. Например, паро-воз, теле-фон, и т. п. Бросать мяч можно любому игроку. Отвечать нужно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39257"/>
                </a:solidFill>
                <a:latin typeface="Arial"/>
              </a:rPr>
              <a:t>Игра « ПОВТОРИ БЫСТРО »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договаривается с играющими, чтобы они повторяли за ним любые слова только тогда, когда он произносит слово «повторите». Далее идет быстрый диалог-«перестрелка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у начали! Повторите – «ст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ющие повторяют: « Ст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вторите – «Ок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ющие говорят: «Ок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ажите – «Улица». Быстро – «кошка»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9257"/>
                </a:solidFill>
                <a:latin typeface="Arial"/>
              </a:rPr>
              <a:t>Дефицит внимания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 наблюдаются беспокойные движения в кистях и стопах. Сидя на стуле, ребёнок корчится, изви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сидеть спокойно на месте. Когда требуется э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Легко отвлекается на посторонние стиму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С трудом дожидается своей очереди во время игры и в различных других ситуациях в коллективе (занятия в школе, экскурс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На вопросы часто отвечает не задумываясь, не выслушав до кон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При выполнении предложенных заданий испытывает сложности (не связанные с негативным поведением или недостаточностью поним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трудом сохраняет внимание при выполнении заданий или во время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 переходит с одного незавершенного действия к друг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играть тихо, спокой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тл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Мешает другим, пристает к окружающим (например, вмешивается в игры других дет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Часто складывается впечатление, что ребёнок не слушает обращённую к нему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Теряет вещи, необходимые в школе и дома (например, игрушки, карандаши, книг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Часто совершает опасные действия. Не задумываясь о последствиях (например, выбегает на улицу, не оглядываясь по сторонам). При этом не ищет приключений или острых ощущ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знаки гиперактивности (1,2,9,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нимательности и отвлекаемости (3,6,12,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ульсивности (4,5,11,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8920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f1f45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7480080" cy="248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     </a:t>
            </a:r>
            <a:br>
              <a:rPr sz="4000"/>
            </a:br>
            <a:r>
              <a:rPr b="1" lang="ru-RU" sz="4400" spc="-1" strike="noStrike">
                <a:solidFill>
                  <a:srgbClr val="b39257"/>
                </a:solidFill>
                <a:latin typeface="Arial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b39257"/>
                </a:solidFill>
                <a:latin typeface="Arial"/>
              </a:rPr>
              <a:t>за работу !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85" name="Picture 5" descr="Рисунок2"/>
          <p:cNvPicPr/>
          <p:nvPr/>
        </p:nvPicPr>
        <p:blipFill>
          <a:blip r:embed="rId1"/>
          <a:stretch/>
        </p:blipFill>
        <p:spPr>
          <a:xfrm>
            <a:off x="1258920" y="3573360"/>
            <a:ext cx="162396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1384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39257"/>
                </a:solidFill>
                <a:latin typeface="Times New Roman"/>
              </a:rPr>
              <a:t>Внимательный ребёнок</a:t>
            </a:r>
            <a:r>
              <a:rPr b="0" lang="ru-RU" sz="5400" spc="-1" strike="noStrike">
                <a:solidFill>
                  <a:srgbClr val="b39257"/>
                </a:solidFill>
                <a:latin typeface="Times New Roman"/>
              </a:rPr>
              <a:t> – это …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133880" cy="46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на пятерки по русскому языку. Как? /С.Н.Костромина. – М.: АСТ; СПб.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Й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ЕВРОЗНАК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щенкова Л.В. Тесты, кроссворды, загадки и развивающие задания: для детей 8-10 лет/ Ярославль: Академия развития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f1f45"/>
                </a:solidFill>
                <a:latin typeface="Arial"/>
              </a:rPr>
              <a:t>Внимание </a:t>
            </a:r>
            <a:r>
              <a:rPr b="0" i="1" lang="ru-RU" sz="4400" spc="-1" strike="noStrike">
                <a:solidFill>
                  <a:srgbClr val="b39257"/>
                </a:solidFill>
                <a:latin typeface="Arial"/>
              </a:rPr>
              <a:t>– это способность человека сосредоточиться на определённом объекте и явлениях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55964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свой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концентрация, объём, устойчивость, распределение и пере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Внимание может быть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 имеющее цели и волевого уси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личие цели и  активное её поддержание посредством  силы во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400"/>
            </a:b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0233018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-53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Устойчивость внимания –</a:t>
            </a:r>
            <a:r>
              <a:rPr b="0" lang="ru-RU" sz="4800" spc="-1" strike="noStrike">
                <a:solidFill>
                  <a:srgbClr val="cf1f4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kniga10"/>
          <p:cNvPicPr/>
          <p:nvPr/>
        </p:nvPicPr>
        <p:blipFill>
          <a:blip r:embed="rId1"/>
          <a:stretch/>
        </p:blipFill>
        <p:spPr>
          <a:xfrm>
            <a:off x="4788000" y="3284640"/>
            <a:ext cx="3100320" cy="31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292020"/>
          <p:cNvPicPr/>
          <p:nvPr/>
        </p:nvPicPr>
        <p:blipFill>
          <a:blip r:embed="rId1"/>
          <a:stretch/>
        </p:blipFill>
        <p:spPr>
          <a:xfrm>
            <a:off x="6443640" y="328464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1</cp:lastModifiedBy>
  <dcterms:modified xsi:type="dcterms:W3CDTF">2015-09-27T06:07:06Z</dcterms:modified>
  <cp:revision>32</cp:revision>
  <dc:subject/>
  <dc:title>1. Часто ли Ваш ребёнок отвлекается во время выполнения заданий?</dc:title>
</cp:coreProperties>
</file>