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DBD6-D2D8-4315-B173-E89D99743F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E6B3-C0BD-4E82-BF9B-C90F558D6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ABE-4AD3-4640-A4A4-4C11ADC4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E0C-DA6B-4923-AB0A-CF4222DA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B9A-6046-4188-909E-E182CE18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014-A1B7-445D-AE87-63632A32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E868-F19F-439B-B509-9A823DFA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D625-5507-4782-96BC-628A911C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DD54-5A24-407A-9749-52DA99A1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3154-30B2-4F09-885E-FB1609BB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C3A9-13CF-4958-BC5A-8BA978A1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2BB7-A3DB-452F-9E18-D7A4921E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ED03-FF06-4AF0-8555-9B5CA06B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A20-5E0E-4B93-AC52-04265DAA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052F-E812-4F76-A89C-78A89CFB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9FB0-7B1C-46CC-B93E-A6EDE56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956D-DA0C-4C98-9ABF-D059E4DD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8BE3-35CE-4D5D-846D-35FF3F9B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5B95-C7EF-46C9-80A2-4E632DA9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939-AC1A-44F7-A4E6-031FD135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7D5-3742-4597-BAFE-1C557017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B82-DE5C-4D44-9273-414D008A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362-4AA8-4A0F-BF8B-9DFF5531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7CC-4281-4065-9857-EEE93446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2D2-B3CE-4468-834E-0EF6D1C0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E68-C894-4270-B17E-00731CB5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930C-0644-4534-BAF8-BFDB17252D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E921-70DD-4849-8121-26EFEF87C7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39257"/>
                </a:solidFill>
                <a:latin typeface="Arial"/>
              </a:rPr>
              <a:t>Родительское собрание </a:t>
            </a:r>
            <a:r>
              <a:rPr b="0" lang="ru-RU" sz="4800" spc="-1" strike="noStrike">
                <a:solidFill>
                  <a:srgbClr val="cf1f45"/>
                </a:solidFill>
                <a:latin typeface="Arial"/>
              </a:rPr>
              <a:t>«Как помочь ребёнку стать внимательным»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Переключение внимания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перемещение внимания с одного объекта на другой или с одного вида деятельности на другой в связи с постановкой  новой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1064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Внимание – это не раз и навсегда данное качество!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 можно и нужно разви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 И главным помощниками ребёнку могут стать мама  и па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: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тойчивое, но слабо переключаемое внимание: дети могут долго и старательно решать одну задачу, но с трудом переходят к следующ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Легко переключаемое внимание в процессе работы, но так же и легко отвлекаемое на посторонние момен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Хорошо организованное внимание сочетается с малым объём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Легко отвлекаемое внима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Устойчивое непроизвольное внима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ти  сосредотачивают  внимание  на интересных  особенностях  изучаемого 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Если у детей не сформировано произвольное внимание, то -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2464920"/>
            <a:ext cx="8569080" cy="4132440"/>
          </a:xfrm>
          <a:prstGeom prst="rect">
            <a:avLst/>
          </a:prstGeom>
          <a:solidFill>
            <a:srgbClr val="ebdba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будут заменять буквы – гласные или согласные, близкие по  акустическим признакам: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дети –т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дети – бе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ки –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9257"/>
                </a:solidFill>
                <a:latin typeface="Arial"/>
              </a:rPr>
              <a:t>Если  у детей недостаточно развита устойчивость внимания, то они будут: 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2193840"/>
            <a:ext cx="8229600" cy="4259520"/>
          </a:xfrm>
          <a:prstGeom prst="rect">
            <a:avLst/>
          </a:prstGeom>
          <a:solidFill>
            <a:srgbClr val="ebdba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ть буквы в словах –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тава –трава, трва – т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имерах  пропускают цифры и знаки: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12-6=5  1 -6=5   12- 6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Если ребёнок переставляет слоги в словах, то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3538800"/>
          </a:xfrm>
          <a:prstGeom prst="rect">
            <a:avLst/>
          </a:prstGeom>
          <a:solidFill>
            <a:srgbClr val="ebdb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связано с неустойчивостью внимания, например, стройка – сытыройка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проходили – прохолиди,  собрались – собрасьли,   трава - т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Если ребёнок добавляет в слова гласные, то -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связано с неустойчивостью произвольного внимания, например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3514c2"/>
                </a:solidFill>
                <a:latin typeface="Arial"/>
              </a:rPr>
              <a:t>дрова –дорова, стройка – сытыройка.</a:t>
            </a:r>
            <a:r>
              <a:rPr b="0" lang="ru-RU" sz="3200" spc="-1" strike="noStrike">
                <a:solidFill>
                  <a:srgbClr val="3514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f1f45"/>
                </a:solidFill>
                <a:latin typeface="Times New Roman"/>
              </a:rPr>
              <a:t>Цели:</a:t>
            </a:r>
            <a:r>
              <a:rPr b="1" i="1" lang="ru-RU" sz="4400" spc="-1" strike="noStrike">
                <a:solidFill>
                  <a:srgbClr val="cf1f45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b39257"/>
                </a:solidFill>
                <a:latin typeface="Times New Roman"/>
              </a:rPr>
              <a:t>1)  осмыслить то, что называют  «вниманием» и  познакомиться   основными свойствами внимания;</a:t>
            </a:r>
            <a:br>
              <a:rPr sz="3600"/>
            </a:br>
            <a:r>
              <a:rPr b="0" lang="ru-RU" sz="3600" spc="-1" strike="noStrike">
                <a:solidFill>
                  <a:srgbClr val="b39257"/>
                </a:solidFill>
                <a:latin typeface="Times New Roman"/>
              </a:rPr>
              <a:t>2) изучить в ходе собрания  упражнения и игры, которые способствуют  развитию внимания учащихся.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Нестандартные задачи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a887"/>
                </a:solidFill>
                <a:latin typeface="Arial"/>
              </a:rPr>
              <a:t>Каким этажом сверху будет  шестой этаж девятиэтажного до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a887"/>
                </a:solidFill>
                <a:latin typeface="Arial"/>
              </a:rPr>
              <a:t>Улитка от точки А проползла 2 см на север, потом 3 см на восток, потом 2 см на юг, а потом 3 см на запад. Где она оказалась в результа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Корректурная проб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IMG"/>
          <p:cNvPicPr/>
          <p:nvPr/>
        </p:nvPicPr>
        <p:blipFill>
          <a:blip r:embed="rId1"/>
          <a:stretch/>
        </p:blipFill>
        <p:spPr>
          <a:xfrm>
            <a:off x="2577960" y="1557360"/>
            <a:ext cx="4516560" cy="509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Найди слов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IMG_0006"/>
          <p:cNvPicPr/>
          <p:nvPr/>
        </p:nvPicPr>
        <p:blipFill>
          <a:blip r:embed="rId1"/>
          <a:stretch/>
        </p:blipFill>
        <p:spPr>
          <a:xfrm>
            <a:off x="2387520" y="1700280"/>
            <a:ext cx="41785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Найди спрятавшиеся слов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олпраптекамтрьдроздалжекарандаштмопр дятеллевшаноликлит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2916360" y="2421000"/>
            <a:ext cx="208908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6443640" y="2492280"/>
            <a:ext cx="208908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2556000" y="3284640"/>
            <a:ext cx="309564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900000" y="4149720"/>
            <a:ext cx="187164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2843280" y="4149720"/>
            <a:ext cx="194472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859280" y="4149720"/>
            <a:ext cx="1800360" cy="0"/>
          </a:xfrm>
          <a:prstGeom prst="line">
            <a:avLst/>
          </a:prstGeom>
          <a:ln w="57240">
            <a:solidFill>
              <a:srgbClr val="cf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39257"/>
                </a:solidFill>
                <a:latin typeface="Arial"/>
              </a:rPr>
              <a:t>Игровое упражнение </a:t>
            </a:r>
            <a:br>
              <a:rPr sz="3200"/>
            </a:br>
            <a:r>
              <a:rPr b="1" i="1" lang="ru-RU" sz="3200" spc="-1" strike="noStrike">
                <a:solidFill>
                  <a:srgbClr val="b39257"/>
                </a:solidFill>
                <a:latin typeface="Arial"/>
              </a:rPr>
              <a:t>«КТО ВНИМАТЕЛЬНЫЙ?»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 предлагаю вам, уважаемые родители,  внимательно прослушать сказку «Лисёнок и лягушонок» Г.Юдина и подсчитать в ней количество слов со звуком «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су в большой луже, жил маленький лягушонок, который очень любил лепить из г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лезет из лужи, наберет глины и сидит лепит. Сначала он лепил лепешечки. Потом стал лепить колобки и лимончики. Потом слепил слона и уже после этого – льва на лыжах и лошадь в лодке. Звери смотрели, смеялись и ласково гладили лягушонка по спине. Только один лисёнок (завидовал он, что ли?) приходил, все ломал, да еще и дразн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Зеленее всех зеленок – лупоглазый лягушонок! И это продолжалось до тех тор, пока лисенок не вы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шел он однажды к луже, сел рядом с лягушонком, долго смотрел, как он лепит, и грустно сказ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Я ведь тоже раньше лепил, да только у меня ничего не полу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чего! – сказал лягушонок. – Ты не огорчайся! Зато ты роешь самые хитрые н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39257"/>
                </a:solidFill>
                <a:latin typeface="Arial"/>
              </a:rPr>
              <a:t>Игра «ПОЛСЛОВА ЗА ВАМИ»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и игры становятся в круг и перебрасывают друг другу мяч. При этом бросающий громко говорит половину какого-нибудь слова, а тот, кто ловит, должен назвать его вторую половину. Например, паро-воз, теле-фон, и т. п. Бросать мяч можно любому игроку. Отвечать нужно быст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39257"/>
                </a:solidFill>
                <a:latin typeface="Arial"/>
              </a:rPr>
              <a:t>Игра « ПОВТОРИ БЫСТРО »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й договаривается с играющими, чтобы они повторяли за ним любые слова только тогда, когда он произносит слово «повторите». Далее идет быстрый диалог-«перестрелка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у начали! Повторите – «сто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ющие повторяют: « Сто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вторите – «Ок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ющие говорят: «Ок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кажите – «Улица». Быстро – «кошка»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9257"/>
                </a:solidFill>
                <a:latin typeface="Arial"/>
              </a:rPr>
              <a:t>Дефицит внимания</a:t>
            </a: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 наблюдаются беспокойные движения в кистях и стопах. Сидя на стуле, ребёнок корчится, извив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ожет сидеть спокойно на месте. Когда требуется э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Легко отвлекается на посторонние стиму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С трудом дожидается своей очереди во время игры и в различных других ситуациях в коллективе (занятия в школе, экскурс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На вопросы часто отвечает не задумываясь, не выслушав до кон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При выполнении предложенных заданий испытывает сложности (не связанные с негативным поведением или недостаточностью поним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трудом сохраняет внимание при выполнении заданий или во время 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 переходит с одного незавершенного действия к друг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ожет играть тихо, спокой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тлив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Мешает другим, пристает к окружающим (например, вмешивается в игры других дет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Часто складывается впечатление, что ребёнок не слушает обращённую к нему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f1f45"/>
                </a:solidFill>
                <a:latin typeface="Arial"/>
              </a:rPr>
              <a:t>Теряет вещи, необходимые в школе и дома (например, игрушки, карандаши, книг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514c2"/>
                </a:solidFill>
                <a:latin typeface="Arial"/>
              </a:rPr>
              <a:t>Часто совершает опасные действия. Не задумываясь о последствиях (например, выбегает на улицу, не оглядываясь по сторонам). При этом не ищет приключений или острых ощущ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знаки гиперактивности (1,2,9,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внимательности и отвлекаемости (3,6,12,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пульсивности (4,5,11,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-8920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f1f45"/>
                </a:solidFill>
                <a:uFillTx/>
                <a:latin typeface="Arial"/>
              </a:rPr>
              <a:t>Рекомендации родителям: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ите вашим детям стать внима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айте, читайте и используйте книги, в которых  можно найти упражнения и игры, способствующие развитию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е внимания лежит интерес. Играйте вместе с детьми  в различные игры, развивающие все свойства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итесь играть в шахматы и шашки, ведь эти игры называют «школой вним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 тренируйте внимание своего ребенка. Используйте для этого прогулки на свежем воздухе, походы, любую возмо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мулируйте интерес к развитию внимания собственными примерами и примерами из жизни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мейном кругу демонстрируйте достижения ребенка по развитию собственного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еритесь терпения и не ждите немедленных, успеш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7480080" cy="248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     </a:t>
            </a:r>
            <a:br>
              <a:rPr sz="4000"/>
            </a:br>
            <a:r>
              <a:rPr b="1" lang="ru-RU" sz="4400" spc="-1" strike="noStrike">
                <a:solidFill>
                  <a:srgbClr val="b39257"/>
                </a:solidFill>
                <a:latin typeface="Arial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b39257"/>
                </a:solidFill>
                <a:latin typeface="Arial"/>
              </a:rPr>
              <a:t>за работу !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85" name="Picture 5" descr="Рисунок2"/>
          <p:cNvPicPr/>
          <p:nvPr/>
        </p:nvPicPr>
        <p:blipFill>
          <a:blip r:embed="rId1"/>
          <a:stretch/>
        </p:blipFill>
        <p:spPr>
          <a:xfrm>
            <a:off x="1258920" y="3573360"/>
            <a:ext cx="1623960" cy="208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1384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39257"/>
                </a:solidFill>
                <a:latin typeface="Times New Roman"/>
              </a:rPr>
              <a:t>Внимательный ребёнок</a:t>
            </a:r>
            <a:r>
              <a:rPr b="0" lang="ru-RU" sz="5400" spc="-1" strike="noStrike">
                <a:solidFill>
                  <a:srgbClr val="b39257"/>
                </a:solidFill>
                <a:latin typeface="Times New Roman"/>
              </a:rPr>
              <a:t> – это …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133880" cy="46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ся на пятерки по русскому языку. Как? /С.Н.Костромина. – М.: АСТ; СПб.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Й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ЕВРОЗНАК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щенкова Л.В. Тесты, кроссворды, загадки и развивающие задания: для детей 8-10 лет/ Ярославль: Академия развития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288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f1f45"/>
                </a:solidFill>
                <a:latin typeface="Arial"/>
              </a:rPr>
              <a:t>Внимание </a:t>
            </a:r>
            <a:r>
              <a:rPr b="0" i="1" lang="ru-RU" sz="4400" spc="-1" strike="noStrike">
                <a:solidFill>
                  <a:srgbClr val="b39257"/>
                </a:solidFill>
                <a:latin typeface="Arial"/>
              </a:rPr>
              <a:t>– это способность человека сосредоточиться на определённом объекте и явлениях.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755964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новные свой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концентрация, объём, устойчивость, распределение и пере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Внимание может быть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14c2"/>
                </a:solidFill>
                <a:latin typeface="Arial"/>
              </a:rPr>
              <a:t>Непроизволь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 имеющее цели и волевого усил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a7920"/>
                </a:solidFill>
                <a:latin typeface="Arial"/>
              </a:rPr>
              <a:t>Произволь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аличие цели и  активное её поддержание посредством  силы во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умение сосредоточиться на нужном объекте, отдельных его частях или признаках, способность вникнуть в проблему,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Объём внимания</a:t>
            </a:r>
            <a:br>
              <a:rPr sz="4400"/>
            </a:b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характеризуется количеством одновременно воспринимаемых и удерживаемых в сознани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0233018"/>
          <p:cNvPicPr/>
          <p:nvPr/>
        </p:nvPicPr>
        <p:blipFill>
          <a:blip r:embed="rId1"/>
          <a:stretch/>
        </p:blipFill>
        <p:spPr>
          <a:xfrm>
            <a:off x="5724360" y="3789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-53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Устойчивость внимания –</a:t>
            </a:r>
            <a:r>
              <a:rPr b="0" lang="ru-RU" sz="4800" spc="-1" strike="noStrike">
                <a:solidFill>
                  <a:srgbClr val="cf1f4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возможность длительного сосредоточения на одном и том же объекте, одной и той же пробл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kniga10"/>
          <p:cNvPicPr/>
          <p:nvPr/>
        </p:nvPicPr>
        <p:blipFill>
          <a:blip r:embed="rId1"/>
          <a:stretch/>
        </p:blipFill>
        <p:spPr>
          <a:xfrm>
            <a:off x="4788000" y="3284640"/>
            <a:ext cx="3100320" cy="31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Распределение внимания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82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одновременное внимание к одному или нескольким объектам при одновременном выполнении действий с ними или наблюдений за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292020"/>
          <p:cNvPicPr/>
          <p:nvPr/>
        </p:nvPicPr>
        <p:blipFill>
          <a:blip r:embed="rId1"/>
          <a:stretch/>
        </p:blipFill>
        <p:spPr>
          <a:xfrm>
            <a:off x="6443640" y="328464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00:25Z</dcterms:created>
  <dc:creator>галина</dc:creator>
  <dc:description/>
  <dc:language>en-US</dc:language>
  <cp:lastModifiedBy>1</cp:lastModifiedBy>
  <dcterms:modified xsi:type="dcterms:W3CDTF">2015-09-27T06:07:06Z</dcterms:modified>
  <cp:revision>32</cp:revision>
  <dc:subject/>
  <dc:title>1. Часто ли Ваш ребёнок отвлекается во время выполнения заданий?</dc:title>
</cp:coreProperties>
</file>