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1B10-1720-4CB1-BD98-106D39EFA3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F367-24E4-4E26-AEF7-303ED678D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A65-946E-4AAA-BE54-9ADB549D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B17-CFCF-4C77-9FE7-067F8B7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C39-D7BF-4FB5-A5B5-F6C2423A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790-5169-4658-A741-DB25D42F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269C-9762-4B86-B4A4-99BE9043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D1B-597D-42BD-8C0F-F264CBD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F5F2-66BE-49AE-B76E-E6D4B07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606F-C756-40E6-AB7B-FB066DE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EF07-FD8D-4870-9C22-E1410AF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793-BCBF-4514-8C6A-F722E15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8E8-2D7B-465D-8554-70090D74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6D0-C921-474F-B2BD-6E7FC1C5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62D-32E7-41E2-9E22-989DD60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4C1-C699-4B58-B822-D09CF32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F40-44C1-4FA5-BBB8-22FED30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039F-38C9-4005-A5CF-77D2FE8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98CB-8398-45E8-B9F3-3DDB21BE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7A5-FA63-4102-B17D-A6FEAD34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7BB-4FD0-4A97-9784-5464695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991-EA77-41DF-AF92-7E2CA059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201-C624-4F7C-A5E6-80E12376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9B7-E5E8-434C-A8A2-2DEF24A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7B3-3D7C-4157-B4E7-D0771AA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38E-1576-4D2C-82CB-77F172F3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EF35-073E-42A9-B884-11B3B69F7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9A1-A965-4314-9D65-E5329A1DAF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39257"/>
                </a:solidFill>
                <a:latin typeface="Arial"/>
              </a:rPr>
              <a:t>Родительское собрание 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«Как помочь ребёнку стать внимательным»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1064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можно и нужно разви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Легко отвлекаемое внима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2464920"/>
            <a:ext cx="8569080" cy="413244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 –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9257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2193840"/>
            <a:ext cx="8229600" cy="425952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ть буквы в словах –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мерах  пропускают цифры и знаки: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Если ребёнок переставляет слоги в словах, то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538800"/>
          </a:xfrm>
          <a:prstGeom prst="rect">
            <a:avLst/>
          </a:prstGeom>
          <a:solidFill>
            <a:srgbClr val="ebdb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ребёнок добавляет в слова гласные, то -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вязано с неустойчивостью произвольного внимания, например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f1f45"/>
                </a:solidFill>
                <a:latin typeface="Times New Roman"/>
              </a:rPr>
              <a:t>Цели:</a:t>
            </a:r>
            <a:r>
              <a:rPr b="1" i="1" lang="ru-RU" sz="4400" spc="-1" strike="noStrike">
                <a:solidFill>
                  <a:srgbClr val="cf1f45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1)  осмыслить то, что называют  «вниманием» и  познакомиться   основными свойствами внимания;</a:t>
            </a:r>
            <a:br>
              <a:rPr sz="36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2) изучить в ходе собрания  упражнения и игры, которые способствуют  развитию внимания учащихся.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естандартные задачи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Каким этажом сверху будет  шестой этаж девятиэтажного до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Улитка от точки А проползла 2 см на север, потом 3 см на восток, потом 2 см на юг, а потом 3 см на запад. Где она оказалась в результ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Корректурная проб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IMG"/>
          <p:cNvPicPr/>
          <p:nvPr/>
        </p:nvPicPr>
        <p:blipFill>
          <a:blip r:embed="rId1"/>
          <a:stretch/>
        </p:blipFill>
        <p:spPr>
          <a:xfrm>
            <a:off x="2577960" y="1557360"/>
            <a:ext cx="4516560" cy="50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IMG_0006"/>
          <p:cNvPicPr/>
          <p:nvPr/>
        </p:nvPicPr>
        <p:blipFill>
          <a:blip r:embed="rId1"/>
          <a:stretch/>
        </p:blipFill>
        <p:spPr>
          <a:xfrm>
            <a:off x="2387520" y="1700280"/>
            <a:ext cx="41785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прятавшиеся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лпраптекамтрьдроздалжекарандаштмопр дятеллевшаноликлит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916360" y="242100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443640" y="249228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2556000" y="3284640"/>
            <a:ext cx="3095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900000" y="4149720"/>
            <a:ext cx="1871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2843280" y="4149720"/>
            <a:ext cx="194472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859280" y="4149720"/>
            <a:ext cx="180036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Игровое 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«КТО ВНИМАТЕЛЬНЫЙ?»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предлагаю вам, уважаемые родители,  внимательно прослушать сказку «Лисёнок и лягушонок» Г.Юдина и подсчитать в ней количество слов со звуком «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у в большой луже, жил маленький лягушонок, который очень любил лепить из г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езет из лужи, наберет глины и сидит лепит. Сначала он лепил лепешечки. Потом стал лепить колобки и лимончики. Потом слепил слона и уже после этого – льва на лыжах и лошадь в лодке. Звери смотрели, смеялись и ласково гладили лягушонка по спине. Только один лисёнок (завидовал он, что ли?) приходил, все ломал, да еще и дразн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еленее всех зеленок – лупоглазый лягушонок! И это продолжалось до тех тор, пока лисенок не вы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ел он однажды к луже, сел рядом с лягушонком, долго смотрел, как он лепит, и грустно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ведь тоже раньше лепил, да только у меня ничего не полу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чего! – сказал лягушонок. – Ты не огорчайся! Зато ты роешь самые хитрые н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9257"/>
                </a:solidFill>
                <a:latin typeface="Arial"/>
              </a:rPr>
              <a:t>Игра «ПОЛСЛОВА ЗА ВАМИ»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игры становятся в круг и перебрасывают друг другу мяч. При этом бросающий громко говорит половину какого-нибудь слова, а тот, кто ловит, должен назвать его вторую половину. Например, паро-воз, теле-фон, и т. п. Бросать мяч можно любому игроку. Отвечать нужно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39257"/>
                </a:solidFill>
                <a:latin typeface="Arial"/>
              </a:rPr>
              <a:t>Игра « ПОВТОРИ БЫСТРО »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договаривается с играющими, чтобы они повторяли за ним любые слова только тогда, когда он произносит слово «повторите». Далее идет быстрый диалог-«перестрел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у начали! Повторите – «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повторяют: « 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торите –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говорят: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ажите – «Улица». Быстро – «кошка»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9257"/>
                </a:solidFill>
                <a:latin typeface="Arial"/>
              </a:rPr>
              <a:t>Дефицит внимания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наблюдаются беспокойные движения в кистях и стопах. Сидя на стуле, ребёнок корчится, изви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сидеть спокойно на месте. Когда требуется э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Легко отвлекается на посторонние стиму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С трудом дожидается своей очереди во время игры и в различных других ситуациях в коллективе (занятия в школе, экскурс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На вопросы часто отвечает не задумываясь, не выслушав до кон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При выполнении предложенных заданий испытывает сложности (не связанные с негативным поведением или недостаточностью поним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рудом сохраняет внимание при выполнении заданий или во время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переходит с одного незавершенного действия к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играть тихо, спокой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тл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Мешает другим, пристает к окружающим (например, вмешивается в игры других дет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Часто складывается впечатление, что ребёнок не слушает обращённую к нему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Теряет вещи, необходимые в школе и дома (например, игрушки, карандаши, книг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Часто совершает опасные действия. Не задумываясь о последствиях (например, выбегает на улицу, не оглядываясь по сторонам). При этом не ищет приключений или острых ощущ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знаки гиперактивности (1,2,9,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нимательности и отвлекаемости (3,6,12,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ульсивности (4,5,11,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8920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f1f45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7480080" cy="248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     </a:t>
            </a:r>
            <a:br>
              <a:rPr sz="40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за работу 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85" name="Picture 5" descr="Рисунок2"/>
          <p:cNvPicPr/>
          <p:nvPr/>
        </p:nvPicPr>
        <p:blipFill>
          <a:blip r:embed="rId1"/>
          <a:stretch/>
        </p:blipFill>
        <p:spPr>
          <a:xfrm>
            <a:off x="1258920" y="3573360"/>
            <a:ext cx="162396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1384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39257"/>
                </a:solidFill>
                <a:latin typeface="Times New Roman"/>
              </a:rPr>
              <a:t>Внимательный ребёнок</a:t>
            </a:r>
            <a:r>
              <a:rPr b="0" lang="ru-RU" sz="5400" spc="-1" strike="noStrike">
                <a:solidFill>
                  <a:srgbClr val="b39257"/>
                </a:solidFill>
                <a:latin typeface="Times New Roman"/>
              </a:rPr>
              <a:t> – это …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133880" cy="46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на пятерки по русскому языку. Как? /С.Н.Костромина. – М.: АСТ; СПб.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Й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ЕВРОЗНАК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щенкова Л.В. Тесты, кроссворды, загадки и развивающие задания: для детей 8-10 лет/ Ярославль: Академия развития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f1f45"/>
                </a:solidFill>
                <a:latin typeface="Arial"/>
              </a:rPr>
              <a:t>Внимание </a:t>
            </a:r>
            <a:r>
              <a:rPr b="0" i="1" lang="ru-RU" sz="4400" spc="-1" strike="noStrike">
                <a:solidFill>
                  <a:srgbClr val="b39257"/>
                </a:solidFill>
                <a:latin typeface="Arial"/>
              </a:rPr>
              <a:t>– это способность человека сосредоточиться на определённом объекте и явлениях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55964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свой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концентрация, объём, устойчивость, распределение и пере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может быть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 имеющее цели и волевого уси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личие цели и  активное её поддержание посредством  силы во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400"/>
            </a:b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53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Устойчивость внимания –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kniga10"/>
          <p:cNvPicPr/>
          <p:nvPr/>
        </p:nvPicPr>
        <p:blipFill>
          <a:blip r:embed="rId1"/>
          <a:stretch/>
        </p:blipFill>
        <p:spPr>
          <a:xfrm>
            <a:off x="4788000" y="3284640"/>
            <a:ext cx="310032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292020"/>
          <p:cNvPicPr/>
          <p:nvPr/>
        </p:nvPicPr>
        <p:blipFill>
          <a:blip r:embed="rId1"/>
          <a:stretch/>
        </p:blipFill>
        <p:spPr>
          <a:xfrm>
            <a:off x="6443640" y="328464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1</cp:lastModifiedBy>
  <dcterms:modified xsi:type="dcterms:W3CDTF">2015-09-27T06:07:06Z</dcterms:modified>
  <cp:revision>32</cp:revision>
  <dc:subject/>
  <dc:title>1. Часто ли Ваш ребёнок отвлекается во время выполнения заданий?</dc:title>
</cp:coreProperties>
</file>