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909A-6AFD-4896-8AB4-F4E4D766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FF42-5A33-4EF0-8C66-0425D50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E1BA-5D53-488C-A007-6BD976E8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3C77-6EBA-47D8-81E5-E0C3CC40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7A3F-87B4-4698-9069-5FCA5B37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8150-B205-4359-BBE4-4677081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E02-8B11-49BC-B41D-E02EC0C9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0044-563B-44AC-956D-FD2A418A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71C-C960-40A5-95DE-42A09C6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C43-B866-42C0-B700-8ADAB95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91CC-C530-4ACE-A816-AA68C96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B783-CA61-4938-866B-5E22C7E6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3040-0C2C-4548-B4BC-B9F23271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120-2C91-4744-A761-6A448A6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FDD-AB3E-4190-A64F-6D92C37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F23F-4A30-47FF-B9D0-20618934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A25-89F1-42A7-B717-3711BD08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2C9B-03D2-49DB-8C2E-D7B5A828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0EFD-ED43-46B2-93B2-78CCFCBE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22F1-92D7-4FB3-AC04-F81F0F0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639D-660F-4F3D-8826-06EEB6A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8DCE-2CEA-4BBA-B962-07F8577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CCB3-0578-4C0D-8C9F-77F7E61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C0A2-E076-4784-8E68-36DE55C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8D0-113A-45E6-8D86-653A7A882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26F-6D6E-4400-8655-C43A82136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ект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6 «В» класс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ужие армии – победителя в Великой Отечественной войне 1941 – 1945 г.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ятельность по решению задач Распространение информ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ение классного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монстрация альб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3457440"/>
            <a:ext cx="3962520" cy="296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354348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льшая фотокнига (альбом) с данными о военной технике, вооружении Советской Армии  с техническими характерис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кие ресурсы: помощь классного руководителя, одноклассников в проведении анкетирования и классного часа, родителей в подготовке презентации,  руководителя проекта в направлении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сети Интернет: Википедия, сайты, посвященные ВОВ, библиотечный фонд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: распечатка фотографий, фотокниги (альбома), затраты на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атериальные ресурсы: умственная деятельность, формирование презентации, проведение класс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бретенные умения и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ть и взаимодействовать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рабаты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ть с презент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готовить высту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ие выводы по достижению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работы над этим проектом мы понимали, что придется прилагать огромные усилия и посвятить большое количество времени данному виду деятельности. Создание такого важного проекта, позволило нам лучше узнать историю Великой Отечественной Войны, пробудив  в нас сильные патриотические чувства. Преодолев определенные трудности, мы можем уверенно сказать, что наша цель работы над проектом достиг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ев Ярослав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аков Алексе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ртюшкин Данил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зов Паве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чинов Серге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дионов Леонид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тяков Егор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баченко Дмитри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ь:       Кравец Н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ект посвящен 70-летней годовщине Победы Советской Армии над немецко-фашистскими захватч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человек, принадлежащий к нынешнему поколению, должен знать, как досталась победа в ВОВ. Но мало кто, даже в нашем классе, задумывается, что не только великий патриотизм, непобедимый русский дух ковали победу, но и оружие, военная техника сыграли важную роль в разгроме нем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варительное 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почему русская армия победила германск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военную технику тех времен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какого вида вооружения Советская Армия, на ваш взгляд, не смогла бы обойтись в годы в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458200" cy="4356360"/>
        </p:xfrm>
        <a:graphic>
          <a:graphicData uri="http://schemas.openxmlformats.org/drawingml/2006/table">
            <a:tbl>
              <a:tblPr/>
              <a:tblGrid>
                <a:gridCol w="1646280"/>
                <a:gridCol w="2163600"/>
                <a:gridCol w="1905120"/>
                <a:gridCol w="2743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вы думаете, почему советская армия победила германску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ую военную технику тех времен вы знает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какого вида вооружения Советская Армия, на ваш взгляд, не смогла бы обойтись в годы войны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йкость духа, героизм, патриотиз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е исторических и научно-популярных источников для обоснования значимости военной техники в годы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рать информацию о военной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ать информацию с точки зрения значимости каждого вида воору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ить информацию среди одноклассников, продемонстрировать фото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ятельность по решению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собрали очень большое количество информации и в Интернете, и в библиот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и и провели интервью  с учителем истории Белоусовым А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обрали образцы техники для фотоальб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2:56:12Z</dcterms:created>
  <dc:creator>Наталия</dc:creator>
  <dc:description/>
  <dc:language>en-US</dc:language>
  <cp:lastModifiedBy>Наталия</cp:lastModifiedBy>
  <dcterms:modified xsi:type="dcterms:W3CDTF">2014-12-01T11:05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