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9907-FF3D-4FD4-AE6E-83FDD5AA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EF68-3AF1-44A4-9BEC-AB3241E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A5AC-D091-4C78-AF26-37EEAB4A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93AF-9D2C-4112-AD24-24BF27A8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144-8E69-4DA8-A4C3-5DAC129E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096-9D4B-449F-B5C4-D5158A4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034-85FE-4A98-96F4-4611210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076B-BFA1-4D76-AA5A-EB4B8E2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DDC-7A6E-40D3-A084-200DB81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00FB-55CB-436D-A5B9-6DF6D1EF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2302-45FF-4125-9CE0-1BEEF48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706A-7785-4A99-944A-78C30286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A652-EC8A-4D92-9985-04817B9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5C43-C5C6-486E-9CAD-38BD964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AE72-A1CF-43E1-88F3-C7AB879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3DED-AA5A-47B9-A079-13C1F59F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6538-82D4-4003-99CA-03CCDA75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546F-0482-4961-9403-225C8E5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B523-3105-417F-82DE-3437E8D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37CC-33A2-4821-9A07-5E12838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C2E5-63DC-461B-8286-9E70AB1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0E05-6620-4EC1-B831-5BEB122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25E2-6006-4864-BD1A-3D8960F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FFC7-55BD-47F6-A30D-75AA942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DC4-959D-43A3-BB64-D2BB0233F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A8A-74ED-4EE7-823A-0229F03B6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ект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6 «В» класс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ужие армии – победителя в Великой Отечественной войне 1941 – 1945 г.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ятельность по решению задач Распространение информ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ение классного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монстрация альб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3457440"/>
            <a:ext cx="3962520" cy="296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354348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у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льшая фотокнига (альбом) с данными о военной технике, вооружении Советской Армии  с техническими характерис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кие ресурсы: помощь классного руководителя, одноклассников в проведении анкетирования и классного часа, родителей в подготовке презентации,  руководителя проекта в направлении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сети Интернет: Википедия, сайты, посвященные ВОВ, библиотечный фонд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: распечатка фотографий, фотокниги (альбома), затраты на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атериальные ресурсы: умственная деятельность, формирование презентации, проведение класс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бретенные умения и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ть и взаимодействовать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рабаты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ть с презент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готовить высту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ие выводы по достижению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работы над этим проектом мы понимали, что придется прилагать огромные усилия и посвятить большое количество времени данному виду деятельности. Создание такого важного проекта, позволило нам лучше узнать историю Великой Отечественной Войны, пробудив  в нас сильные патриотические чувства. Преодолев определенные трудности, мы можем уверенно сказать, что наша цель работы над проектом достиг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ев Ярослав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аков Алексе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ртюшкин Данил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зов Паве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чинов Сергей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дионов Леонид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тяков Егор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баченко Дмитри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ь:       Кравец Н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ект посвящен 70-летней годовщине Победы Советской Армии над немецко-фашистскими захватч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человек, принадлежащий к нынешнему поколению, должен знать, как досталась победа в ВОВ. Но мало кто, даже в нашем классе, задумывается, что не только великий патриотизм, непобедимый русский дух ковали победу, но и оружие, военная техника сыграли важную роль в разгроме нем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варительное 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почему русская армия победила германск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военную технику тех времен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какого вида вооружения Советская Армия, на ваш взгляд, не смогла бы обойтись в годы в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458200" cy="4356360"/>
        </p:xfrm>
        <a:graphic>
          <a:graphicData uri="http://schemas.openxmlformats.org/drawingml/2006/table">
            <a:tbl>
              <a:tblPr/>
              <a:tblGrid>
                <a:gridCol w="1646280"/>
                <a:gridCol w="2163600"/>
                <a:gridCol w="1905120"/>
                <a:gridCol w="2743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вы думаете, почему советская армия победила германску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ую военную технику тех времен вы знает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какого вида вооружения Советская Армия, на ваш взгляд, не смогла бы обойтись в годы войны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йкость духа, героизм, патриотиз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е исторических и научно-популярных источников для обоснования значимости военной техники в годы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рать информацию о военной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ать информацию с точки зрения значимости каждого вида воору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ить информацию среди одноклассников, продемонстрировать фото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ятельность по решению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собрали очень большое количество информации и в Интернете, и в библиот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и и провели интервью  с учителем истории Белоусовым А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обрали образцы техники для фотоальб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2:56:12Z</dcterms:created>
  <dc:creator>Наталия</dc:creator>
  <dc:description/>
  <dc:language>en-US</dc:language>
  <cp:lastModifiedBy>Наталия</cp:lastModifiedBy>
  <dcterms:modified xsi:type="dcterms:W3CDTF">2014-12-01T11:05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