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4D89DA-383D-42BE-8415-B507248EF6C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40-09C4-42FA-8851-B05EB007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5C4-E4B4-4882-B0BF-5BBC6A30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3A8-81E9-48C3-A8FE-A3A51628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2E6-F7AC-4B03-BB2F-3C755A79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C46-4A20-49B8-8FDD-CAA9A0E3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0FA-A0D3-4146-AE1F-21523A5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CE08-7CA7-4660-8618-BF4CA1E1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9F7A-C4CF-47F6-80CC-6D3B369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C79C-21C4-437A-943B-D4536B9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5D3B-3DD8-4ADE-A298-2F27634F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6C95-FC91-49FB-A561-01A4EE3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C0E-D978-478C-8A1B-0512D99E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305-CB92-4CCA-B15B-9002174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27CA-BD5F-4C02-9A32-5E47277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351-3643-478B-BBE7-963A75D0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94F9-557F-4655-946B-2CF692A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1430-666D-4557-B9FE-8C5E99AB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95F-06EA-43A9-95FB-AE96C73E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0DF-8403-4EA9-9F03-12F8FA5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749-FA13-4681-9B37-18A4D5D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BF1-90EB-4779-9B78-B54A7DB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C3E-BED8-4A7B-8A5D-3D642E4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706-DDC9-4BB4-84A9-03DC7E14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64E-BA9F-4731-87AF-FF3A54F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1AD0AF-35DD-403A-AFDC-EAFA7F7A3D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907198-A886-42AC-B363-884D69A55B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на уроках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4640" y="4857840"/>
            <a:ext cx="34290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нзыы А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«НОШ» с.Хову-Акс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4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5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2280" y="-35892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Профилактика переутомления учащихся на уроках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720" y="150012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высить умственную работоспособность и сократить период адаптации к содержанию материала в начале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рать оптимальный ритм и темп уро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моциональность, артистизм педагог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ключить шумовое раздражение на урок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приемы поощрения, подбадривания учащихс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смену деятельности, практиковать нестандартные уро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ть основные эколого-медико-психолого-педагогические методы преподавания: внушение, погружение, ритмическую стимуляцию органов чувств, аудиовизуализацию, аудиолингвализацию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одить динамические пауз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анчивать урок за 1-2 минуты до звон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задерживать учащихся на переме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44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 u="sng">
                <a:solidFill>
                  <a:srgbClr val="000099"/>
                </a:solidFill>
                <a:uFillTx/>
                <a:latin typeface="Arial"/>
              </a:rPr>
              <a:t>Внутришкольные факторы, влияющие на здоровье учащих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132000" y="2924280"/>
            <a:ext cx="2954520" cy="3682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доровье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071880" y="3357720"/>
            <a:ext cx="2954160" cy="2944080"/>
            <a:chOff x="3071880" y="3357720"/>
            <a:chExt cx="2954160" cy="2944080"/>
          </a:xfrm>
        </p:grpSpPr>
        <p:sp>
          <p:nvSpPr>
            <p:cNvPr id="122" name="Text Box 5"/>
            <p:cNvSpPr/>
            <p:nvPr/>
          </p:nvSpPr>
          <p:spPr>
            <a:xfrm>
              <a:off x="3071880" y="5099040"/>
              <a:ext cx="2954160" cy="1202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чебный пл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УМ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ыбор програм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4582800" y="3357720"/>
              <a:ext cx="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285840" y="3357720"/>
            <a:ext cx="4031640" cy="2801160"/>
            <a:chOff x="285840" y="3357720"/>
            <a:chExt cx="4031640" cy="2801160"/>
          </a:xfrm>
        </p:grpSpPr>
        <p:sp>
          <p:nvSpPr>
            <p:cNvPr id="125" name="Text Box 8"/>
            <p:cNvSpPr/>
            <p:nvPr/>
          </p:nvSpPr>
          <p:spPr>
            <a:xfrm>
              <a:off x="285840" y="5099040"/>
              <a:ext cx="2663640" cy="105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роки физкульту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портивные секции и круж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2949480" y="3357720"/>
              <a:ext cx="1368000" cy="1727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4857840" y="3357720"/>
            <a:ext cx="3743280" cy="2658240"/>
            <a:chOff x="4857840" y="3357720"/>
            <a:chExt cx="3743280" cy="2658240"/>
          </a:xfrm>
        </p:grpSpPr>
        <p:sp>
          <p:nvSpPr>
            <p:cNvPr id="128" name="Text Box 11"/>
            <p:cNvSpPr/>
            <p:nvPr/>
          </p:nvSpPr>
          <p:spPr>
            <a:xfrm>
              <a:off x="6369120" y="5373360"/>
              <a:ext cx="2232000" cy="64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досуговая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>
              <a:off x="4857840" y="3357720"/>
              <a:ext cx="1511280" cy="20156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3130560" y="692280"/>
            <a:ext cx="2954160" cy="2231640"/>
            <a:chOff x="3130560" y="692280"/>
            <a:chExt cx="2954160" cy="2231640"/>
          </a:xfrm>
        </p:grpSpPr>
        <p:sp>
          <p:nvSpPr>
            <p:cNvPr id="131" name="Text Box 14"/>
            <p:cNvSpPr/>
            <p:nvPr/>
          </p:nvSpPr>
          <p:spPr>
            <a:xfrm>
              <a:off x="3130560" y="692280"/>
              <a:ext cx="2954160" cy="147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заимоотношения с одноклассни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отношени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здоровье уч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V="1">
              <a:off x="4643280" y="2206440"/>
              <a:ext cx="0" cy="717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428760" y="1071720"/>
            <a:ext cx="2646000" cy="3286080"/>
            <a:chOff x="428760" y="1071720"/>
            <a:chExt cx="2646000" cy="3286080"/>
          </a:xfrm>
        </p:grpSpPr>
        <p:grpSp>
          <p:nvGrpSpPr>
            <p:cNvPr id="134" name="Group 17"/>
            <p:cNvGrpSpPr/>
            <p:nvPr/>
          </p:nvGrpSpPr>
          <p:grpSpPr>
            <a:xfrm>
              <a:off x="428760" y="1071720"/>
              <a:ext cx="2391120" cy="3286080"/>
              <a:chOff x="428760" y="1071720"/>
              <a:chExt cx="2391120" cy="3286080"/>
            </a:xfrm>
          </p:grpSpPr>
          <p:sp>
            <p:nvSpPr>
              <p:cNvPr id="135" name="Text Box 18"/>
              <p:cNvSpPr/>
              <p:nvPr/>
            </p:nvSpPr>
            <p:spPr>
              <a:xfrm>
                <a:off x="428760" y="1071720"/>
                <a:ext cx="2391120" cy="64260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Организация занятий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19"/>
              <p:cNvSpPr/>
              <p:nvPr/>
            </p:nvSpPr>
            <p:spPr>
              <a:xfrm>
                <a:off x="449640" y="1808640"/>
                <a:ext cx="2357280" cy="2549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вид учебной деятельно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технолог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тиль преподав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тметка, оценка зн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объем домашних задан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Line 20"/>
            <p:cNvSpPr/>
            <p:nvPr/>
          </p:nvSpPr>
          <p:spPr>
            <a:xfrm flipH="1">
              <a:off x="2819880" y="3097440"/>
              <a:ext cx="254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21"/>
          <p:cNvGrpSpPr/>
          <p:nvPr/>
        </p:nvGrpSpPr>
        <p:grpSpPr>
          <a:xfrm>
            <a:off x="6143760" y="857160"/>
            <a:ext cx="2540880" cy="4214160"/>
            <a:chOff x="6143760" y="857160"/>
            <a:chExt cx="2540880" cy="4214160"/>
          </a:xfrm>
        </p:grpSpPr>
        <p:grpSp>
          <p:nvGrpSpPr>
            <p:cNvPr id="139" name="Group 22"/>
            <p:cNvGrpSpPr/>
            <p:nvPr/>
          </p:nvGrpSpPr>
          <p:grpSpPr>
            <a:xfrm>
              <a:off x="6442560" y="857160"/>
              <a:ext cx="2242080" cy="4214160"/>
              <a:chOff x="6442560" y="857160"/>
              <a:chExt cx="2242080" cy="4214160"/>
            </a:xfrm>
          </p:grpSpPr>
          <p:sp>
            <p:nvSpPr>
              <p:cNvPr id="140" name="Text Box 23"/>
              <p:cNvSpPr/>
              <p:nvPr/>
            </p:nvSpPr>
            <p:spPr>
              <a:xfrm>
                <a:off x="6442560" y="857160"/>
                <a:ext cx="2201040" cy="916920"/>
              </a:xfrm>
              <a:prstGeom prst="rect">
                <a:avLst/>
              </a:prstGeom>
              <a:noFill/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800" spc="-1" strike="noStrike">
                    <a:solidFill>
                      <a:srgbClr val="009973"/>
                    </a:solidFill>
                    <a:latin typeface="Arial"/>
                  </a:rPr>
                  <a:t>Режим функционирования школ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24"/>
              <p:cNvSpPr/>
              <p:nvPr/>
            </p:nvSpPr>
            <p:spPr>
              <a:xfrm>
                <a:off x="6451560" y="1792080"/>
                <a:ext cx="2233080" cy="3279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дн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асписание учебных занятий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питание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санитарно-гигиенические условия (мебель, освещение, проветривание и др.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00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Arial"/>
                  </a:rPr>
                  <a:t>режим перемен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Line 25"/>
            <p:cNvSpPr/>
            <p:nvPr/>
          </p:nvSpPr>
          <p:spPr>
            <a:xfrm>
              <a:off x="6143760" y="3143160"/>
              <a:ext cx="241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1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6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1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6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1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6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7" descr="C:\Users\1\Desktop\физминутка\DSCN1399.JPG"/>
          <p:cNvPicPr/>
          <p:nvPr/>
        </p:nvPicPr>
        <p:blipFill>
          <a:blip r:embed="rId1"/>
          <a:stretch/>
        </p:blipFill>
        <p:spPr>
          <a:xfrm>
            <a:off x="5500800" y="378612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Users\1\Desktop\физминутка\DSCN1398.JPG"/>
          <p:cNvPicPr/>
          <p:nvPr/>
        </p:nvPicPr>
        <p:blipFill>
          <a:blip r:embed="rId2"/>
          <a:stretch/>
        </p:blipFill>
        <p:spPr>
          <a:xfrm>
            <a:off x="5500800" y="164304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1"/>
          <a:stretch/>
        </p:blipFill>
        <p:spPr>
          <a:xfrm>
            <a:off x="5929200" y="200016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"/>
          <p:cNvPicPr/>
          <p:nvPr/>
        </p:nvPicPr>
        <p:blipFill>
          <a:blip r:embed="rId2"/>
          <a:stretch/>
        </p:blipFill>
        <p:spPr>
          <a:xfrm>
            <a:off x="6143760" y="4000680"/>
            <a:ext cx="17524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1</cp:lastModifiedBy>
  <dcterms:modified xsi:type="dcterms:W3CDTF">2015-10-11T06:07:25Z</dcterms:modified>
  <cp:revision>19</cp:revision>
  <dc:subject/>
  <dc:title>Презентация PowerPoint</dc:title>
</cp:coreProperties>
</file>