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86E47A-A230-45C1-9FA3-CE231744D05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7D37-E20C-43B8-8C9A-4A725C35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2EF-0501-4943-BACC-A777F68A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699A-78EA-4D88-8FC4-8C9885CE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3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8272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3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8272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5C1-A6D8-46F1-9FA0-D571711D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0297-76EB-42CF-8C90-8ADF030A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C94A-4F6F-4F28-9EE7-29CDAAD2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9692-5A11-40B6-93E3-AAFA1712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0CC9-814C-4EB6-8B54-B32597BB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1A12-1156-492B-8893-0F4C1288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02920" y="-206640"/>
            <a:ext cx="75596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2E60-394E-4254-B66A-AA965A5B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667C-C0E0-4512-B30C-40AAA315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0E0-3A94-4070-9404-01B12933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94E6-CF5B-4FA2-BD9F-899477BD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89F4-68BD-4568-A26D-4236046D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0F75-05D6-4925-A8A7-7E6D7863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54C9-11C3-46C5-BFC4-BE9BAEEC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83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8272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83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8272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FC0F-C3D5-4B10-8208-D6005947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4A4E-6C1C-486B-BEF6-9E575A7F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B14B-99E0-47C3-A632-2056AB49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B8D-4CDE-47E3-8314-A55BF438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02920" y="-206640"/>
            <a:ext cx="75596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887-DC7F-4D6D-B043-656C00A0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4FD5-114D-43F5-AEFD-E5EAA193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BB6-0390-4F49-BDAB-FF67A47D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E5F-C46D-40D4-A7EE-CA23AC28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24000" y="836640"/>
            <a:ext cx="8642160" cy="5832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213920" y="623736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70800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8310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989503-8F65-4418-B086-BAD7534C260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5283360" cy="528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-27180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D76FF2-B23D-457F-9752-D8B38F9BCF7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Здоровьесберегающие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технологии на уроках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714640" y="4857840"/>
            <a:ext cx="342900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нзыы А.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БОУ «НОШ» с.Хову-Аксы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95280" y="1905120"/>
          <a:ext cx="7392960" cy="394020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832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20 и 35 минуте по 1 минуте из 3-х легких упражне-ний с 3-4 повторе-ниями каждог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физкульт-минутка с неправиль-ным содер- жанием или продолжи- тельность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-ву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40"/>
          <p:cNvSpPr/>
          <p:nvPr/>
        </p:nvSpPr>
        <p:spPr>
          <a:xfrm>
            <a:off x="1295280" y="3276720"/>
            <a:ext cx="1524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ичие, место, содержание и продолжи- тельность на уроке моментов оздоровле-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2743200" y="3352680"/>
            <a:ext cx="1768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культми-нутки, динами-ческие паузы, гимнастика для глаз, массаж активных точ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112320"/>
            <a:ext cx="756144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чебного дня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-4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2" name="Object 2"/>
          <p:cNvGraphicFramePr/>
          <p:nvPr/>
        </p:nvGraphicFramePr>
        <p:xfrm>
          <a:off x="1676520" y="1527120"/>
          <a:ext cx="6705360" cy="44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7120"/>
                    <a:ext cx="670536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12320"/>
            <a:ext cx="75610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рабочей недели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-4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5" name="Object 1024"/>
          <p:cNvGraphicFramePr/>
          <p:nvPr/>
        </p:nvGraphicFramePr>
        <p:xfrm>
          <a:off x="1371600" y="1671480"/>
          <a:ext cx="7467480" cy="41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1480"/>
                    <a:ext cx="7467480" cy="41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2280" y="-358920"/>
            <a:ext cx="82296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Профилактика переутомления учащихся на уроках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71720" y="1500120"/>
            <a:ext cx="78580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высить умственную работоспособность и сократить период адаптации к содержанию материала в начале урока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брать оптимальный ритм и темп урока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эмоциональность, артистизм педагога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ключить шумовое раздражение на уроке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ользовать приемы поощрения, подбадривания учащихся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водить смену деятельности, практиковать нестандартные урок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ользовать основные эколого-медико-психолого-педагогические методы преподавания: внушение, погружение, ритмическую стимуляцию органов чувств, аудиовизуализацию, аудиолингвализацию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водить динамические паузы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канчивать урок за 1-2 минуты до звонка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 задерживать учащихся на перемен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442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 u="sng">
                <a:solidFill>
                  <a:srgbClr val="000099"/>
                </a:solidFill>
                <a:uFillTx/>
                <a:latin typeface="Arial"/>
              </a:rPr>
              <a:t>Внутришкольные факторы, влияющие на здоровье учащих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132000" y="2924280"/>
            <a:ext cx="2954520" cy="36828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Здоровье уча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3071880" y="3357720"/>
            <a:ext cx="2954160" cy="2944080"/>
            <a:chOff x="3071880" y="3357720"/>
            <a:chExt cx="2954160" cy="2944080"/>
          </a:xfrm>
        </p:grpSpPr>
        <p:sp>
          <p:nvSpPr>
            <p:cNvPr id="122" name="Text Box 5"/>
            <p:cNvSpPr/>
            <p:nvPr/>
          </p:nvSpPr>
          <p:spPr>
            <a:xfrm>
              <a:off x="3071880" y="5099040"/>
              <a:ext cx="2954160" cy="1202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учебный пла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выбор УМ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выбор програм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6"/>
            <p:cNvSpPr/>
            <p:nvPr/>
          </p:nvSpPr>
          <p:spPr>
            <a:xfrm>
              <a:off x="4582800" y="3357720"/>
              <a:ext cx="0" cy="1727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7"/>
          <p:cNvGrpSpPr/>
          <p:nvPr/>
        </p:nvGrpSpPr>
        <p:grpSpPr>
          <a:xfrm>
            <a:off x="285840" y="3357720"/>
            <a:ext cx="4031640" cy="2801160"/>
            <a:chOff x="285840" y="3357720"/>
            <a:chExt cx="4031640" cy="2801160"/>
          </a:xfrm>
        </p:grpSpPr>
        <p:sp>
          <p:nvSpPr>
            <p:cNvPr id="125" name="Text Box 8"/>
            <p:cNvSpPr/>
            <p:nvPr/>
          </p:nvSpPr>
          <p:spPr>
            <a:xfrm>
              <a:off x="285840" y="5099040"/>
              <a:ext cx="2663640" cy="1059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уроки физкультур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спортивные секции и кружк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>
              <a:off x="2949480" y="3357720"/>
              <a:ext cx="1368000" cy="1727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Group 10"/>
          <p:cNvGrpSpPr/>
          <p:nvPr/>
        </p:nvGrpSpPr>
        <p:grpSpPr>
          <a:xfrm>
            <a:off x="4857840" y="3357720"/>
            <a:ext cx="3743280" cy="2658240"/>
            <a:chOff x="4857840" y="3357720"/>
            <a:chExt cx="3743280" cy="2658240"/>
          </a:xfrm>
        </p:grpSpPr>
        <p:sp>
          <p:nvSpPr>
            <p:cNvPr id="128" name="Text Box 11"/>
            <p:cNvSpPr/>
            <p:nvPr/>
          </p:nvSpPr>
          <p:spPr>
            <a:xfrm>
              <a:off x="6369120" y="5373360"/>
              <a:ext cx="2232000" cy="642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досуговая деятель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>
              <a:off x="4857840" y="3357720"/>
              <a:ext cx="1511280" cy="201564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Group 13"/>
          <p:cNvGrpSpPr/>
          <p:nvPr/>
        </p:nvGrpSpPr>
        <p:grpSpPr>
          <a:xfrm>
            <a:off x="3130560" y="692280"/>
            <a:ext cx="2954160" cy="2231640"/>
            <a:chOff x="3130560" y="692280"/>
            <a:chExt cx="2954160" cy="2231640"/>
          </a:xfrm>
        </p:grpSpPr>
        <p:sp>
          <p:nvSpPr>
            <p:cNvPr id="131" name="Text Box 14"/>
            <p:cNvSpPr/>
            <p:nvPr/>
          </p:nvSpPr>
          <p:spPr>
            <a:xfrm>
              <a:off x="3130560" y="692280"/>
              <a:ext cx="2954160" cy="1477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взаимоотношения с одноклассника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отношение учителе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здоровье учителе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 flipV="1">
              <a:off x="4643280" y="2206440"/>
              <a:ext cx="0" cy="7174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16"/>
          <p:cNvGrpSpPr/>
          <p:nvPr/>
        </p:nvGrpSpPr>
        <p:grpSpPr>
          <a:xfrm>
            <a:off x="428760" y="1071720"/>
            <a:ext cx="2646000" cy="3286080"/>
            <a:chOff x="428760" y="1071720"/>
            <a:chExt cx="2646000" cy="3286080"/>
          </a:xfrm>
        </p:grpSpPr>
        <p:grpSp>
          <p:nvGrpSpPr>
            <p:cNvPr id="134" name="Group 17"/>
            <p:cNvGrpSpPr/>
            <p:nvPr/>
          </p:nvGrpSpPr>
          <p:grpSpPr>
            <a:xfrm>
              <a:off x="428760" y="1071720"/>
              <a:ext cx="2391120" cy="3286080"/>
              <a:chOff x="428760" y="1071720"/>
              <a:chExt cx="2391120" cy="3286080"/>
            </a:xfrm>
          </p:grpSpPr>
          <p:sp>
            <p:nvSpPr>
              <p:cNvPr id="135" name="Text Box 18"/>
              <p:cNvSpPr/>
              <p:nvPr/>
            </p:nvSpPr>
            <p:spPr>
              <a:xfrm>
                <a:off x="428760" y="1071720"/>
                <a:ext cx="2391120" cy="642600"/>
              </a:xfrm>
              <a:prstGeom prst="rect">
                <a:avLst/>
              </a:prstGeom>
              <a:noFill/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800" spc="-1" strike="noStrike">
                    <a:solidFill>
                      <a:srgbClr val="009973"/>
                    </a:solidFill>
                    <a:latin typeface="Arial"/>
                  </a:rPr>
                  <a:t>Организация занятий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Text Box 19"/>
              <p:cNvSpPr/>
              <p:nvPr/>
            </p:nvSpPr>
            <p:spPr>
              <a:xfrm>
                <a:off x="449640" y="1808640"/>
                <a:ext cx="2357280" cy="25491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вид учебной деятельно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технологи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стиль преподавания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отметка, оценка знаний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объем домашних заданий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Line 20"/>
            <p:cNvSpPr/>
            <p:nvPr/>
          </p:nvSpPr>
          <p:spPr>
            <a:xfrm flipH="1">
              <a:off x="2819880" y="3097440"/>
              <a:ext cx="2548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Group 21"/>
          <p:cNvGrpSpPr/>
          <p:nvPr/>
        </p:nvGrpSpPr>
        <p:grpSpPr>
          <a:xfrm>
            <a:off x="6143760" y="857160"/>
            <a:ext cx="2540880" cy="4214160"/>
            <a:chOff x="6143760" y="857160"/>
            <a:chExt cx="2540880" cy="4214160"/>
          </a:xfrm>
        </p:grpSpPr>
        <p:grpSp>
          <p:nvGrpSpPr>
            <p:cNvPr id="139" name="Group 22"/>
            <p:cNvGrpSpPr/>
            <p:nvPr/>
          </p:nvGrpSpPr>
          <p:grpSpPr>
            <a:xfrm>
              <a:off x="6442560" y="857160"/>
              <a:ext cx="2242080" cy="4214160"/>
              <a:chOff x="6442560" y="857160"/>
              <a:chExt cx="2242080" cy="4214160"/>
            </a:xfrm>
          </p:grpSpPr>
          <p:sp>
            <p:nvSpPr>
              <p:cNvPr id="140" name="Text Box 23"/>
              <p:cNvSpPr/>
              <p:nvPr/>
            </p:nvSpPr>
            <p:spPr>
              <a:xfrm>
                <a:off x="6442560" y="857160"/>
                <a:ext cx="2201040" cy="916920"/>
              </a:xfrm>
              <a:prstGeom prst="rect">
                <a:avLst/>
              </a:prstGeom>
              <a:noFill/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800" spc="-1" strike="noStrike">
                    <a:solidFill>
                      <a:srgbClr val="009973"/>
                    </a:solidFill>
                    <a:latin typeface="Arial"/>
                  </a:rPr>
                  <a:t>Режим функционирования школ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Text Box 24"/>
              <p:cNvSpPr/>
              <p:nvPr/>
            </p:nvSpPr>
            <p:spPr>
              <a:xfrm>
                <a:off x="6451560" y="1792080"/>
                <a:ext cx="2233080" cy="32792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режим дня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расписание учебных занятий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питание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санитарно-гигиенические условия (мебель, освещение, проветривание и др.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режим перемен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Line 25"/>
            <p:cNvSpPr/>
            <p:nvPr/>
          </p:nvSpPr>
          <p:spPr>
            <a:xfrm>
              <a:off x="6143760" y="3143160"/>
              <a:ext cx="2415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3600"/>
                            </p:stCondLst>
                            <p:childTnLst>
                              <p:par>
                                <p:cTn id="13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1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6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1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6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11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26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1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ребования к проведению физкультминуток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800600" cy="444960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ы подбираются в зависимости от   вида урока, его содержа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жнения должны быть разнообразны, так   как однообразие снижает интерес к ним, а следовательно, и их результативност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культминутки должны проводиться на начальном этапе утомления, выполнение упражнений при сильном утомлении не дает желаемого результат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жно обеспечить позитивный эмоциональный настрой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Picture 7" descr="C:\Users\1\Desktop\физминутка\DSCN1399.JPG"/>
          <p:cNvPicPr/>
          <p:nvPr/>
        </p:nvPicPr>
        <p:blipFill>
          <a:blip r:embed="rId1"/>
          <a:stretch/>
        </p:blipFill>
        <p:spPr>
          <a:xfrm>
            <a:off x="5500800" y="378612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C:\Users\1\Desktop\физминутка\DSCN1398.JPG"/>
          <p:cNvPicPr/>
          <p:nvPr/>
        </p:nvPicPr>
        <p:blipFill>
          <a:blip r:embed="rId2"/>
          <a:stretch/>
        </p:blipFill>
        <p:spPr>
          <a:xfrm>
            <a:off x="5500800" y="1643040"/>
            <a:ext cx="271440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иды физкультминуток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3987720" cy="388620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для снятия общего или локального утомл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для кистей ру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мнастика для глаз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мнастика для слух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корректирующие осан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ыхательная гимнастик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6" descr="1"/>
          <p:cNvPicPr/>
          <p:nvPr/>
        </p:nvPicPr>
        <p:blipFill>
          <a:blip r:embed="rId1"/>
          <a:stretch/>
        </p:blipFill>
        <p:spPr>
          <a:xfrm>
            <a:off x="5929200" y="2000160"/>
            <a:ext cx="1981440" cy="1481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2"/>
          <p:cNvPicPr/>
          <p:nvPr/>
        </p:nvPicPr>
        <p:blipFill>
          <a:blip r:embed="rId2"/>
          <a:stretch/>
        </p:blipFill>
        <p:spPr>
          <a:xfrm>
            <a:off x="6143760" y="4000680"/>
            <a:ext cx="1752480" cy="133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Ковалько В.И. «Здоровьесберегающие технологии в школе. 1-4 классы.».,Москва, Издательство «Вако»,2005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мирнов Н.К. «Здоровьесберегающие образовательные технологии в современной школе»., Москва, Издательство «АПК и ПРО», 2002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ветова Е.В. «Эффективные образовательные технологии»., Ростов н/Д, Издательство «Феникс», 2007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ttp://www.openclass.ru/io/9/kostenko   Костенко Л.В. «Здоровье сберегающие технологии в школе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1295280" y="1981080"/>
            <a:ext cx="7467840" cy="37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126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доровье ученика в норме, если: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143000" y="1905120"/>
            <a:ext cx="800100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физическ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здоровье позволяет ему справляться с учебной нагрузкой, ребенок умеет преодолевать устал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соци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коммуникабелен, общителен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эмоцион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ребенок уравновешен, способен удивляться и восхищатьс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интеллекту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учащийся проявляет хорошие умственные способности, наблюдательность, воображение, самообучаем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нравствен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признает основные общечеловеческие цен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доровьесберегающ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бразовательные технологии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371600" y="2362320"/>
            <a:ext cx="7308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bbe0e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образовательные технологии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инципы здоровьесбережения</a:t>
            </a:r>
            <a:r>
              <a:rPr b="1" lang="en-US" sz="33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33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143000" y="1828800"/>
            <a:ext cx="7543800" cy="38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навред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оритет заботы о здоровье учителя и учаще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прерывность и преемственность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ивные взаимоотнош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ответствие содержания и организации обучения возрастным особенностям усащихс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лексный, междисциплинарный подхо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пех порождает успе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ктив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ственность за свое здоровь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учебной деятель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учебной деятельност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прос,письмо,чтение,слуша-ние,рассказ, ответы на вопросы,рас- сматривание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40"/>
          <p:cNvSpPr/>
          <p:nvPr/>
        </p:nvSpPr>
        <p:spPr>
          <a:xfrm>
            <a:off x="1355760" y="3419640"/>
            <a:ext cx="1387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яя продолжи- тельность и частота чередова-ния видов деятельно-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95280" y="1905120"/>
          <a:ext cx="7392960" cy="38890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пре-пода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препода- вания: словесный, наглядный, самостоятель-ная или практическая работа, аудиовизуаль- н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95280" y="1905120"/>
          <a:ext cx="7392960" cy="38494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дова-ние видов преподава-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 уро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ремени, затраченное школьником на рабо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озже, чем через 10-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 60% и не 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-8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 мин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90%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череду-ю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Line 40"/>
          <p:cNvSpPr/>
          <p:nvPr/>
        </p:nvSpPr>
        <p:spPr>
          <a:xfrm>
            <a:off x="1295280" y="4191120"/>
            <a:ext cx="7391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7:52:28Z</dcterms:created>
  <dc:creator>olga</dc:creator>
  <dc:description/>
  <dc:language>en-US</dc:language>
  <cp:lastModifiedBy>1</cp:lastModifiedBy>
  <dcterms:modified xsi:type="dcterms:W3CDTF">2015-10-11T06:07:25Z</dcterms:modified>
  <cp:revision>19</cp:revision>
  <dc:subject/>
  <dc:title>Презентация PowerPoint</dc:title>
</cp:coreProperties>
</file>