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CE5F43-0C9F-4BC0-B589-949EED69A2C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4DF-774E-4943-8CAF-54FE761A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ECF-7F03-47B9-A10E-428E498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EDF-3804-4EEB-AA99-0861061E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21C-DD2B-492B-83DC-E9F8CED9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CCF8-AFD2-4E5C-B9D2-9328AB38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72B-B64B-4FAF-BB0A-6BAD7D8B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A3DD-DE43-4641-ADE2-E78FA98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2280-425E-401A-931F-5AC0132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1ACD-699A-4669-9887-0B78F363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AA7F-1148-4038-87ED-8435AD35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7993-7BBF-447E-A5EA-04F9958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77D-5E04-4A93-804C-C8BE4377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59F3-45A4-434E-8CC7-A1914CF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C912-97DD-48B9-A19F-E7D7724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EE63-E642-423C-A264-D42AC026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BAE0-322A-4DE9-A327-7169D1BC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52C8-31C3-41F6-B1A1-9F449678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8F8-A7E4-4AB1-A557-50DB7CFF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C7C-D631-4881-A810-49AC5323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019-4401-48DD-8EEC-05B1FCF0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B27-F1B5-4452-8B7D-DDB78FE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B0B-A104-4CDF-993D-7648B5D8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C2C-AB23-427D-ADC9-22E8C0E1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DAF-62AD-4B10-8BB0-5FDAFDA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CC8B4D-6A27-46AB-A5FC-4E50A334B3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2B5451-6006-4526-A70F-AEF5D9B016B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на уроках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4640" y="4857840"/>
            <a:ext cx="34290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нзыы А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«НОШ» с.Хову-Акс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4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4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5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2280" y="-35892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Профилактика переутомления учащихся на уроках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1720" y="150012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сить умственную работоспособность и сократить период адаптации к содержанию материала в начале уро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брать оптимальный ритм и темп уро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моциональность, артистизм педагог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ключить шумовое раздражение на урок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ть приемы поощрения, подбадривания учащихс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одить смену деятельности, практиковать нестандартные урок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ть основные эколого-медико-психолого-педагогические методы преподавания: внушение, погружение, ритмическую стимуляцию органов чувств, аудиовизуализацию, аудиолингвализацию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одить динамические пауз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канчивать урок за 1-2 минуты до звон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задерживать учащихся на переме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44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 u="sng">
                <a:solidFill>
                  <a:srgbClr val="000099"/>
                </a:solidFill>
                <a:uFillTx/>
                <a:latin typeface="Arial"/>
              </a:rPr>
              <a:t>Внутришкольные факторы, влияющие на здоровье учащих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132000" y="2924280"/>
            <a:ext cx="2954520" cy="3682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доровье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3071880" y="3357720"/>
            <a:ext cx="2954160" cy="2944080"/>
            <a:chOff x="3071880" y="3357720"/>
            <a:chExt cx="2954160" cy="2944080"/>
          </a:xfrm>
        </p:grpSpPr>
        <p:sp>
          <p:nvSpPr>
            <p:cNvPr id="122" name="Text Box 5"/>
            <p:cNvSpPr/>
            <p:nvPr/>
          </p:nvSpPr>
          <p:spPr>
            <a:xfrm>
              <a:off x="3071880" y="5099040"/>
              <a:ext cx="2954160" cy="1202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чебный пл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ыбор УМ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ыбор програм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4582800" y="3357720"/>
              <a:ext cx="0" cy="1727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285840" y="3357720"/>
            <a:ext cx="4031640" cy="2801160"/>
            <a:chOff x="285840" y="3357720"/>
            <a:chExt cx="4031640" cy="2801160"/>
          </a:xfrm>
        </p:grpSpPr>
        <p:sp>
          <p:nvSpPr>
            <p:cNvPr id="125" name="Text Box 8"/>
            <p:cNvSpPr/>
            <p:nvPr/>
          </p:nvSpPr>
          <p:spPr>
            <a:xfrm>
              <a:off x="285840" y="5099040"/>
              <a:ext cx="2663640" cy="105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роки физкульту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портивные секции и круж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2949480" y="3357720"/>
              <a:ext cx="1368000" cy="1727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4857840" y="3357720"/>
            <a:ext cx="3743280" cy="2658240"/>
            <a:chOff x="4857840" y="3357720"/>
            <a:chExt cx="3743280" cy="2658240"/>
          </a:xfrm>
        </p:grpSpPr>
        <p:sp>
          <p:nvSpPr>
            <p:cNvPr id="128" name="Text Box 11"/>
            <p:cNvSpPr/>
            <p:nvPr/>
          </p:nvSpPr>
          <p:spPr>
            <a:xfrm>
              <a:off x="6369120" y="5373360"/>
              <a:ext cx="2232000" cy="642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досуговая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4857840" y="3357720"/>
              <a:ext cx="1511280" cy="20156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3130560" y="692280"/>
            <a:ext cx="2954160" cy="2231640"/>
            <a:chOff x="3130560" y="692280"/>
            <a:chExt cx="2954160" cy="2231640"/>
          </a:xfrm>
        </p:grpSpPr>
        <p:sp>
          <p:nvSpPr>
            <p:cNvPr id="131" name="Text Box 14"/>
            <p:cNvSpPr/>
            <p:nvPr/>
          </p:nvSpPr>
          <p:spPr>
            <a:xfrm>
              <a:off x="3130560" y="692280"/>
              <a:ext cx="2954160" cy="147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заимоотношения с одноклассник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отношение уч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доровье уч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V="1">
              <a:off x="4643280" y="2206440"/>
              <a:ext cx="0" cy="717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428760" y="1071720"/>
            <a:ext cx="2646000" cy="3286080"/>
            <a:chOff x="428760" y="1071720"/>
            <a:chExt cx="2646000" cy="3286080"/>
          </a:xfrm>
        </p:grpSpPr>
        <p:grpSp>
          <p:nvGrpSpPr>
            <p:cNvPr id="134" name="Group 17"/>
            <p:cNvGrpSpPr/>
            <p:nvPr/>
          </p:nvGrpSpPr>
          <p:grpSpPr>
            <a:xfrm>
              <a:off x="428760" y="1071720"/>
              <a:ext cx="2391120" cy="3286080"/>
              <a:chOff x="428760" y="1071720"/>
              <a:chExt cx="2391120" cy="3286080"/>
            </a:xfrm>
          </p:grpSpPr>
          <p:sp>
            <p:nvSpPr>
              <p:cNvPr id="135" name="Text Box 18"/>
              <p:cNvSpPr/>
              <p:nvPr/>
            </p:nvSpPr>
            <p:spPr>
              <a:xfrm>
                <a:off x="428760" y="1071720"/>
                <a:ext cx="2391120" cy="64260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800" spc="-1" strike="noStrike">
                    <a:solidFill>
                      <a:srgbClr val="009973"/>
                    </a:solidFill>
                    <a:latin typeface="Arial"/>
                  </a:rPr>
                  <a:t>Организация заняти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Text Box 19"/>
              <p:cNvSpPr/>
              <p:nvPr/>
            </p:nvSpPr>
            <p:spPr>
              <a:xfrm>
                <a:off x="449640" y="1808640"/>
                <a:ext cx="2357280" cy="2549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вид учебной деятельно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технологи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стиль преподавани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отметка, оценка знан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объем домашних задан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Line 20"/>
            <p:cNvSpPr/>
            <p:nvPr/>
          </p:nvSpPr>
          <p:spPr>
            <a:xfrm flipH="1">
              <a:off x="2819880" y="3097440"/>
              <a:ext cx="254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21"/>
          <p:cNvGrpSpPr/>
          <p:nvPr/>
        </p:nvGrpSpPr>
        <p:grpSpPr>
          <a:xfrm>
            <a:off x="6143760" y="857160"/>
            <a:ext cx="2540880" cy="4214160"/>
            <a:chOff x="6143760" y="857160"/>
            <a:chExt cx="2540880" cy="4214160"/>
          </a:xfrm>
        </p:grpSpPr>
        <p:grpSp>
          <p:nvGrpSpPr>
            <p:cNvPr id="139" name="Group 22"/>
            <p:cNvGrpSpPr/>
            <p:nvPr/>
          </p:nvGrpSpPr>
          <p:grpSpPr>
            <a:xfrm>
              <a:off x="6442560" y="857160"/>
              <a:ext cx="2242080" cy="4214160"/>
              <a:chOff x="6442560" y="857160"/>
              <a:chExt cx="2242080" cy="4214160"/>
            </a:xfrm>
          </p:grpSpPr>
          <p:sp>
            <p:nvSpPr>
              <p:cNvPr id="140" name="Text Box 23"/>
              <p:cNvSpPr/>
              <p:nvPr/>
            </p:nvSpPr>
            <p:spPr>
              <a:xfrm>
                <a:off x="6442560" y="857160"/>
                <a:ext cx="2201040" cy="91692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800" spc="-1" strike="noStrike">
                    <a:solidFill>
                      <a:srgbClr val="009973"/>
                    </a:solidFill>
                    <a:latin typeface="Arial"/>
                  </a:rPr>
                  <a:t>Режим функционирования школ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24"/>
              <p:cNvSpPr/>
              <p:nvPr/>
            </p:nvSpPr>
            <p:spPr>
              <a:xfrm>
                <a:off x="6451560" y="1792080"/>
                <a:ext cx="2233080" cy="3279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ежим дн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асписание учебных занят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питание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санитарно-гигиенические условия (мебель, освещение, проветривание и др.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ежим перемен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Line 25"/>
            <p:cNvSpPr/>
            <p:nvPr/>
          </p:nvSpPr>
          <p:spPr>
            <a:xfrm>
              <a:off x="6143760" y="3143160"/>
              <a:ext cx="241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1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6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1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6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6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7" descr="C:\Users\1\Desktop\физминутка\DSCN1399.JPG"/>
          <p:cNvPicPr/>
          <p:nvPr/>
        </p:nvPicPr>
        <p:blipFill>
          <a:blip r:embed="rId1"/>
          <a:stretch/>
        </p:blipFill>
        <p:spPr>
          <a:xfrm>
            <a:off x="5500800" y="378612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1\Desktop\физминутка\DSCN1398.JPG"/>
          <p:cNvPicPr/>
          <p:nvPr/>
        </p:nvPicPr>
        <p:blipFill>
          <a:blip r:embed="rId2"/>
          <a:stretch/>
        </p:blipFill>
        <p:spPr>
          <a:xfrm>
            <a:off x="5500800" y="164304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" descr="1"/>
          <p:cNvPicPr/>
          <p:nvPr/>
        </p:nvPicPr>
        <p:blipFill>
          <a:blip r:embed="rId1"/>
          <a:stretch/>
        </p:blipFill>
        <p:spPr>
          <a:xfrm>
            <a:off x="5929200" y="200016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2"/>
          <p:cNvPicPr/>
          <p:nvPr/>
        </p:nvPicPr>
        <p:blipFill>
          <a:blip r:embed="rId2"/>
          <a:stretch/>
        </p:blipFill>
        <p:spPr>
          <a:xfrm>
            <a:off x="6143760" y="4000680"/>
            <a:ext cx="175248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1</cp:lastModifiedBy>
  <dcterms:modified xsi:type="dcterms:W3CDTF">2015-10-11T06:07:25Z</dcterms:modified>
  <cp:revision>19</cp:revision>
  <dc:subject/>
  <dc:title>Презентация PowerPoint</dc:title>
</cp:coreProperties>
</file>