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AA52-41F0-4445-A9B5-EE151325D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7A0D-3E08-4FCA-83AC-CB48C7C7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9078-C656-4E8F-9B63-4A9F99D1E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3384-EF2B-4DF4-A93D-45D6972D4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1F44-763B-4077-BCC4-6A5F57AAF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44B6-7664-43B6-A8B8-23BA8D73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48F6-17AB-4649-B086-4C3B90B7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EE12-8AA9-4307-AD2B-9D91978E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B6F7-14D1-4164-ABA3-A306A4C8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3493-8321-4202-B55D-FD641212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22C1-21CC-46B5-A2C6-D2DBFFAC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0DDD-E7B5-4F6E-92D4-57A16B96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2E24-8F14-44B9-848B-252CEC4B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51F9-45DB-4D5F-A5D1-4993804D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51D1-B196-4936-98F7-75E4C64F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35DA-106E-48FD-B842-7C8EDE39D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D160-2257-4547-9F0E-66375FA96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989C-955E-444B-8035-1E68FEAB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2D63-F284-4E08-A60C-9B7E3C67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2746-1DBE-4EE8-8A5E-BA67EDCB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C013-5C4D-4457-8E70-E0EB5144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3615-5134-4E4A-9616-1D7F7203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1C4D-3E37-450F-81E4-8EE673AF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2D9A-6331-47D2-A0FE-004348ED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DA0C-EF06-4BCE-B04B-CC480A5A7C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9C3C-C34A-4CAA-AF52-7184D32E801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02560" cy="2259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Здоровьесберегающие технологии на уроках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6e6b"/>
                </a:solidFill>
                <a:latin typeface="Garamond"/>
              </a:rPr>
              <a:t>Физкультминутка для глаз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ертикальные движения глаз вверх вниз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горизонтальное вправо — влево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ращение глазами по часовой стрелке и против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крыть глаза и представить по очереди цвета радуги как можно отчетливе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 доске до начала урока начертить какую-либо кривую (спираль, окружность, ломаную); предлагается глазами «нарисовать» эти фигуры несколько раз в одном, а затем в другом направлен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6e6b"/>
                </a:solidFill>
                <a:latin typeface="Garamond"/>
              </a:rPr>
              <a:t>Массаж биологически активных точек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тягивание за мочки сверху вниз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тягивание ушной раковины вверх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руговые движения ушной раковины по часовой стрелке и проти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6e6b"/>
                </a:solidFill>
                <a:latin typeface="Garamond"/>
              </a:rPr>
              <a:t>Пожелания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ботьтесь о здоровье детей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ключайте физкультминутки и динамические паузы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ледите за чистотой воздуха в классе, температурным режимом, освещенностью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учайте своих учащихся к здоровому образу жизн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Будьте для них ярким примером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819640" y="-5019840"/>
            <a:ext cx="1429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Здоровье - не все, но все без здоровья - ничто»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крат</a:t>
            </a:r>
            <a:br>
              <a:rPr sz="1600"/>
            </a:br>
            <a:br>
              <a:rPr sz="1600"/>
            </a:b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539640" y="213372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539640" y="2923560"/>
            <a:ext cx="820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 устава Всемирной организации здравоохранен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доровье - состояние полного физического, духовного и социального благополуч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6e6b"/>
                </a:solidFill>
                <a:latin typeface="Garamond"/>
              </a:rPr>
              <a:t>Здоровье ученика в норме, если: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в физическом плане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здоровье позволяет ему справляться с учебной нагрузкой, ребёнок умеет преодолевать усталость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в социальном плане –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он коммуникабелен, общителен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в эмоциональном плане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ребёнок уравновешен, способен удивляться и восхищатьс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в интеллектуальном плане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учащийся проявляет хорошие умственные способности, наблюдательность, воображение, самообучаемость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в нравственном плане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он признаёт основные общечеловеческие ценно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e6b"/>
                </a:solidFill>
                <a:latin typeface="Garamond"/>
              </a:rPr>
              <a:t>Цель здоровьесберегающих образовательных технологий обучения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256500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еспечить школьнику возможность сохранения здоровья за период обучения в школе, сформировать у него необходимые знания и навыки по здоровому образу жизни, научить использовать полученные знания повседневной жизн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6e6b"/>
                </a:solidFill>
                <a:latin typeface="Garamond"/>
              </a:rPr>
              <a:t>Факторы, разрушающее здоровь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ежим постоянного сидения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крытые помещения, ограниченные пространств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учение  компьютеру приводит к "шизоидной интоксикации" сознани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етодики, разрушающие целостное восприятие мир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т.д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6e6b"/>
                </a:solidFill>
                <a:latin typeface="Garamond"/>
              </a:rPr>
              <a:t>Здоровьеразрушающие инновации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мена парт на столы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мена каллиграфического письма перьевой ручкой на безотрывное письмо шариковой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мена электролампового освещения на высококачественное люминесцентно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кращение или изгнание из школы уроков труд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мена шестидневной учебной недели на пятидневную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Бесконечные смены содержания образования и учебных планов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6e6b"/>
                </a:solidFill>
                <a:latin typeface="Garamond"/>
              </a:rPr>
              <a:t>Правильная организация учебной</a:t>
            </a:r>
            <a:r>
              <a:rPr b="1" lang="ru-RU" sz="4400" spc="-1" strike="noStrike">
                <a:solidFill>
                  <a:srgbClr val="006e6b"/>
                </a:solidFill>
                <a:latin typeface="Garamond"/>
              </a:rPr>
              <a:t> </a:t>
            </a:r>
            <a:r>
              <a:rPr b="0" i="1" lang="ru-RU" sz="4400" spc="-1" strike="noStrike">
                <a:solidFill>
                  <a:srgbClr val="006e6b"/>
                </a:solidFill>
                <a:latin typeface="Garamond"/>
              </a:rPr>
              <a:t>деятельности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трогая дозировка учебной нагрузки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строение урока с учетом работоспособности учащихс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блюдение гигиенических требований (свежий воздух, оптимальный тепловой режим, хорошая освещенность, чистота)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благоприятный эмоциональный настрой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ведение физкультминуток и динамических пауз на урока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6e6b"/>
                </a:solidFill>
                <a:latin typeface="Garamond"/>
              </a:rPr>
              <a:t>Интенсивность умственной деятельности учащихся в ходе урока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600200"/>
          <a:ext cx="8229600" cy="4933800"/>
        </p:xfrm>
        <a:graphic>
          <a:graphicData uri="http://schemas.openxmlformats.org/drawingml/2006/table">
            <a:tbl>
              <a:tblPr/>
              <a:tblGrid>
                <a:gridCol w="2057400"/>
                <a:gridCol w="1120680"/>
                <a:gridCol w="2305080"/>
                <a:gridCol w="2746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Часть уро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рем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грузк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ятельност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-й этап. Врабатывани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 мин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тносительно невелик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епродуктивная, переходящая в прдуктивную. Повторени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-й этап. Максимальная работоспособность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-25 мин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аксимальное снижение на 15 мин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дуктивная, творческая, знакомство с новым материалом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-й этап. Конечный поры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-15 мин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ебольшое повышение работоспособ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епродуктивная, отработка узловых моментов пройденного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e6b"/>
                </a:solidFill>
                <a:latin typeface="Garamond"/>
              </a:rPr>
              <a:t>Как подобрать здоровьесберегающие средства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ля включения всех учащихся в учебную деятельность по освоению изучаемого материала необходимо помнить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.один и тот же учебный материал может быть представлен несколькими средствами обучения (печатные издания, аудио – видео и др.), каждое из которых обладает своими дидактическими возможностям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.подбирать здоровьесберегающие средства обучения  так, чтобы дети смогли включиться в работу в соответствии с индивидуальными возможностями, при этом «визуалы» смогли  увидеть, «кинестеты» – ощутить, «аудиалы» – услышать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20:50:28Z</dcterms:created>
  <dc:creator>Компьютер</dc:creator>
  <dc:description/>
  <dc:language>en-US</dc:language>
  <cp:lastModifiedBy>1</cp:lastModifiedBy>
  <dcterms:modified xsi:type="dcterms:W3CDTF">2015-10-06T10:14:15Z</dcterms:modified>
  <cp:revision>9</cp:revision>
  <dc:subject/>
  <dc:title>Здоровьесберегающие технологии на уроках математики</dc:title>
</cp:coreProperties>
</file>