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4B71-54A6-42F0-B87B-735BE59B8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1D14-0C40-4C64-A895-E0731441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63E5-B7E5-4A42-A447-E848ADA5B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CBA3-5871-4D61-BE5D-4D151B868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5833-38D1-49A8-B74D-93A8C31F1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2671-0E4C-462F-ADC2-CAF0E669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D17D-46D1-473E-A400-BB5AFEC7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0B82-F869-4542-AA48-67CC787F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07F7-E378-4489-8B9C-F98B0A20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41F8-5846-4038-A95D-390B138E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EA43-FD62-40DB-8556-47B076B7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DE86-007E-45C2-89E9-2E6BC0E9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BF4B-8BD6-4D38-9FEE-FE0F9D1A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D0C0-8DB6-443A-B60A-BB4027EB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5DC3-4B1E-442B-B195-0B4F3CE2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EAA7-364D-43B7-B62F-B3DEDADCE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4D5F-E0B9-4EFF-A852-3FDAF63B4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1D53-19A4-46B0-96AE-CD7942E5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7F81-BAAD-4381-B3EA-5BD8EB87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9556-0720-47BC-9D2B-935F7564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371F-21CB-4888-B843-E252DD26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3D16-C2D4-46D5-8BEF-16CE27F1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EB32-02F5-4101-97EC-1BF28B48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89E1-6901-4902-AA97-2E4037A5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8791-484A-4D37-A6E9-3DCC69074B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F21E-4664-4B56-AF9F-8F807200D03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02560" cy="2259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Здоровьесберегающие технологии на уроках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e6b"/>
                </a:solidFill>
                <a:latin typeface="Garamond"/>
              </a:rPr>
              <a:t>Физкультминутка для глаз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ертикальные движения глаз вверх вниз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оризонтальное вправо — влево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ращение глазами по часовой стрелке и против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крыть глаза и представить по очереди цвета радуги как можно отчетливе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 доске до начала урока начертить какую-либо кривую (спираль, окружность, ломаную); предлагается глазами «нарисовать» эти фигуры несколько раз в одном, а затем в другом направлен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e6b"/>
                </a:solidFill>
                <a:latin typeface="Garamond"/>
              </a:rPr>
              <a:t>Массаж биологически активных точек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тягивание за мочки сверху вниз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тягивание ушной раковины вверх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руговые движения ушной раковины по часовой стрелке и проти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e6b"/>
                </a:solidFill>
                <a:latin typeface="Garamond"/>
              </a:rPr>
              <a:t>Пожелания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ботьтесь о здоровье детей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ключайте физкультминутки и динамические паузы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ледите за чистотой воздуха в классе, температурным режимом, освещенностью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учайте своих учащихся к здоровому образу жизн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Будьте для них ярким примером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819640" y="-5019840"/>
            <a:ext cx="1429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Здоровье - не все, но все без здоровья - ничто»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крат</a:t>
            </a:r>
            <a:br>
              <a:rPr sz="1600"/>
            </a:br>
            <a:br>
              <a:rPr sz="16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539640" y="213372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539640" y="2923560"/>
            <a:ext cx="820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 устава Всемирной организации здравоохранен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доровье - состояние полного физического, духовного и социального благополуч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e6b"/>
                </a:solidFill>
                <a:latin typeface="Garamond"/>
              </a:rPr>
              <a:t>Здоровье ученика в норме, если: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в физическом плане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здоровье позволяет ему справляться с учебной нагрузкой, ребёнок умеет преодолевать усталость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в социальном плане –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он коммуникабелен, общителен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в эмоциональном плане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ребёнок уравновешен, способен удивляться и восхищатьс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в интеллектуальном плане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учащийся проявляет хорошие умственные способности, наблюдательность, воображение, самообучаемость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в нравственном плане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он признаёт основные общечеловеческие ценн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e6b"/>
                </a:solidFill>
                <a:latin typeface="Garamond"/>
              </a:rPr>
              <a:t>Цель здоровьесберегающих образовательных технологий обучения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256500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еспечить школьнику возможность сохранения здоровья за период обучения в школе, сформировать у него необходимые знания и навыки по здоровому образу жизни, научить использовать полученные знания повседневной жизн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e6b"/>
                </a:solidFill>
                <a:latin typeface="Garamond"/>
              </a:rPr>
              <a:t>Факторы, разрушающее здоровь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ежим постоянного сидения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крытые помещения, ограниченные пространств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учение  компьютеру приводит к "шизоидной интоксикации" сознани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етодики, разрушающие целостное восприятие мир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т.д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e6b"/>
                </a:solidFill>
                <a:latin typeface="Garamond"/>
              </a:rPr>
              <a:t>Здоровьеразрушающие инновации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мена парт на столы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мена каллиграфического письма перьевой ручкой на безотрывное письмо шариковой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мена электролампового освещения на высококачественное люминесцентно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кращение или изгнание из школы уроков труд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мена шестидневной учебной недели на пятидневную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Бесконечные смены содержания образования и учебных планов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e6b"/>
                </a:solidFill>
                <a:latin typeface="Garamond"/>
              </a:rPr>
              <a:t>Правильная организация учебной</a:t>
            </a:r>
            <a:r>
              <a:rPr b="1" lang="ru-RU" sz="4400" spc="-1" strike="noStrike">
                <a:solidFill>
                  <a:srgbClr val="006e6b"/>
                </a:solidFill>
                <a:latin typeface="Garamond"/>
              </a:rPr>
              <a:t> </a:t>
            </a:r>
            <a:r>
              <a:rPr b="0" i="1" lang="ru-RU" sz="4400" spc="-1" strike="noStrike">
                <a:solidFill>
                  <a:srgbClr val="006e6b"/>
                </a:solidFill>
                <a:latin typeface="Garamond"/>
              </a:rPr>
              <a:t>деятельности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трогая дозировка учебной нагрузки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строение урока с учетом работоспособности учащихс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блюдение гигиенических требований (свежий воздух, оптимальный тепловой режим, хорошая освещенность, чистота)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благоприятный эмоциональный настрой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ведение физкультминуток и динамических пауз на урока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6e6b"/>
                </a:solidFill>
                <a:latin typeface="Garamond"/>
              </a:rPr>
              <a:t>Интенсивность умственной деятельности учащихся в ходе урока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600200"/>
          <a:ext cx="8229600" cy="4933800"/>
        </p:xfrm>
        <a:graphic>
          <a:graphicData uri="http://schemas.openxmlformats.org/drawingml/2006/table">
            <a:tbl>
              <a:tblPr/>
              <a:tblGrid>
                <a:gridCol w="2057400"/>
                <a:gridCol w="1120680"/>
                <a:gridCol w="2305080"/>
                <a:gridCol w="2746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Часть уро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рем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грузк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ятельност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-й этап. Врабатывани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 мин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тносительно невелик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епродуктивная, переходящая в прдуктивную. Повторени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-й этап. Максимальная работоспособность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-25 мин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аксимальное снижение на 15 мин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дуктивная, творческая, знакомство с новым материалом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-й этап. Конечный поры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-15 мин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ебольшое повышение работоспособ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епродуктивная, отработка узловых моментов пройденного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e6b"/>
                </a:solidFill>
                <a:latin typeface="Garamond"/>
              </a:rPr>
              <a:t>Как подобрать здоровьесберегающие средства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ля включения всех учащихся в учебную деятельность по освоению изучаемого материала необходимо помнить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.один и тот же учебный материал может быть представлен несколькими средствами обучения (печатные издания, аудио – видео и др.), каждое из которых обладает своими дидактическими возможностям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.подбирать здоровьесберегающие средства обучения  так, чтобы дети смогли включиться в работу в соответствии с индивидуальными возможностями, при этом «визуалы» смогли  увидеть, «кинестеты» – ощутить, «аудиалы» – услышать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20:50:28Z</dcterms:created>
  <dc:creator>Компьютер</dc:creator>
  <dc:description/>
  <dc:language>en-US</dc:language>
  <cp:lastModifiedBy>1</cp:lastModifiedBy>
  <dcterms:modified xsi:type="dcterms:W3CDTF">2015-10-06T10:14:15Z</dcterms:modified>
  <cp:revision>9</cp:revision>
  <dc:subject/>
  <dc:title>Здоровьесберегающие технологии на уроках математики</dc:title>
</cp:coreProperties>
</file>