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CC67D-19CB-4D0B-A0D9-DF838FF76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9B837-471A-4D15-90EC-66F61FEC7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7E9FD-DC7E-4485-A765-A38EEB037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F1875-7752-4757-9798-F792280D5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17435-2771-4B86-AFD6-1A3C35F3D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72E2C-20E2-4460-A486-59AE0A224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6FFA1-A79B-40C3-B552-2FD3EEA9A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81FC7-2513-44DE-B5CA-642BCF8E5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90C58-D718-4A4C-9207-49B3718D2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56B14-31B4-4DCF-9FBF-9F97AADC4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16E7E-9A0C-4D41-A2FF-208FEA427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4AEB0-20D8-41DE-B6C4-A9E5B46AE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9A2E9-9703-41F8-9433-E27BF1005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EB22F-B4B2-4FE9-A33A-3C1771F94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077F9-47EB-4D2A-9A58-688645A89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28D6F-210C-495D-9F58-2E742CB7C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F48B4-BC52-41FE-87A7-25BED537D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B573A-ADF0-4F32-B519-8594AB052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7DCF8-C51B-432A-AAFB-D03338BB5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7E73C-41E8-4178-B44E-28824B10A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EEAE0-6571-471D-891B-A5230DAFA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9A7DD-82DF-4A6B-8916-0C982E31B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EC995-98A0-442D-8749-C4A7F1B77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4F4BA-2A93-4639-BE1F-EC24AFD29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4229280"/>
              <a:ext cx="4267080" cy="1942920"/>
            </a:xfrm>
            <a:prstGeom prst="pie">
              <a:avLst/>
            </a:pr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332320" y="2438280"/>
              <a:ext cx="3811680" cy="1955880"/>
            </a:xfrm>
            <a:prstGeom prst="pie">
              <a:avLst/>
            </a:pr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019920" y="2438280"/>
              <a:ext cx="3124080" cy="1209960"/>
            </a:xfrm>
            <a:prstGeom prst="pie">
              <a:avLst/>
            </a:pr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713560" y="3932280"/>
              <a:ext cx="295200" cy="19044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999040" y="3798720"/>
              <a:ext cx="293760" cy="19080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6094440" y="2914560"/>
              <a:ext cx="838080" cy="43668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5835600" y="3198960"/>
              <a:ext cx="1144800" cy="48564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5330880" y="3000240"/>
              <a:ext cx="3809880" cy="139860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094440" y="2943360"/>
              <a:ext cx="915840" cy="40932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8456760" y="2606760"/>
              <a:ext cx="7920" cy="1440"/>
            </a:xfrm>
            <a:prstGeom prst="pie">
              <a:avLst/>
            </a:pr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6094440" y="2743200"/>
              <a:ext cx="1136520" cy="60804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481720" y="3605040"/>
              <a:ext cx="504720" cy="35748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4219560"/>
              <a:ext cx="4119480" cy="1481040"/>
            </a:xfrm>
            <a:prstGeom prst="pie">
              <a:avLst/>
            </a:pr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0" y="4753080"/>
              <a:ext cx="4322880" cy="173196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5CCCA-9AFA-4B2D-BD6F-2DE7CF04066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0" y="4229280"/>
              <a:ext cx="4267080" cy="1942920"/>
            </a:xfrm>
            <a:prstGeom prst="pie">
              <a:avLst/>
            </a:pr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5332320" y="2438280"/>
              <a:ext cx="3811680" cy="1955880"/>
            </a:xfrm>
            <a:prstGeom prst="pie">
              <a:avLst/>
            </a:pr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6019920" y="2438280"/>
              <a:ext cx="3124080" cy="1209960"/>
            </a:xfrm>
            <a:prstGeom prst="pie">
              <a:avLst/>
            </a:pr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5713560" y="3932280"/>
              <a:ext cx="295200" cy="19044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5999040" y="3798720"/>
              <a:ext cx="293760" cy="19080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6094440" y="2914560"/>
              <a:ext cx="838080" cy="43668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5835600" y="3198960"/>
              <a:ext cx="1144800" cy="48564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5330880" y="3000240"/>
              <a:ext cx="3809880" cy="139860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094440" y="2943360"/>
              <a:ext cx="915840" cy="40932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8456760" y="2606760"/>
              <a:ext cx="7920" cy="1440"/>
            </a:xfrm>
            <a:prstGeom prst="pie">
              <a:avLst/>
            </a:pr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6094440" y="2743200"/>
              <a:ext cx="1136520" cy="60804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481720" y="3605040"/>
              <a:ext cx="504720" cy="35748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0" y="4219560"/>
              <a:ext cx="4119480" cy="1481040"/>
            </a:xfrm>
            <a:prstGeom prst="pie">
              <a:avLst/>
            </a:pr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0" y="4753080"/>
              <a:ext cx="4322880" cy="173196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B29CF-7E81-41C7-B5DA-7A7999E97A33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55640" y="1341000"/>
            <a:ext cx="7702560" cy="2259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Garamond"/>
              </a:rPr>
              <a:t>Здоровьесберегающие технологии на уроках</a:t>
            </a:r>
            <a:r>
              <a:rPr b="1" lang="ru-RU" sz="4800" spc="-1" strike="noStrike">
                <a:solidFill>
                  <a:srgbClr val="b9efee"/>
                </a:solidFill>
                <a:latin typeface="Garamond"/>
              </a:rPr>
              <a:t> 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6e6b"/>
                </a:solidFill>
                <a:latin typeface="Garamond"/>
              </a:rPr>
              <a:t>Физкультминутка для глаз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вертикальные движения глаз вверх вниз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горизонтальное вправо — влево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вращение глазами по часовой стрелке и против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закрыть глаза и представить по очереди цвета радуги как можно отчетливее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на доске до начала урока начертить какую-либо кривую (спираль, окружность, ломаную); предлагается глазами «нарисовать» эти фигуры несколько раз в одном, а затем в другом направлении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6e6b"/>
                </a:solidFill>
                <a:latin typeface="Garamond"/>
              </a:rPr>
              <a:t>Массаж биологически активных точек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отягивание за мочки сверху вниз;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отягивание ушной раковины вверх;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круговые движения ушной раковины по часовой стрелке и против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6e6b"/>
                </a:solidFill>
                <a:latin typeface="Garamond"/>
              </a:rPr>
              <a:t>Пожелания: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89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заботьтесь о здоровье детей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ключайте физкультминутки и динамические паузы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следите за чистотой воздуха в классе, температурным режимом, освещенностью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риучайте своих учащихся к здоровому образу жизни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Будьте для них ярким примером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819640" y="-5019840"/>
            <a:ext cx="14292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68360" y="62028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«Здоровье - не все, но все без здоровья - ничто»</a:t>
            </a: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Сократ</a:t>
            </a:r>
            <a:br>
              <a:rPr sz="1600"/>
            </a:br>
            <a:br>
              <a:rPr sz="1600"/>
            </a:b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539640" y="2133720"/>
            <a:ext cx="8136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Rectangle 5"/>
          <p:cNvSpPr/>
          <p:nvPr/>
        </p:nvSpPr>
        <p:spPr>
          <a:xfrm>
            <a:off x="539640" y="2923560"/>
            <a:ext cx="8209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з устава Всемирной организации здравоохранения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доровье - состояние полного физического, духовного и социального благополучия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6e6b"/>
                </a:solidFill>
                <a:latin typeface="Garamond"/>
              </a:rPr>
              <a:t>Здоровье ученика в норме, если:</a:t>
            </a: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в физическом плане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– здоровье позволяет ему справляться с учебной нагрузкой, ребёнок умеет преодолевать усталость;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в социальном плане –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он коммуникабелен, общителен;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в эмоциональном плане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– ребёнок уравновешен, способен удивляться и восхищаться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в интеллектуальном плане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– учащийся проявляет хорошие умственные способности, наблюдательность, воображение, самообучаемость;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в нравственном плане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– он признаёт основные общечеловеческие ценности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699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6e6b"/>
                </a:solidFill>
                <a:latin typeface="Garamond"/>
              </a:rPr>
              <a:t>Цель здоровьесберегающих образовательных технологий обучения</a:t>
            </a:r>
            <a:r>
              <a:rPr b="1" lang="ru-RU" sz="4800" spc="-1" strike="noStrike">
                <a:solidFill>
                  <a:srgbClr val="b9efee"/>
                </a:solidFill>
                <a:latin typeface="Garamond"/>
              </a:rPr>
              <a:t> 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39640" y="2565000"/>
            <a:ext cx="8229600" cy="36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обеспечить школьнику возможность сохранения здоровья за период обучения в школе, сформировать у него необходимые знания и навыки по здоровому образу жизни, научить использовать полученные знания повседневной жизни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6e6b"/>
                </a:solidFill>
                <a:latin typeface="Garamond"/>
              </a:rPr>
              <a:t>Факторы, разрушающее здоровье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режим постоянного сидения;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закрытые помещения, ограниченные пространства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обучение  компьютеру приводит к "шизоидной интоксикации" сознания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методики, разрушающие целостное восприятие мира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и т.д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6e6b"/>
                </a:solidFill>
                <a:latin typeface="Garamond"/>
              </a:rPr>
              <a:t>Здоровьеразрушающие инновации</a:t>
            </a: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68360" y="1699920"/>
            <a:ext cx="82296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Замена парт на столы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Замена каллиграфического письма перьевой ручкой на безотрывное письмо шариковой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Замена электролампового освещения на высококачественное люминесцентное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Сокращение или изгнание из школы уроков труда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Замена шестидневной учебной недели на пятидневную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Бесконечные смены содержания образования и учебных планов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6416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6e6b"/>
                </a:solidFill>
                <a:latin typeface="Garamond"/>
              </a:rPr>
              <a:t>Правильная организация учебной</a:t>
            </a:r>
            <a:r>
              <a:rPr b="1" lang="ru-RU" sz="4400" spc="-1" strike="noStrike">
                <a:solidFill>
                  <a:srgbClr val="006e6b"/>
                </a:solidFill>
                <a:latin typeface="Garamond"/>
              </a:rPr>
              <a:t> </a:t>
            </a:r>
            <a:r>
              <a:rPr b="0" i="1" lang="ru-RU" sz="4400" spc="-1" strike="noStrike">
                <a:solidFill>
                  <a:srgbClr val="006e6b"/>
                </a:solidFill>
                <a:latin typeface="Garamond"/>
              </a:rPr>
              <a:t>деятельности: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39640" y="1915920"/>
            <a:ext cx="822960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строгая дозировка учебной нагрузки;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построение урока с учетом работоспособности учащихся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соблюдение гигиенических требований (свежий воздух, оптимальный тепловой режим, хорошая освещенность, чистота);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благоприятный эмоциональный настрой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проведение физкультминуток и динамических пауз на уроках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6e6b"/>
                </a:solidFill>
                <a:latin typeface="Garamond"/>
              </a:rPr>
              <a:t>Интенсивность умственной деятельности учащихся в ходе урока</a:t>
            </a:r>
            <a:endParaRPr b="1" lang="en-US" sz="3600" spc="-1" strike="noStrike">
              <a:solidFill>
                <a:srgbClr val="b9efee"/>
              </a:solidFill>
              <a:latin typeface="Garamond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457200" y="1600200"/>
          <a:ext cx="8229600" cy="4933800"/>
        </p:xfrm>
        <a:graphic>
          <a:graphicData uri="http://schemas.openxmlformats.org/drawingml/2006/table">
            <a:tbl>
              <a:tblPr/>
              <a:tblGrid>
                <a:gridCol w="2057400"/>
                <a:gridCol w="1120680"/>
                <a:gridCol w="2305080"/>
                <a:gridCol w="274644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Часть урок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Время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Нагрузка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Деятельность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-й этап. Врабатывание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5 мин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Относительно невелика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Репродуктивная, переходящая в прдуктивную. Повторение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-й этап. Максимальная работоспособность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0-25 мин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Максимальное снижение на 15 мин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Продуктивная, творческая, знакомство с новым материалом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-й этап. Конечный порыв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0-15 мин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Небольшое повышение работоспособност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Репродуктивная, отработка узловых моментов пройденного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6e6b"/>
                </a:solidFill>
                <a:latin typeface="Garamond"/>
              </a:rPr>
              <a:t>Как подобрать здоровьесберегающие средства?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Для включения всех учащихся в учебную деятельность по освоению изучаемого материала необходимо помнить: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1.один и тот же учебный материал может быть представлен несколькими средствами обучения (печатные издания, аудио – видео и др.), каждое из которых обладает своими дидактическими возможностями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2.подбирать здоровьесберегающие средства обучения  так, чтобы дети смогли включиться в работу в соответствии с индивидуальными возможностями, при этом «визуалы» смогли  увидеть, «кинестеты» – ощутить, «аудиалы» – услышать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8T20:50:28Z</dcterms:created>
  <dc:creator>Компьютер</dc:creator>
  <dc:description/>
  <dc:language>en-US</dc:language>
  <cp:lastModifiedBy>1</cp:lastModifiedBy>
  <dcterms:modified xsi:type="dcterms:W3CDTF">2015-10-06T10:14:15Z</dcterms:modified>
  <cp:revision>9</cp:revision>
  <dc:subject/>
  <dc:title>Здоровьесберегающие технологии на уроках математики</dc:title>
</cp:coreProperties>
</file>