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46E-5836-44A0-B572-BD44860C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3BB-F765-4F33-89D3-7FCFF20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16F-FA4F-4DA5-9572-DA58AC0F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030-8E0C-43DF-B421-25F8109C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51B-816F-4FCC-BFE3-20C12E94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7D4-B844-46B5-BCD7-2E32FC5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1E4-75E2-4F40-B79B-9A6C249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865-65BD-4DD1-A8B4-7914E0F7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922-FEBE-4909-BF3E-6CC0C8D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187-0E9E-4297-9693-6495B41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191-C7BE-48BF-B751-1ACE144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E68-9279-4C80-AE4E-FD5E8FE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B46-FC3A-468B-8897-ECF4D2103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Здравствуй, физи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: Михайлова Татьяна Ильин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Физ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«физика» произошло от греческого слова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что значит «приро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ее назвал древнегреческий ученый Аристо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502699_9923-800x600.jpg"/>
          <p:cNvPicPr/>
          <p:nvPr/>
        </p:nvPicPr>
        <p:blipFill>
          <a:blip r:embed="rId1"/>
          <a:stretch/>
        </p:blipFill>
        <p:spPr>
          <a:xfrm>
            <a:off x="708120" y="160020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Физ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Три кита.png"/>
          <p:cNvPicPr/>
          <p:nvPr/>
        </p:nvPicPr>
        <p:blipFill>
          <a:blip r:embed="rId1"/>
          <a:stretch/>
        </p:blipFill>
        <p:spPr>
          <a:xfrm>
            <a:off x="574560" y="1700280"/>
            <a:ext cx="7885080" cy="355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92640" y="501336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ха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140280" y="580536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Электродина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81480" y="515772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рмодина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ставить новое слово»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50720" y="2816280"/>
            <a:ext cx="824256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755640" y="1484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Топка + и = Оп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яд + о =  ядро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олодцы, ребята!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9:29:38Z</dcterms:created>
  <dc:creator>Home User</dc:creator>
  <dc:description/>
  <dc:language>en-US</dc:language>
  <cp:lastModifiedBy>Home User</cp:lastModifiedBy>
  <dcterms:modified xsi:type="dcterms:W3CDTF">2015-04-14T20:14:03Z</dcterms:modified>
  <cp:revision>6</cp:revision>
  <dc:subject/>
  <dc:title>Здравствуй, физика</dc:title>
</cp:coreProperties>
</file>