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6C8-3C4F-4DB2-ACD2-6412E031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572-D009-47A6-9BB3-B11F7AE6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E34-345E-466F-B4C3-F68B8530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D7B-BB1D-4FB1-9CF6-16DD451F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98F-BA3E-4751-ADE4-AB414B79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107-CDA9-4FC4-AE46-58B92278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C34-17F9-4C49-9A1A-32A5666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F12-AAB2-4085-98E7-3477654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1F0-DD90-47E0-995B-4C3D6E0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CBC-3569-4AE8-B422-397AA7E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6EE-29EC-48FD-A4D9-9551035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72F-D547-4442-8964-3C9383C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A59C-05A0-45F1-BAF9-7D34190C8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Здравствуй, физи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: Михайлова Татьяна Ильин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Физ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«физика» произошло от греческого слова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что значит «приро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ее назвал древнегреческий ученый Аристо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502699_9923-800x600.jpg"/>
          <p:cNvPicPr/>
          <p:nvPr/>
        </p:nvPicPr>
        <p:blipFill>
          <a:blip r:embed="rId1"/>
          <a:stretch/>
        </p:blipFill>
        <p:spPr>
          <a:xfrm>
            <a:off x="708120" y="160020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Физ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Три кита.png"/>
          <p:cNvPicPr/>
          <p:nvPr/>
        </p:nvPicPr>
        <p:blipFill>
          <a:blip r:embed="rId1"/>
          <a:stretch/>
        </p:blipFill>
        <p:spPr>
          <a:xfrm>
            <a:off x="574560" y="1700280"/>
            <a:ext cx="7885080" cy="355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92640" y="501336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ха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140280" y="580536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Электродина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81480" y="515772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рмодина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ставить новое слово»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50720" y="2816280"/>
            <a:ext cx="824256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755640" y="1484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Топка + и = Оп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яд + о =  ядро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олодцы, ребята!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9:29:38Z</dcterms:created>
  <dc:creator>Home User</dc:creator>
  <dc:description/>
  <dc:language>en-US</dc:language>
  <cp:lastModifiedBy>Home User</cp:lastModifiedBy>
  <dcterms:modified xsi:type="dcterms:W3CDTF">2015-04-14T20:14:03Z</dcterms:modified>
  <cp:revision>6</cp:revision>
  <dc:subject/>
  <dc:title>Здравствуй, физика</dc:title>
</cp:coreProperties>
</file>