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536-58C3-4602-AA63-FEB151CE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B62-1A82-4D77-8FEE-85B46F75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82B-23DA-47AF-BF33-DDC8E411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730-5047-49EA-B37F-2EE31636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830-3173-4D87-9515-F4E71093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285-4B43-4E2D-84E8-61AB2B3C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533-B449-41EC-B527-4D3B0D6D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FBC-0CFD-4025-95DA-8C00DFC3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95A-DCAF-480A-887A-2182EE18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E98-4C9B-4B54-AE25-4541BA30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41C-C80A-4F38-8C01-9FB99B8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AAD-2769-4031-95C8-81F3D43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6003-1435-4503-8534-AC231131C8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жон Эверест Миллес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1829 – 1896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3" descr="Рисунок6"/>
          <p:cNvPicPr/>
          <p:nvPr/>
        </p:nvPicPr>
        <p:blipFill>
          <a:blip r:embed="rId1"/>
          <a:stretch/>
        </p:blipFill>
        <p:spPr>
          <a:xfrm>
            <a:off x="7236000" y="333360"/>
            <a:ext cx="1473120" cy="1981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353880" y="6175440"/>
            <a:ext cx="59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ристос в доме своих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6" descr="Рисунок6"/>
          <p:cNvPicPr/>
          <p:nvPr/>
        </p:nvPicPr>
        <p:blipFill>
          <a:blip r:embed="rId2"/>
          <a:stretch/>
        </p:blipFill>
        <p:spPr>
          <a:xfrm>
            <a:off x="179280" y="1117440"/>
            <a:ext cx="698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ипренский О.А.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трет Швальб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attach"/>
          <p:cNvPicPr/>
          <p:nvPr/>
        </p:nvPicPr>
        <p:blipFill>
          <a:blip r:embed="rId1"/>
          <a:stretch/>
        </p:blipFill>
        <p:spPr>
          <a:xfrm>
            <a:off x="2286000" y="1295280"/>
            <a:ext cx="4294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ивопись романтиз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443560" y="4581360"/>
            <a:ext cx="33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зжухина Л.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ОУ гимназия № 15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2720" y="691920"/>
            <a:ext cx="35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те Габриэль Рассетт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1828 – 1882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" descr="Рисунок1"/>
          <p:cNvPicPr/>
          <p:nvPr/>
        </p:nvPicPr>
        <p:blipFill>
          <a:blip r:embed="rId1"/>
          <a:stretch/>
        </p:blipFill>
        <p:spPr>
          <a:xfrm>
            <a:off x="5796000" y="2133720"/>
            <a:ext cx="2743200" cy="3493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4647960" y="5911920"/>
            <a:ext cx="42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ta Beatri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”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Беатриче Благословенна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6" descr="Рисунок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50920" y="260280"/>
            <a:ext cx="461484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3631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 Делакруа.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Свобода, ведущая на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Дел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32000" y="1125360"/>
            <a:ext cx="6408720" cy="548820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 Делакруа.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Львиная охота в Марок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Дел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197000"/>
            <a:ext cx="7345440" cy="553068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 Делакруа.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нте и Вергил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ДелДантеиВе"/>
          <p:cNvPicPr/>
          <p:nvPr/>
        </p:nvPicPr>
        <p:blipFill>
          <a:blip r:embed="rId1"/>
          <a:stretch/>
        </p:blipFill>
        <p:spPr>
          <a:xfrm>
            <a:off x="900000" y="1197000"/>
            <a:ext cx="7489800" cy="549108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жен Делакруа (1798 – 1863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" descr="Рисунок3"/>
          <p:cNvPicPr/>
          <p:nvPr/>
        </p:nvPicPr>
        <p:blipFill>
          <a:blip r:embed="rId1"/>
          <a:stretch/>
        </p:blipFill>
        <p:spPr>
          <a:xfrm>
            <a:off x="6877080" y="549360"/>
            <a:ext cx="1947960" cy="2628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1800000" y="6083280"/>
            <a:ext cx="37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рть Сарданап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0" descr="Рисунок4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5280" y="1184400"/>
            <a:ext cx="61927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нсиско Гойя (1746 – 1828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" descr="Рисунок5"/>
          <p:cNvPicPr/>
          <p:nvPr/>
        </p:nvPicPr>
        <p:blipFill>
          <a:blip r:embed="rId1"/>
          <a:stretch/>
        </p:blipFill>
        <p:spPr>
          <a:xfrm>
            <a:off x="6032520" y="981000"/>
            <a:ext cx="2651040" cy="3672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6640920" y="536724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7" descr="Рисунок6"/>
          <p:cNvPicPr/>
          <p:nvPr/>
        </p:nvPicPr>
        <p:blipFill>
          <a:blip r:embed="rId2"/>
          <a:stretch/>
        </p:blipFill>
        <p:spPr>
          <a:xfrm>
            <a:off x="539640" y="981000"/>
            <a:ext cx="52149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16280"/>
            <a:ext cx="510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тре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вграфа Давыдов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2" descr="Рисунок7"/>
          <p:cNvPicPr/>
          <p:nvPr/>
        </p:nvPicPr>
        <p:blipFill>
          <a:blip r:embed="rId1"/>
          <a:stretch/>
        </p:blipFill>
        <p:spPr>
          <a:xfrm>
            <a:off x="611280" y="1341360"/>
            <a:ext cx="2833560" cy="33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611280" y="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ест Адамович Кипренс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1782 – 1836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5" descr="Рисунок8"/>
          <p:cNvPicPr/>
          <p:nvPr/>
        </p:nvPicPr>
        <p:blipFill>
          <a:blip r:embed="rId2"/>
          <a:stretch/>
        </p:blipFill>
        <p:spPr>
          <a:xfrm>
            <a:off x="4932360" y="981000"/>
            <a:ext cx="410544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ot</dc:creator>
  <dc:description/>
  <dc:language>en-US</dc:language>
  <cp:lastModifiedBy>Root</cp:lastModifiedBy>
  <dcterms:modified xsi:type="dcterms:W3CDTF">2015-10-16T13:11:10Z</dcterms:modified>
  <cp:revision>12</cp:revision>
  <dc:subject/>
  <dc:title>PowerPoint Presentation</dc:title>
</cp:coreProperties>
</file>