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4597-D0B3-407A-A1DD-6D96CCF33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2F3C-09C8-44C9-8863-743D8305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6B75-B28E-4D7E-B857-B9430E12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3F0E-6288-400B-AEB6-24C10B793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CFDE-9478-4C4D-85C4-0C5F9090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15D2-698A-46B1-AFD3-BD93E146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2EDE-99B9-4800-8BB2-7D0723BC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3C78-A7F1-49C2-B8E1-37FC0A0E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CF0E-84E7-482B-99D1-E1446852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23AC-F70D-4FD8-8B68-0C7AC2E1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C782-D6BE-4093-A4C1-51F4ED5C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68E4-E211-43CC-883E-0E18FA9A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ED40-2BBF-4125-AD0D-1C87D173A1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жон Эверест Миллес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1829 – 1896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13" descr="Рисунок6"/>
          <p:cNvPicPr/>
          <p:nvPr/>
        </p:nvPicPr>
        <p:blipFill>
          <a:blip r:embed="rId1"/>
          <a:stretch/>
        </p:blipFill>
        <p:spPr>
          <a:xfrm>
            <a:off x="7236000" y="333360"/>
            <a:ext cx="1473120" cy="19810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2"/>
          <p:cNvSpPr/>
          <p:nvPr/>
        </p:nvSpPr>
        <p:spPr>
          <a:xfrm>
            <a:off x="353880" y="6175440"/>
            <a:ext cx="599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ристос в доме своих родител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6" descr="Рисунок6"/>
          <p:cNvPicPr/>
          <p:nvPr/>
        </p:nvPicPr>
        <p:blipFill>
          <a:blip r:embed="rId2"/>
          <a:stretch/>
        </p:blipFill>
        <p:spPr>
          <a:xfrm>
            <a:off x="179280" y="1117440"/>
            <a:ext cx="69850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ипренский О.А.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ртрет Швальб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attach"/>
          <p:cNvPicPr/>
          <p:nvPr/>
        </p:nvPicPr>
        <p:blipFill>
          <a:blip r:embed="rId1"/>
          <a:stretch/>
        </p:blipFill>
        <p:spPr>
          <a:xfrm>
            <a:off x="2286000" y="1295280"/>
            <a:ext cx="42940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Живопись романтиз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5443560" y="4581360"/>
            <a:ext cx="330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зжухина Л.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БОУ гимназия № 15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.Моск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92720" y="691920"/>
            <a:ext cx="35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нте Габриэль Рассетт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1828 – 1882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3" descr="Рисунок1"/>
          <p:cNvPicPr/>
          <p:nvPr/>
        </p:nvPicPr>
        <p:blipFill>
          <a:blip r:embed="rId1"/>
          <a:stretch/>
        </p:blipFill>
        <p:spPr>
          <a:xfrm>
            <a:off x="5796000" y="2133720"/>
            <a:ext cx="2743200" cy="34938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2"/>
          <p:cNvSpPr/>
          <p:nvPr/>
        </p:nvSpPr>
        <p:spPr>
          <a:xfrm>
            <a:off x="4647960" y="5911920"/>
            <a:ext cx="42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ta Beatri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”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Беатриче Благословенна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6" descr="Рисунок2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250920" y="260280"/>
            <a:ext cx="461484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3631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Э. Делакруа.</a:t>
            </a:r>
            <a:br>
              <a:rPr sz="3200"/>
            </a:b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Свобода, ведущая нар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Дел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332000" y="1125360"/>
            <a:ext cx="6408720" cy="5488200"/>
          </a:xfrm>
          <a:prstGeom prst="rect">
            <a:avLst/>
          </a:prstGeom>
          <a:ln w="3816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Э. Делакруа. </a:t>
            </a:r>
            <a:br>
              <a:rPr sz="3200"/>
            </a:b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Львиная охота в Марокк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Дел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39640" y="1197000"/>
            <a:ext cx="7345440" cy="5530680"/>
          </a:xfrm>
          <a:prstGeom prst="rect">
            <a:avLst/>
          </a:prstGeom>
          <a:ln w="3816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Э. Делакруа. </a:t>
            </a:r>
            <a:br>
              <a:rPr sz="3200"/>
            </a:b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анте и Вергил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ДелДантеиВе"/>
          <p:cNvPicPr/>
          <p:nvPr/>
        </p:nvPicPr>
        <p:blipFill>
          <a:blip r:embed="rId1"/>
          <a:stretch/>
        </p:blipFill>
        <p:spPr>
          <a:xfrm>
            <a:off x="900000" y="1197000"/>
            <a:ext cx="7489800" cy="5491080"/>
          </a:xfrm>
          <a:prstGeom prst="rect">
            <a:avLst/>
          </a:prstGeom>
          <a:ln w="3816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64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жен Делакруа (1798 – 1863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7" descr="Рисунок3"/>
          <p:cNvPicPr/>
          <p:nvPr/>
        </p:nvPicPr>
        <p:blipFill>
          <a:blip r:embed="rId1"/>
          <a:stretch/>
        </p:blipFill>
        <p:spPr>
          <a:xfrm>
            <a:off x="6877080" y="549360"/>
            <a:ext cx="1947960" cy="2628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6"/>
          <p:cNvSpPr/>
          <p:nvPr/>
        </p:nvSpPr>
        <p:spPr>
          <a:xfrm>
            <a:off x="1800000" y="6083280"/>
            <a:ext cx="37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ерть Сарданапа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0" descr="Рисунок4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95280" y="1184400"/>
            <a:ext cx="619272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рансиско Гойя (1746 – 1828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4" descr="Рисунок5"/>
          <p:cNvPicPr/>
          <p:nvPr/>
        </p:nvPicPr>
        <p:blipFill>
          <a:blip r:embed="rId1"/>
          <a:stretch/>
        </p:blipFill>
        <p:spPr>
          <a:xfrm>
            <a:off x="6032520" y="981000"/>
            <a:ext cx="2651040" cy="3672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3"/>
          <p:cNvSpPr/>
          <p:nvPr/>
        </p:nvSpPr>
        <p:spPr>
          <a:xfrm>
            <a:off x="6640920" y="5367240"/>
            <a:ext cx="14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о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7" descr="Рисунок6"/>
          <p:cNvPicPr/>
          <p:nvPr/>
        </p:nvPicPr>
        <p:blipFill>
          <a:blip r:embed="rId2"/>
          <a:stretch/>
        </p:blipFill>
        <p:spPr>
          <a:xfrm>
            <a:off x="539640" y="981000"/>
            <a:ext cx="521496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16280"/>
            <a:ext cx="510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ртрет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вграфа Давыдов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2" descr="Рисунок7"/>
          <p:cNvPicPr/>
          <p:nvPr/>
        </p:nvPicPr>
        <p:blipFill>
          <a:blip r:embed="rId1"/>
          <a:stretch/>
        </p:blipFill>
        <p:spPr>
          <a:xfrm>
            <a:off x="611280" y="1341360"/>
            <a:ext cx="2833560" cy="3311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1"/>
          <p:cNvSpPr/>
          <p:nvPr/>
        </p:nvSpPr>
        <p:spPr>
          <a:xfrm>
            <a:off x="611280" y="0"/>
            <a:ext cx="59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ест Адамович Кипренски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1782 – 1836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5" descr="Рисунок8"/>
          <p:cNvPicPr/>
          <p:nvPr/>
        </p:nvPicPr>
        <p:blipFill>
          <a:blip r:embed="rId2"/>
          <a:stretch/>
        </p:blipFill>
        <p:spPr>
          <a:xfrm>
            <a:off x="4932360" y="981000"/>
            <a:ext cx="410544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ot</dc:creator>
  <dc:description/>
  <dc:language>en-US</dc:language>
  <cp:lastModifiedBy>Root</cp:lastModifiedBy>
  <dcterms:modified xsi:type="dcterms:W3CDTF">2015-10-16T13:11:10Z</dcterms:modified>
  <cp:revision>12</cp:revision>
  <dc:subject/>
  <dc:title>PowerPoint Presentation</dc:title>
</cp:coreProperties>
</file>