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2.jpeg" ContentType="image/jpeg"/>
  <Override PartName="/ppt/media/cashreg.wav" ContentType="audio/x-wav"/>
  <Override PartName="/ppt/media/image6.png" ContentType="image/png"/>
  <Override PartName="/ppt/media/image22.png" ContentType="image/png"/>
  <Override PartName="/ppt/media/image19.jpeg" ContentType="image/jpeg"/>
  <Override PartName="/ppt/media/image4.png" ContentType="image/png"/>
  <Override PartName="/ppt/media/image1.gif" ContentType="image/gif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282C-4347-4062-B9D0-F92FD1EC9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BFD2-0FD9-4D91-B4F9-585391C98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EB65-7384-4FEA-A2C3-0FF1DDC00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1705-EA69-4E29-9B11-2538D946D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9053-CF76-46C9-9C41-A7E87E96F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1B50-3AFF-43B1-9CCE-3FBCE27B2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675A-96F3-4FF4-9BCA-78F81E092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C40A-8F7C-4134-8F1B-60242C492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65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3A67-0AB6-42C3-B8E2-77C25BF5C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9F06-EE0F-4449-B286-4BCF3CDB9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AE8-C437-4186-ABC7-A1EF54883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286A-BA59-4E1F-A8AE-017F5FF67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033760" y="-2334600"/>
            <a:ext cx="17170920" cy="10185120"/>
            <a:chOff x="-8033760" y="-2334600"/>
            <a:chExt cx="17170920" cy="10185120"/>
          </a:xfrm>
        </p:grpSpPr>
        <p:sp>
          <p:nvSpPr>
            <p:cNvPr id="1" name=""/>
            <p:cNvSpPr/>
            <p:nvPr/>
          </p:nvSpPr>
          <p:spPr>
            <a:xfrm>
              <a:off x="-1879920" y="-1519920"/>
              <a:ext cx="4628160" cy="8578800"/>
            </a:xfrm>
            <a:custGeom>
              <a:avLst/>
              <a:gdLst>
                <a:gd name="textAreaLeft" fmla="*/ 0 w 4628160"/>
                <a:gd name="textAreaRight" fmla="*/ 4628520 w 4628160"/>
                <a:gd name="textAreaTop" fmla="*/ 0 h 8578800"/>
                <a:gd name="textAreaBottom" fmla="*/ 8579160 h 8578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238800" y="-1523520"/>
              <a:ext cx="4628880" cy="8571600"/>
            </a:xfrm>
            <a:custGeom>
              <a:avLst/>
              <a:gdLst>
                <a:gd name="textAreaLeft" fmla="*/ 0 w 4628880"/>
                <a:gd name="textAreaRight" fmla="*/ 4629240 w 4628880"/>
                <a:gd name="textAreaTop" fmla="*/ 0 h 8571600"/>
                <a:gd name="textAreaBottom" fmla="*/ 8571960 h 85716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59840" y="-1518120"/>
              <a:ext cx="4636080" cy="8573760"/>
            </a:xfrm>
            <a:custGeom>
              <a:avLst/>
              <a:gdLst>
                <a:gd name="textAreaLeft" fmla="*/ 0 w 4636080"/>
                <a:gd name="textAreaRight" fmla="*/ 4636440 w 4636080"/>
                <a:gd name="textAreaTop" fmla="*/ 0 h 8573760"/>
                <a:gd name="textAreaBottom" fmla="*/ 8574120 h 857376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1110240" y="-1527120"/>
              <a:ext cx="5544360" cy="8561520"/>
            </a:xfrm>
            <a:custGeom>
              <a:avLst/>
              <a:gdLst>
                <a:gd name="textAreaLeft" fmla="*/ 0 w 5544360"/>
                <a:gd name="textAreaRight" fmla="*/ 5544720 w 5544360"/>
                <a:gd name="textAreaTop" fmla="*/ 0 h 8561520"/>
                <a:gd name="textAreaBottom" fmla="*/ 8561880 h 85615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5925240" y="-1316520"/>
              <a:ext cx="9347760" cy="3037320"/>
            </a:xfrm>
            <a:custGeom>
              <a:avLst/>
              <a:gdLst>
                <a:gd name="textAreaLeft" fmla="*/ 0 w 9347760"/>
                <a:gd name="textAreaRight" fmla="*/ 9348120 w 9347760"/>
                <a:gd name="textAreaTop" fmla="*/ 0 h 3037320"/>
                <a:gd name="textAreaBottom" fmla="*/ 3037680 h 30373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0000">
              <a:off x="-4074840" y="10800"/>
              <a:ext cx="6787440" cy="1987920"/>
            </a:xfrm>
            <a:custGeom>
              <a:avLst/>
              <a:gdLst>
                <a:gd name="textAreaLeft" fmla="*/ -360 w 6787440"/>
                <a:gd name="textAreaRight" fmla="*/ 6787440 w 6787440"/>
                <a:gd name="textAreaTop" fmla="*/ 0 h 1987920"/>
                <a:gd name="textAreaBottom" fmla="*/ 1988280 h 198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6015960" y="-1412280"/>
              <a:ext cx="9347760" cy="3037680"/>
            </a:xfrm>
            <a:custGeom>
              <a:avLst/>
              <a:gdLst>
                <a:gd name="textAreaLeft" fmla="*/ 0 w 9347760"/>
                <a:gd name="textAreaRight" fmla="*/ 9348120 w 9347760"/>
                <a:gd name="textAreaTop" fmla="*/ 0 h 3037680"/>
                <a:gd name="textAreaBottom" fmla="*/ 3038040 h 303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20000">
              <a:off x="-7660080" y="30240"/>
              <a:ext cx="6936840" cy="4093560"/>
            </a:xfrm>
            <a:custGeom>
              <a:avLst/>
              <a:gdLst>
                <a:gd name="textAreaLeft" fmla="*/ 0 w 6936840"/>
                <a:gd name="textAreaRight" fmla="*/ 6937200 w 6936840"/>
                <a:gd name="textAreaTop" fmla="*/ 0 h 4093560"/>
                <a:gd name="textAreaBottom" fmla="*/ 4093920 h 40935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60000">
              <a:off x="-2686680" y="300240"/>
              <a:ext cx="9589320" cy="3430080"/>
            </a:xfrm>
            <a:custGeom>
              <a:avLst/>
              <a:gdLst>
                <a:gd name="textAreaLeft" fmla="*/ 0 w 9589320"/>
                <a:gd name="textAreaRight" fmla="*/ 9589680 w 9589320"/>
                <a:gd name="textAreaTop" fmla="*/ 0 h 3430080"/>
                <a:gd name="textAreaBottom" fmla="*/ 3430440 h 34300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100000">
              <a:off x="-1275840" y="204840"/>
              <a:ext cx="9351720" cy="3039120"/>
            </a:xfrm>
            <a:custGeom>
              <a:avLst/>
              <a:gdLst>
                <a:gd name="textAreaLeft" fmla="*/ -360 w 9351720"/>
                <a:gd name="textAreaRight" fmla="*/ 9351720 w 9351720"/>
                <a:gd name="textAreaTop" fmla="*/ 0 h 3039120"/>
                <a:gd name="textAreaBottom" fmla="*/ 3039480 h 3039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11640" y="-1523520"/>
              <a:ext cx="2898360" cy="4521240"/>
            </a:xfrm>
            <a:custGeom>
              <a:avLst/>
              <a:gdLst>
                <a:gd name="textAreaLeft" fmla="*/ 0 w 2898360"/>
                <a:gd name="textAreaRight" fmla="*/ 2898720 w 2898360"/>
                <a:gd name="textAreaTop" fmla="*/ 0 h 4521240"/>
                <a:gd name="textAreaBottom" fmla="*/ 4521600 h 452124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6238800" y="6240240"/>
              <a:ext cx="15375960" cy="8478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1879920" y="6330600"/>
              <a:ext cx="4628160" cy="748800"/>
            </a:xfrm>
            <a:custGeom>
              <a:avLst/>
              <a:gdLst>
                <a:gd name="textAreaLeft" fmla="*/ 0 w 4628160"/>
                <a:gd name="textAreaRight" fmla="*/ 4628520 w 462816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6238800" y="6330600"/>
              <a:ext cx="4628880" cy="747000"/>
            </a:xfrm>
            <a:custGeom>
              <a:avLst/>
              <a:gdLst>
                <a:gd name="textAreaLeft" fmla="*/ 0 w 4628880"/>
                <a:gd name="textAreaRight" fmla="*/ 4629240 w 462888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759840" y="6330600"/>
              <a:ext cx="4636080" cy="748800"/>
            </a:xfrm>
            <a:custGeom>
              <a:avLst/>
              <a:gdLst>
                <a:gd name="textAreaLeft" fmla="*/ 0 w 4636080"/>
                <a:gd name="textAreaRight" fmla="*/ 4636440 w 463608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1110240" y="6330600"/>
              <a:ext cx="5544360" cy="747000"/>
            </a:xfrm>
            <a:custGeom>
              <a:avLst/>
              <a:gdLst>
                <a:gd name="textAreaLeft" fmla="*/ 0 w 5544360"/>
                <a:gd name="textAreaRight" fmla="*/ 5544720 w 554436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6238800" y="6229800"/>
              <a:ext cx="15375960" cy="847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59160" y="6257520"/>
              <a:ext cx="2757600" cy="82548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900000">
              <a:off x="-1899000" y="6023520"/>
              <a:ext cx="2094120" cy="1272960"/>
            </a:xfrm>
            <a:custGeom>
              <a:avLst/>
              <a:gdLst>
                <a:gd name="textAreaLeft" fmla="*/ 360 w 2094120"/>
                <a:gd name="textAreaRight" fmla="*/ 2094840 w 209412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900000">
              <a:off x="-3826080" y="6024600"/>
              <a:ext cx="2094120" cy="1271160"/>
            </a:xfrm>
            <a:custGeom>
              <a:avLst/>
              <a:gdLst>
                <a:gd name="textAreaLeft" fmla="*/ 360 w 2094120"/>
                <a:gd name="textAreaRight" fmla="*/ 2094840 w 20941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900000">
              <a:off x="-5798520" y="5956920"/>
              <a:ext cx="2039400" cy="1292760"/>
            </a:xfrm>
            <a:custGeom>
              <a:avLst/>
              <a:gdLst>
                <a:gd name="textAreaLeft" fmla="*/ 360 w 2039400"/>
                <a:gd name="textAreaRight" fmla="*/ 2040120 w 2039400"/>
                <a:gd name="textAreaTop" fmla="*/ 0 h 1292760"/>
                <a:gd name="textAreaBottom" fmla="*/ 1293120 h 1292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-4703040" y="6237720"/>
              <a:ext cx="9477720" cy="847800"/>
            </a:xfrm>
            <a:custGeom>
              <a:avLst/>
              <a:gdLst>
                <a:gd name="textAreaLeft" fmla="*/ -360 w 9477720"/>
                <a:gd name="textAreaRight" fmla="*/ 9477720 w 947772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-5598360" y="6237720"/>
              <a:ext cx="4093200" cy="847800"/>
            </a:xfrm>
            <a:custGeom>
              <a:avLst/>
              <a:gdLst>
                <a:gd name="textAreaLeft" fmla="*/ -360 w 4093200"/>
                <a:gd name="textAreaRight" fmla="*/ 4093200 w 409320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1869120" y="6335640"/>
              <a:ext cx="3547080" cy="752400"/>
            </a:xfrm>
            <a:custGeom>
              <a:avLst/>
              <a:gdLst>
                <a:gd name="textAreaLeft" fmla="*/ -360 w 3547080"/>
                <a:gd name="textAreaRight" fmla="*/ 3547080 w 3547080"/>
                <a:gd name="textAreaTop" fmla="*/ 360 h 752400"/>
                <a:gd name="textAreaBottom" fmla="*/ 753120 h 7524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4402080" y="6237720"/>
              <a:ext cx="4095360" cy="847800"/>
            </a:xfrm>
            <a:custGeom>
              <a:avLst/>
              <a:gdLst>
                <a:gd name="textAreaLeft" fmla="*/ 0 w 4095360"/>
                <a:gd name="textAreaRight" fmla="*/ 4095360 w 409536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2990160" y="6237720"/>
              <a:ext cx="6143760" cy="847800"/>
            </a:xfrm>
            <a:custGeom>
              <a:avLst/>
              <a:gdLst>
                <a:gd name="textAreaLeft" fmla="*/ 360 w 6143760"/>
                <a:gd name="textAreaRight" fmla="*/ 6144480 w 614376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6238800" y="6280200"/>
              <a:ext cx="15375960" cy="190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712800" y="631044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ftr" idx="1"/>
          </p:nvPr>
        </p:nvSpPr>
        <p:spPr>
          <a:xfrm>
            <a:off x="3151080" y="6305040"/>
            <a:ext cx="2889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C) ПТПЛ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sldNum" idx="2"/>
          </p:nvPr>
        </p:nvSpPr>
        <p:spPr>
          <a:xfrm>
            <a:off x="6580080" y="630504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F2722-C26B-4709-B6E2-1FD65B166A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ма урока: «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84280"/>
            <a:ext cx="7991280" cy="460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Мы в школу ходим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ля общен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 здесь мы строим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97680" y="-31608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ловые отнош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по-другому могут называться официальными (от лат. officialis — должностной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Эти отношения связаны с соблюдением каких-либо формальностей, правил, установленных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ей, а также каким-либо официальным лицом. Типичным примером таких отношений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являются отношения между руководителем и подчиненным, между учителем и учеником во время уро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 бывают отношения деловые, не ограниченные формальными правилами. Например, отношения учителя и ученика вне урока могут быть вполне равными, доверительными, а не формально определенны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23120" y="4881600"/>
            <a:ext cx="1857240" cy="123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чные отношения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кладываются на основе частных взаимоотношений. Они не ограничены установленными формальными правилам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97000" y="4500720"/>
            <a:ext cx="168264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9280" y="4140360"/>
            <a:ext cx="2700360" cy="161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ятельские отношения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ают с кем-то из круга знакомых при условии привлекательности одного человека для другого (взаимной привлекательности). Само слово «приятель» указывает на особую роль приятия-неприятия. Здесь основным условием возникновения межличностных отношений является взаимная тяга, симпатия, стремление к контакту, к общ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67360" y="431964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варищески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ее близкими межличностными отношениями становятся отношения товарищества. Они основываются на деловых связях, участников таких отношений объединяет общая цель, средства и результаты обще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0000" y="4138560"/>
            <a:ext cx="234000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2160720"/>
            <a:ext cx="77724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ужеские отнош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ее высокий уровень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жба предполагает следование определенным правилам, своеобразному неписанному кодекс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нимание! Зад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Прочитайте об основных аспектах дружеских отношений в учебнике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. 1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делайте краткие записи в тетр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5219640"/>
            <a:ext cx="180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йны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00360" y="3240000"/>
            <a:ext cx="33386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60360" y="324000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ногообразие чувст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вольствие, радость, блаженство, зависть, восторг, горе, восхищение, обида, гнев, гордость, тоска, доверие, уважение, нежность, благодарность, любовь, ненависть, равнодушие, неприя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их – положи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их – отрица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724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атия и антипа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мпат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внутреннее расположение, привлек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79640" y="431964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13240" y="4194000"/>
            <a:ext cx="2967120" cy="174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940360" y="1800360"/>
            <a:ext cx="16192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5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ереоти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бобщенное и упрощенное представление об особенностях людей, принадлежащих к той или иной груп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Антипат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ношение, прямо противоположное симпатии. Обычно она – следствие отрицательных чув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324000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3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опрос на размышление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125360"/>
            <a:ext cx="8064360" cy="532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Как будут называться отношения между отдельными личностями?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96360" y="-24300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125360"/>
            <a:ext cx="8064360" cy="4104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ажное условие межличностных отношени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нять другог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гласованность действ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пониман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нимание на основе взаимности, понимание друг дру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восприят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сприятие одним человеком других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ыв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ак, наш успех в мире межличностных отношений зависит от каждого из  нас, от умения находить взаимопонимание и устанавливать взаимодействи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групп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итать параграф 1 и отвечать на вопросы рубрики «Проверь себ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групп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итать параграф 1; выполнять зад. № 4 – рубрика «В классе и дома» - с.18: подобрать любимые стихи о дружбе и любви, объяснить, чем они понравили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груп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: читать параграф 1; выполнять задание № 2  рубрики «В классе и дома» - с.18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6600">
              <a:lnSpc>
                <a:spcPct val="90000"/>
              </a:lnSpc>
              <a:spcBef>
                <a:spcPts val="601"/>
              </a:spcBef>
              <a:buSzPct val="116208"/>
              <a:buBlip>
                <a:blip r:embed="rId1"/>
              </a:buBlip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желан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общения и  рисунки к изученному материа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как чувствовал (а) себя, с каким настроением работал (а), доволен/ довольна  ли соб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егодня на уроке я узнал (а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Я понял (а)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Я заинтересовался/ заинтересовалась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комфортно ли было работать на уроке, какие затруднения возник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л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достиг ли цели урок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28160"/>
            <a:ext cx="7769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99640" cy="43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80996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Итак, тема нашего урока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Межличностны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отношен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450072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3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лан урока - 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отношения называются межличностны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увства – основа межличностных отношен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межличностных отнош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просы на урок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чем состоят основные особенности межличностных отнош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 притягивает или отталкивает людей в межличностных отношения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м различаются деловые и личные отношения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жличностные отнош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ая связь человека с окружающими людьми. Эта особенность связана с тем, что человек наделен чувствами и разумом, которые влияют на его связь с миром людей и вещей. При межличностных отношениях чаще всего два или несколько человек вступают в непосредственный контак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лов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ятель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варищ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мей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0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0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7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я</cp:lastModifiedBy>
  <dcterms:modified xsi:type="dcterms:W3CDTF">2014-05-12T11:49:52Z</dcterms:modified>
  <cp:revision>158</cp:revision>
  <dc:subject/>
  <dc:title>Презентация PowerPoint</dc:title>
</cp:coreProperties>
</file>