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7.png" ContentType="image/png"/>
  <Override PartName="/ppt/media/image12.jpeg" ContentType="image/jpeg"/>
  <Override PartName="/ppt/media/cashreg.wav" ContentType="audio/x-wav"/>
  <Override PartName="/ppt/media/image6.png" ContentType="image/png"/>
  <Override PartName="/ppt/media/image22.png" ContentType="image/png"/>
  <Override PartName="/ppt/media/image19.jpeg" ContentType="image/jpeg"/>
  <Override PartName="/ppt/media/image4.png" ContentType="image/png"/>
  <Override PartName="/ppt/media/image1.gif" ContentType="image/gif"/>
  <Override PartName="/ppt/media/image21.png" ContentType="image/png"/>
  <Override PartName="/ppt/media/image13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BEE8F4-89DF-4735-866C-05CD8B1803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28160"/>
            <a:ext cx="7765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659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659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35EC4D-C980-4C6B-9E8F-1F39912626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28160"/>
            <a:ext cx="7765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897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240" y="1980720"/>
            <a:ext cx="37897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897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5240" y="4192200"/>
            <a:ext cx="37897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408831-9D84-41BC-A01B-ADE13CBC26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28160"/>
            <a:ext cx="7765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05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1640" y="1980720"/>
            <a:ext cx="25005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37840" y="1980720"/>
            <a:ext cx="25005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05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1640" y="4192200"/>
            <a:ext cx="25005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37840" y="4192200"/>
            <a:ext cx="25005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9E3BBB-775E-4270-9119-61AFB1F4DFF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128160"/>
            <a:ext cx="7765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6592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EEDFEF-27CA-4DE9-8884-3330D76E63D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128160"/>
            <a:ext cx="7765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6592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54F1B9-E30B-4B34-962B-79339332CD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128160"/>
            <a:ext cx="7765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8972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5240" y="1980720"/>
            <a:ext cx="378972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EA3C2B-2E30-47B5-AC89-2F84786892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128160"/>
            <a:ext cx="7765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06F66B-01FC-492F-9352-EE7686C754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128160"/>
            <a:ext cx="7765920" cy="975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8E4965-CDED-4869-A550-CB7FABD730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28160"/>
            <a:ext cx="7765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897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5240" y="1980720"/>
            <a:ext cx="378972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897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B64498-9B63-48C4-B40E-D869309978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28160"/>
            <a:ext cx="7765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8972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5240" y="1980720"/>
            <a:ext cx="37897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5240" y="4192200"/>
            <a:ext cx="37897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B98DD9-3613-4583-9904-E1459476F4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28160"/>
            <a:ext cx="7765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897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5240" y="1980720"/>
            <a:ext cx="37897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659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56DD40-C603-41E8-8346-263D2B2A7F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033760" y="-2334600"/>
            <a:ext cx="17170920" cy="10185120"/>
            <a:chOff x="-8033760" y="-2334600"/>
            <a:chExt cx="17170920" cy="10185120"/>
          </a:xfrm>
        </p:grpSpPr>
        <p:sp>
          <p:nvSpPr>
            <p:cNvPr id="1" name=""/>
            <p:cNvSpPr/>
            <p:nvPr/>
          </p:nvSpPr>
          <p:spPr>
            <a:xfrm>
              <a:off x="-1879920" y="-1519920"/>
              <a:ext cx="4628160" cy="8578800"/>
            </a:xfrm>
            <a:custGeom>
              <a:avLst/>
              <a:gdLst>
                <a:gd name="textAreaLeft" fmla="*/ 0 w 4628160"/>
                <a:gd name="textAreaRight" fmla="*/ 4628520 w 4628160"/>
                <a:gd name="textAreaTop" fmla="*/ 0 h 8578800"/>
                <a:gd name="textAreaBottom" fmla="*/ 8579160 h 8578800"/>
              </a:gdLst>
              <a:ahLst/>
              <a:rect l="textAreaLeft" t="textAreaTop" r="textAreaRight" b="textAreaBottom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6238800" y="-1523520"/>
              <a:ext cx="4628880" cy="8571600"/>
            </a:xfrm>
            <a:custGeom>
              <a:avLst/>
              <a:gdLst>
                <a:gd name="textAreaLeft" fmla="*/ 0 w 4628880"/>
                <a:gd name="textAreaRight" fmla="*/ 4629240 w 4628880"/>
                <a:gd name="textAreaTop" fmla="*/ 0 h 8571600"/>
                <a:gd name="textAreaBottom" fmla="*/ 8571960 h 8571600"/>
              </a:gdLst>
              <a:ahLst/>
              <a:rect l="textAreaLeft" t="textAreaTop" r="textAreaRight" b="textAreaBottom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759840" y="-1518120"/>
              <a:ext cx="4636080" cy="8573760"/>
            </a:xfrm>
            <a:custGeom>
              <a:avLst/>
              <a:gdLst>
                <a:gd name="textAreaLeft" fmla="*/ 0 w 4636080"/>
                <a:gd name="textAreaRight" fmla="*/ 4636440 w 4636080"/>
                <a:gd name="textAreaTop" fmla="*/ 0 h 8573760"/>
                <a:gd name="textAreaBottom" fmla="*/ 8574120 h 8573760"/>
              </a:gdLst>
              <a:ahLst/>
              <a:rect l="textAreaLeft" t="textAreaTop" r="textAreaRight" b="textAreaBottom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-1110240" y="-1527120"/>
              <a:ext cx="5544360" cy="8561520"/>
            </a:xfrm>
            <a:custGeom>
              <a:avLst/>
              <a:gdLst>
                <a:gd name="textAreaLeft" fmla="*/ 0 w 5544360"/>
                <a:gd name="textAreaRight" fmla="*/ 5544720 w 5544360"/>
                <a:gd name="textAreaTop" fmla="*/ 0 h 8561520"/>
                <a:gd name="textAreaBottom" fmla="*/ 8561880 h 8561520"/>
              </a:gdLst>
              <a:ahLst/>
              <a:rect l="textAreaLeft" t="textAreaTop" r="textAreaRight" b="textAreaBottom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-5925240" y="-1316520"/>
              <a:ext cx="9347760" cy="3037320"/>
            </a:xfrm>
            <a:custGeom>
              <a:avLst/>
              <a:gdLst>
                <a:gd name="textAreaLeft" fmla="*/ 0 w 9347760"/>
                <a:gd name="textAreaRight" fmla="*/ 9348120 w 9347760"/>
                <a:gd name="textAreaTop" fmla="*/ 0 h 3037320"/>
                <a:gd name="textAreaBottom" fmla="*/ 3037680 h 303732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0000">
              <a:off x="-4074840" y="10800"/>
              <a:ext cx="6787440" cy="1987920"/>
            </a:xfrm>
            <a:custGeom>
              <a:avLst/>
              <a:gdLst>
                <a:gd name="textAreaLeft" fmla="*/ -360 w 6787440"/>
                <a:gd name="textAreaRight" fmla="*/ 6787440 w 6787440"/>
                <a:gd name="textAreaTop" fmla="*/ 0 h 1987920"/>
                <a:gd name="textAreaBottom" fmla="*/ 1988280 h 198792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-6015960" y="-1412280"/>
              <a:ext cx="9347760" cy="3037680"/>
            </a:xfrm>
            <a:custGeom>
              <a:avLst/>
              <a:gdLst>
                <a:gd name="textAreaLeft" fmla="*/ 0 w 9347760"/>
                <a:gd name="textAreaRight" fmla="*/ 9348120 w 9347760"/>
                <a:gd name="textAreaTop" fmla="*/ 0 h 3037680"/>
                <a:gd name="textAreaBottom" fmla="*/ 3038040 h 303768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20000">
              <a:off x="-7660080" y="30240"/>
              <a:ext cx="6936840" cy="4093560"/>
            </a:xfrm>
            <a:custGeom>
              <a:avLst/>
              <a:gdLst>
                <a:gd name="textAreaLeft" fmla="*/ 0 w 6936840"/>
                <a:gd name="textAreaRight" fmla="*/ 6937200 w 6936840"/>
                <a:gd name="textAreaTop" fmla="*/ 0 h 4093560"/>
                <a:gd name="textAreaBottom" fmla="*/ 4093920 h 409356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60000">
              <a:off x="-2686680" y="300240"/>
              <a:ext cx="9589320" cy="3430080"/>
            </a:xfrm>
            <a:custGeom>
              <a:avLst/>
              <a:gdLst>
                <a:gd name="textAreaLeft" fmla="*/ 0 w 9589320"/>
                <a:gd name="textAreaRight" fmla="*/ 9589680 w 9589320"/>
                <a:gd name="textAreaTop" fmla="*/ 0 h 3430080"/>
                <a:gd name="textAreaBottom" fmla="*/ 3430440 h 343008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100000">
              <a:off x="-1275840" y="204840"/>
              <a:ext cx="9351720" cy="3039120"/>
            </a:xfrm>
            <a:custGeom>
              <a:avLst/>
              <a:gdLst>
                <a:gd name="textAreaLeft" fmla="*/ -360 w 9351720"/>
                <a:gd name="textAreaRight" fmla="*/ 9351720 w 9351720"/>
                <a:gd name="textAreaTop" fmla="*/ 0 h 3039120"/>
                <a:gd name="textAreaBottom" fmla="*/ 3039480 h 303912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111640" y="-1523520"/>
              <a:ext cx="2898360" cy="4521240"/>
            </a:xfrm>
            <a:custGeom>
              <a:avLst/>
              <a:gdLst>
                <a:gd name="textAreaLeft" fmla="*/ 0 w 2898360"/>
                <a:gd name="textAreaRight" fmla="*/ 2898720 w 2898360"/>
                <a:gd name="textAreaTop" fmla="*/ 0 h 4521240"/>
                <a:gd name="textAreaBottom" fmla="*/ 4521600 h 4521240"/>
              </a:gdLst>
              <a:ahLst/>
              <a:rect l="textAreaLeft" t="textAreaTop" r="textAreaRight" b="textAreaBottom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-6238800" y="6240240"/>
              <a:ext cx="15375960" cy="8478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-1879920" y="6330600"/>
              <a:ext cx="4628160" cy="748800"/>
            </a:xfrm>
            <a:custGeom>
              <a:avLst/>
              <a:gdLst>
                <a:gd name="textAreaLeft" fmla="*/ 0 w 4628160"/>
                <a:gd name="textAreaRight" fmla="*/ 4628520 w 4628160"/>
                <a:gd name="textAreaTop" fmla="*/ 0 h 748800"/>
                <a:gd name="textAreaBottom" fmla="*/ 749160 h 748800"/>
              </a:gdLst>
              <a:ahLst/>
              <a:rect l="textAreaLeft" t="textAreaTop" r="textAreaRight" b="textAreaBottom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-6238800" y="6330600"/>
              <a:ext cx="4628880" cy="747000"/>
            </a:xfrm>
            <a:custGeom>
              <a:avLst/>
              <a:gdLst>
                <a:gd name="textAreaLeft" fmla="*/ 0 w 4628880"/>
                <a:gd name="textAreaRight" fmla="*/ 4629240 w 4628880"/>
                <a:gd name="textAreaTop" fmla="*/ 0 h 747000"/>
                <a:gd name="textAreaBottom" fmla="*/ 747360 h 747000"/>
              </a:gdLst>
              <a:ahLst/>
              <a:rect l="textAreaLeft" t="textAreaTop" r="textAreaRight" b="textAreaBottom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759840" y="6330600"/>
              <a:ext cx="4636080" cy="748800"/>
            </a:xfrm>
            <a:custGeom>
              <a:avLst/>
              <a:gdLst>
                <a:gd name="textAreaLeft" fmla="*/ 0 w 4636080"/>
                <a:gd name="textAreaRight" fmla="*/ 4636440 w 4636080"/>
                <a:gd name="textAreaTop" fmla="*/ 0 h 748800"/>
                <a:gd name="textAreaBottom" fmla="*/ 749160 h 748800"/>
              </a:gdLst>
              <a:ahLst/>
              <a:rect l="textAreaLeft" t="textAreaTop" r="textAreaRight" b="textAreaBottom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-1110240" y="6330600"/>
              <a:ext cx="5544360" cy="747000"/>
            </a:xfrm>
            <a:custGeom>
              <a:avLst/>
              <a:gdLst>
                <a:gd name="textAreaLeft" fmla="*/ 0 w 5544360"/>
                <a:gd name="textAreaRight" fmla="*/ 5544720 w 5544360"/>
                <a:gd name="textAreaTop" fmla="*/ 0 h 747000"/>
                <a:gd name="textAreaBottom" fmla="*/ 747360 h 747000"/>
              </a:gdLst>
              <a:ahLst/>
              <a:rect l="textAreaLeft" t="textAreaTop" r="textAreaRight" b="textAreaBottom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-6238800" y="6229800"/>
              <a:ext cx="15375960" cy="847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659160" y="6257520"/>
              <a:ext cx="2757600" cy="825480"/>
            </a:xfrm>
            <a:custGeom>
              <a:avLst/>
              <a:gdLst>
                <a:gd name="textAreaLeft" fmla="*/ 0 w 2757600"/>
                <a:gd name="textAreaRight" fmla="*/ 2757960 w 2757600"/>
                <a:gd name="textAreaTop" fmla="*/ 0 h 825480"/>
                <a:gd name="textAreaBottom" fmla="*/ 825840 h 825480"/>
              </a:gdLst>
              <a:ahLst/>
              <a:rect l="textAreaLeft" t="textAreaTop" r="textAreaRight" b="textAreaBottom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900000">
              <a:off x="-1899000" y="6023520"/>
              <a:ext cx="2094120" cy="1272960"/>
            </a:xfrm>
            <a:custGeom>
              <a:avLst/>
              <a:gdLst>
                <a:gd name="textAreaLeft" fmla="*/ 360 w 2094120"/>
                <a:gd name="textAreaRight" fmla="*/ 2094840 w 2094120"/>
                <a:gd name="textAreaTop" fmla="*/ 0 h 1272960"/>
                <a:gd name="textAreaBottom" fmla="*/ 1273320 h 127296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900000">
              <a:off x="-3826080" y="6024600"/>
              <a:ext cx="2094120" cy="1271160"/>
            </a:xfrm>
            <a:custGeom>
              <a:avLst/>
              <a:gdLst>
                <a:gd name="textAreaLeft" fmla="*/ 360 w 2094120"/>
                <a:gd name="textAreaRight" fmla="*/ 2094840 w 2094120"/>
                <a:gd name="textAreaTop" fmla="*/ 0 h 1271160"/>
                <a:gd name="textAreaBottom" fmla="*/ 1271520 h 127116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900000">
              <a:off x="-5798520" y="5956920"/>
              <a:ext cx="2039400" cy="1292760"/>
            </a:xfrm>
            <a:custGeom>
              <a:avLst/>
              <a:gdLst>
                <a:gd name="textAreaLeft" fmla="*/ 360 w 2039400"/>
                <a:gd name="textAreaRight" fmla="*/ 2040120 w 2039400"/>
                <a:gd name="textAreaTop" fmla="*/ 0 h 1292760"/>
                <a:gd name="textAreaBottom" fmla="*/ 1293120 h 129276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-4703040" y="6237720"/>
              <a:ext cx="9477720" cy="847800"/>
            </a:xfrm>
            <a:custGeom>
              <a:avLst/>
              <a:gdLst>
                <a:gd name="textAreaLeft" fmla="*/ -360 w 9477720"/>
                <a:gd name="textAreaRight" fmla="*/ 9477720 w 9477720"/>
                <a:gd name="textAreaTop" fmla="*/ -360 h 847800"/>
                <a:gd name="textAreaBottom" fmla="*/ 847800 h 84780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-5598360" y="6237720"/>
              <a:ext cx="4093200" cy="847800"/>
            </a:xfrm>
            <a:custGeom>
              <a:avLst/>
              <a:gdLst>
                <a:gd name="textAreaLeft" fmla="*/ -360 w 4093200"/>
                <a:gd name="textAreaRight" fmla="*/ 4093200 w 4093200"/>
                <a:gd name="textAreaTop" fmla="*/ -360 h 847800"/>
                <a:gd name="textAreaBottom" fmla="*/ 847800 h 84780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1869120" y="6335640"/>
              <a:ext cx="3547080" cy="752400"/>
            </a:xfrm>
            <a:custGeom>
              <a:avLst/>
              <a:gdLst>
                <a:gd name="textAreaLeft" fmla="*/ -360 w 3547080"/>
                <a:gd name="textAreaRight" fmla="*/ 3547080 w 3547080"/>
                <a:gd name="textAreaTop" fmla="*/ 360 h 752400"/>
                <a:gd name="textAreaBottom" fmla="*/ 753120 h 75240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4402080" y="6237720"/>
              <a:ext cx="4095360" cy="847800"/>
            </a:xfrm>
            <a:custGeom>
              <a:avLst/>
              <a:gdLst>
                <a:gd name="textAreaLeft" fmla="*/ 0 w 4095360"/>
                <a:gd name="textAreaRight" fmla="*/ 4095360 w 4095360"/>
                <a:gd name="textAreaTop" fmla="*/ -360 h 847800"/>
                <a:gd name="textAreaBottom" fmla="*/ 847800 h 84780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2990160" y="6237720"/>
              <a:ext cx="6143760" cy="847800"/>
            </a:xfrm>
            <a:custGeom>
              <a:avLst/>
              <a:gdLst>
                <a:gd name="textAreaLeft" fmla="*/ 360 w 6143760"/>
                <a:gd name="textAreaRight" fmla="*/ 6144480 w 6143760"/>
                <a:gd name="textAreaTop" fmla="*/ -360 h 847800"/>
                <a:gd name="textAreaBottom" fmla="*/ 847800 h 84780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-6238800" y="6280200"/>
              <a:ext cx="15375960" cy="1908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128160"/>
            <a:ext cx="7765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6592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"/>
          <p:cNvSpPr/>
          <p:nvPr/>
        </p:nvSpPr>
        <p:spPr>
          <a:xfrm>
            <a:off x="712800" y="6310440"/>
            <a:ext cx="190512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 type="ftr" idx="1"/>
          </p:nvPr>
        </p:nvSpPr>
        <p:spPr>
          <a:xfrm>
            <a:off x="3151080" y="6305040"/>
            <a:ext cx="288936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(C) ПТПЛ, 200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 type="sldNum" idx="2"/>
          </p:nvPr>
        </p:nvSpPr>
        <p:spPr>
          <a:xfrm>
            <a:off x="6580080" y="6305040"/>
            <a:ext cx="189864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382548-F0D0-4CDD-8D5E-0674C63DABD5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audio" Target="../media/cashreg.wav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audio" Target="../media/cashreg.wav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0.jpeg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audio" Target="../media/cashreg.wav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audio" Target="../media/cashreg.wav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audio" Target="../media/cashreg.wav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audio" Target="../media/cashreg.wav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audio" Target="../media/cashreg.wav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Тема урока: «…»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1484280"/>
            <a:ext cx="7991280" cy="460872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6600"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6600" algn="ctr"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Times New Roman"/>
              </a:rPr>
              <a:t>Мы в школу ходим 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6600" algn="ctr"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Times New Roman"/>
              </a:rPr>
              <a:t>для общения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6600" algn="ctr"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Times New Roman"/>
              </a:rPr>
              <a:t>И здесь мы строим  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6600" algn="ctr"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7897680" y="-316080"/>
            <a:ext cx="1246320" cy="1600200"/>
          </a:xfrm>
          <a:prstGeom prst="rect">
            <a:avLst/>
          </a:prstGeom>
          <a:ln w="0">
            <a:noFill/>
          </a:ln>
        </p:spPr>
      </p:pic>
    </p:spTree>
  </p:cSld>
  <p:transition spd="slow">
    <p:pull dir="r"/>
    <p:sndAc>
      <p:stSnd>
        <p:snd r:embed="rId2" name="cashreg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28160"/>
            <a:ext cx="777096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Arial"/>
              </a:rPr>
              <a:t>Основные виды межличностных отношений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Деловые отношения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  по-другому могут называться официальными (от лат. officialis — должностной).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Эти отношения связаны с соблюдением каких-либо формальностей, правил, установленных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администрацией, а также каким-либо официальным лицом. Типичным примером таких отношений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являются отношения между руководителем и подчиненным, между учителем и учеником во время урока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Но бывают отношения деловые, не ограниченные формальными правилами. Например, отношения учителя и ученика вне урока могут быть вполне равными, доверительными, а не формально определенными.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6423120" y="4881600"/>
            <a:ext cx="1857240" cy="1238040"/>
          </a:xfrm>
          <a:prstGeom prst="rect">
            <a:avLst/>
          </a:prstGeom>
          <a:ln w="0">
            <a:noFill/>
          </a:ln>
        </p:spPr>
      </p:pic>
    </p:spTree>
  </p:cSld>
  <p:transition spd="slow"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28160"/>
            <a:ext cx="777096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Arial"/>
              </a:rPr>
              <a:t>Основные виды межличностных отношений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Личные отношения 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складываются на основе частных взаимоотношений. Они не ограничены установленными формальными правилами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197000" y="4500720"/>
            <a:ext cx="1682640" cy="143964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859280" y="4140360"/>
            <a:ext cx="2700360" cy="1618920"/>
          </a:xfrm>
          <a:prstGeom prst="rect">
            <a:avLst/>
          </a:prstGeom>
          <a:ln w="0">
            <a:noFill/>
          </a:ln>
        </p:spPr>
      </p:pic>
    </p:spTree>
  </p:cSld>
  <p:transition spd="slow"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28160"/>
            <a:ext cx="777096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Arial"/>
              </a:rPr>
              <a:t>Основные виды межличностных отношений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иятельские отношения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озникают с кем-то из круга знакомых при условии привлекательности одного человека для другого (взаимной привлекательности). Само слово «приятель» указывает на особую роль приятия-неприятия. Здесь основным условием возникновения межличностных отношений является взаимная тяга, симпатия, стремление к контакту, к общению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067360" y="4319640"/>
            <a:ext cx="2133720" cy="1428840"/>
          </a:xfrm>
          <a:prstGeom prst="rect">
            <a:avLst/>
          </a:prstGeom>
          <a:ln w="0">
            <a:noFill/>
          </a:ln>
        </p:spPr>
      </p:pic>
    </p:spTree>
  </p:cSld>
  <p:transition spd="slow"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128160"/>
            <a:ext cx="777096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Arial"/>
              </a:rPr>
              <a:t>Основные виды межличностных отношений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оварищеские отнош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Более близкими межличностными отношениями становятся отношения товарищества. Они основываются на деловых связях, участников таких отношений объединяет общая цель, средства и результаты общей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деятельност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5580000" y="4138560"/>
            <a:ext cx="2340000" cy="1620720"/>
          </a:xfrm>
          <a:prstGeom prst="rect">
            <a:avLst/>
          </a:prstGeom>
          <a:ln w="0">
            <a:noFill/>
          </a:ln>
        </p:spPr>
      </p:pic>
    </p:spTree>
  </p:cSld>
  <p:transition spd="slow"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1281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Arial"/>
              </a:rPr>
              <a:t>Основные виды межличностных отношений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7240" y="2160720"/>
            <a:ext cx="7772400" cy="40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Дружеские отношения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—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более высокий уровень отношени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6600" indent="0"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ружба предполагает следование определенным правилам, своеобразному неписанному кодексу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6600" indent="0"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Внимание! Задание: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Прочитайте об основных аспектах дружеских отношений в учебнике на </a:t>
            </a:r>
            <a:r>
              <a:rPr b="0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с. 11.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Сделайте краткие записи в тетрад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6600" indent="0"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5219640" y="5219640"/>
            <a:ext cx="1800360" cy="900000"/>
          </a:xfrm>
          <a:prstGeom prst="rect">
            <a:avLst/>
          </a:prstGeom>
          <a:ln w="0">
            <a:noFill/>
          </a:ln>
        </p:spPr>
      </p:pic>
    </p:spTree>
  </p:cSld>
  <p:transition spd="slow"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28160"/>
            <a:ext cx="777096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Arial"/>
              </a:rPr>
              <a:t>Основные виды межличностных отношений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емейные отнош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3600360" y="3240000"/>
            <a:ext cx="3338640" cy="27352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1260360" y="3240000"/>
            <a:ext cx="1333440" cy="1333440"/>
          </a:xfrm>
          <a:prstGeom prst="rect">
            <a:avLst/>
          </a:prstGeom>
          <a:ln w="0">
            <a:noFill/>
          </a:ln>
        </p:spPr>
      </p:pic>
    </p:spTree>
  </p:cSld>
  <p:transition spd="slow"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798120"/>
            <a:ext cx="777240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Arial"/>
              </a:rPr>
              <a:t>Многообразие чувств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34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довольствие, радость, блаженство, зависть, восторг, горе, восхищение, обида, гнев, гордость, тоска, доверие, уважение, нежность, благодарность, любовь, ненависть, равнодушие, неприязнь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акие из них – положительные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акие из них – отрицательные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6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r"/>
    <p:sndAc>
      <p:stSnd>
        <p:snd r:embed="rId4" name="cashreg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Arial Black"/>
              </a:rPr>
              <a:t>Основные понятия урока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7240" y="1979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импатия и антипат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660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Симпатия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–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это внутреннее расположение, привлекательнос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1079640" y="4319640"/>
            <a:ext cx="2160360" cy="18000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5313240" y="4194000"/>
            <a:ext cx="2967120" cy="17449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5940360" y="1800360"/>
            <a:ext cx="1619280" cy="1079280"/>
          </a:xfrm>
          <a:prstGeom prst="rect">
            <a:avLst/>
          </a:prstGeom>
          <a:ln w="0">
            <a:noFill/>
          </a:ln>
        </p:spPr>
      </p:pic>
    </p:spTree>
  </p:cSld>
  <p:transition spd="slow">
    <p:pull dir="r"/>
    <p:sndAc>
      <p:stSnd>
        <p:snd r:embed="rId5" name="cashreg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128160"/>
            <a:ext cx="777096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Arial Black"/>
              </a:rPr>
              <a:t>Основные понятия урока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Стереотип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– обобщенное и упрощенное представление об особенностях людей, принадлежащих к той или иной группе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Arial Black"/>
              </a:rPr>
              <a:t>Основные понятия урока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 u="sng">
                <a:solidFill>
                  <a:srgbClr val="ffffff"/>
                </a:solidFill>
                <a:uFillTx/>
                <a:latin typeface="Arial"/>
              </a:rPr>
              <a:t>Антипатия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отношение, прямо противоположное симпатии. Обычно она – следствие отрицательных чувств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6600" indent="0">
              <a:spcBef>
                <a:spcPts val="901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3419640" y="4319640"/>
            <a:ext cx="3240000" cy="1619280"/>
          </a:xfrm>
          <a:prstGeom prst="rect">
            <a:avLst/>
          </a:prstGeom>
          <a:ln w="0">
            <a:noFill/>
          </a:ln>
        </p:spPr>
      </p:pic>
    </p:spTree>
  </p:cSld>
  <p:transition spd="slow">
    <p:pull dir="r"/>
    <p:sndAc>
      <p:stSnd>
        <p:snd r:embed="rId3" name="cashreg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Вопрос на размышление…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68360" y="1125360"/>
            <a:ext cx="8064360" cy="532800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6600"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6600"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6600"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6600" algn="ctr"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800" spc="-1" strike="noStrike" u="sng">
                <a:solidFill>
                  <a:srgbClr val="ffffff"/>
                </a:solidFill>
                <a:uFillTx/>
                <a:latin typeface="Times New Roman"/>
              </a:rPr>
              <a:t>Как будут называться отношения между отдельными личностями?</a:t>
            </a:r>
            <a:r>
              <a:rPr b="0" lang="ru-RU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6600">
              <a:spcBef>
                <a:spcPts val="11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7596360" y="-243000"/>
            <a:ext cx="1245960" cy="1600200"/>
          </a:xfrm>
          <a:prstGeom prst="rect">
            <a:avLst/>
          </a:prstGeom>
          <a:ln w="0">
            <a:noFill/>
          </a:ln>
        </p:spPr>
      </p:pic>
    </p:spTree>
  </p:cSld>
  <p:transition spd="slow">
    <p:pull dir="r"/>
    <p:sndAc>
      <p:stSnd>
        <p:snd r:embed="rId2" name="cashreg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ff6600"/>
                </a:solidFill>
                <a:latin typeface="Arial Black"/>
              </a:rPr>
              <a:t>Вывод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68360" y="1125360"/>
            <a:ext cx="8064360" cy="410400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6600" algn="ctr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 u="sng">
                <a:solidFill>
                  <a:srgbClr val="ffffff"/>
                </a:solidFill>
                <a:uFillTx/>
                <a:latin typeface="Times New Roman"/>
              </a:rPr>
              <a:t>Важное условие межличностных отношений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–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6600" algn="ctr">
              <a:spcBef>
                <a:spcPts val="15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Times New Roman"/>
              </a:rPr>
              <a:t>понять другого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1" name="cashreg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Arial Black"/>
              </a:rPr>
              <a:t>Основные понятия урока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взаимодействие —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согласованность действий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взаимопонимание —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понимание на основе взаимности, понимание друг друга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взаимовосприятие —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восприятие одним человеком других людей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r"/>
    <p:sndAc>
      <p:stSnd>
        <p:snd r:embed="rId1" name="cashreg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798120"/>
            <a:ext cx="777240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6600"/>
                </a:solidFill>
                <a:latin typeface="Arial Black"/>
              </a:rPr>
              <a:t>Вывод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Итак, наш успех в мире межличностных отношений зависит от каждого из  нас, от умения находить взаимопонимание и устанавливать взаимодействие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r"/>
    <p:sndAc>
      <p:stSnd>
        <p:snd r:embed="rId1" name="cashreg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98120"/>
            <a:ext cx="777240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Arial Black"/>
              </a:rPr>
              <a:t>Домашнее задание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0">
              <a:spcBef>
                <a:spcPts val="799"/>
              </a:spcBef>
              <a:buNone/>
              <a:tabLst>
                <a:tab algn="l" pos="0"/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1 группа: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читать параграф 1 и отвечать на вопросы рубрики «Проверь себя»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8040" indent="0">
              <a:spcBef>
                <a:spcPts val="799"/>
              </a:spcBef>
              <a:buNone/>
              <a:tabLst>
                <a:tab algn="l" pos="0"/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2 группа: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читать параграф 1; выполнять зад. № 4 – рубрика «В классе и дома» - с.18: подобрать любимые стихи о дружбе и любви, объяснить, чем они понравились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8040" indent="0">
              <a:spcBef>
                <a:spcPts val="799"/>
              </a:spcBef>
              <a:buNone/>
              <a:tabLst>
                <a:tab algn="l" pos="0"/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3 групп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: читать параграф 1; выполнять задание № 2  рубрики «В классе и дома» - с.18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8040" indent="-336600">
              <a:lnSpc>
                <a:spcPct val="90000"/>
              </a:lnSpc>
              <a:spcBef>
                <a:spcPts val="601"/>
              </a:spcBef>
              <a:buSzPct val="116208"/>
              <a:buBlip>
                <a:blip r:embed="rId1"/>
              </a:buBlip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по желанию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– сообщения и  рисунки к изученному материалу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r"/>
    <p:sndAc>
      <p:stSnd>
        <p:snd r:embed="rId2" name="cashreg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798120"/>
            <a:ext cx="777240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Arial"/>
              </a:rPr>
              <a:t>Рефлексия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«</a:t>
            </a:r>
            <a:r>
              <a:rPr b="0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Я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»- как чувствовал (а) себя, с каким настроением работал (а), доволен/ довольна  ли собой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6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Сегодня на уроке я узнал (а)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6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Я понял (а)…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6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Я заинтересовался/ заинтересовалась…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«</a:t>
            </a:r>
            <a:r>
              <a:rPr b="0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Мы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»- комфортно ли было работать на уроке, какие затруднения возникли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«</a:t>
            </a:r>
            <a:r>
              <a:rPr b="0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Дело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»- достиг ли цели урок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r"/>
    <p:sndAc>
      <p:stSnd>
        <p:snd r:embed="rId4" name="cashreg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440" y="128160"/>
            <a:ext cx="776916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Arial Black"/>
              </a:rPr>
              <a:t>Спасибо за внимание!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39280" y="1981080"/>
            <a:ext cx="8099640" cy="43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539640" y="1979640"/>
            <a:ext cx="8099640" cy="4319640"/>
          </a:xfrm>
          <a:prstGeom prst="rect">
            <a:avLst/>
          </a:prstGeom>
          <a:ln w="0">
            <a:noFill/>
          </a:ln>
        </p:spPr>
      </p:pic>
    </p:spTree>
  </p:cSld>
  <p:transition spd="slow"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Arial Black"/>
              </a:rPr>
              <a:t>Итак, тема нашего урока: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8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spcBef>
                <a:spcPts val="1800"/>
              </a:spcBef>
              <a:buSzPct val="100000"/>
              <a:buBlip>
                <a:blip r:embed="rId1"/>
              </a:buBlip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6600" spc="-1" strike="noStrike" u="sng">
                <a:solidFill>
                  <a:srgbClr val="ffffff"/>
                </a:solidFill>
                <a:uFillTx/>
                <a:latin typeface="Arial"/>
              </a:rPr>
              <a:t>Межличностные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marL="336600" indent="0">
              <a:spcBef>
                <a:spcPts val="1800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6600" spc="-1" strike="noStrike" u="sng">
                <a:solidFill>
                  <a:srgbClr val="ffffff"/>
                </a:solidFill>
                <a:uFillTx/>
                <a:latin typeface="Arial"/>
              </a:rPr>
              <a:t>отношения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marL="336600" indent="0">
              <a:spcBef>
                <a:spcPts val="1800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marL="336600" indent="0">
              <a:spcBef>
                <a:spcPts val="1800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5219640" y="4500720"/>
            <a:ext cx="2540160" cy="1650960"/>
          </a:xfrm>
          <a:prstGeom prst="rect">
            <a:avLst/>
          </a:prstGeom>
          <a:ln w="0">
            <a:noFill/>
          </a:ln>
        </p:spPr>
      </p:pic>
    </p:spTree>
  </p:cSld>
  <p:transition spd="slow">
    <p:pull dir="r"/>
    <p:sndAc>
      <p:stSnd>
        <p:snd r:embed="rId3" name="cashreg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798120"/>
            <a:ext cx="777240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Arial Black"/>
              </a:rPr>
              <a:t>План урока - ?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1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r"/>
    <p:sndAc>
      <p:stSnd>
        <p:snd r:embed="rId4" name="cashreg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798120"/>
            <a:ext cx="777240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Arial Black"/>
              </a:rPr>
              <a:t>План урока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Какие отношения называются межличностными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Чувства – основа межличностных отношений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Виды межличностных отношений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r"/>
    <p:sndAc>
      <p:stSnd>
        <p:snd r:embed="rId4" name="cashreg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798120"/>
            <a:ext cx="777240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Arial"/>
              </a:rPr>
              <a:t>Вопросы на урок: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В чем состоят основные особенности межличностных отношений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Что притягивает или отталкивает людей в межличностных отношениях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Чем различаются деловые и личные отношения?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r"/>
    <p:sndAc>
      <p:stSnd>
        <p:snd r:embed="rId4" name="cashreg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Arial Black"/>
              </a:rPr>
              <a:t>Основные понятия урока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Межличностные отношения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-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собенная связь человека с окружающими людьми. Эта особенность связана с тем, что человек наделен чувствами и разумом, которые влияют на его связь с миром людей и вещей. При межличностных отношениях чаще всего два или несколько человек вступают в непосредственный контакт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r"/>
    <p:sndAc>
      <p:stSnd>
        <p:snd r:embed="rId2" name="cashreg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Arial"/>
              </a:rPr>
              <a:t>Основные виды межличностных отношений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585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деловы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личны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spcBef>
                <a:spcPts val="1001"/>
              </a:spcBef>
              <a:buSzPct val="100000"/>
              <a:buBlip>
                <a:blip r:embed="rId3"/>
              </a:buBlip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приятельски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spcBef>
                <a:spcPts val="1001"/>
              </a:spcBef>
              <a:buSzPct val="100000"/>
              <a:buBlip>
                <a:blip r:embed="rId4"/>
              </a:buBlip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товарищески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spcBef>
                <a:spcPts val="1001"/>
              </a:spcBef>
              <a:buSzPct val="100000"/>
              <a:buBlip>
                <a:blip r:embed="rId5"/>
              </a:buBlip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дружески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spcBef>
                <a:spcPts val="1001"/>
              </a:spcBef>
              <a:buSzPct val="100000"/>
              <a:buBlip>
                <a:blip r:embed="rId6"/>
              </a:buBlip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семейны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36600" indent="0">
              <a:spcBef>
                <a:spcPts val="1001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36600" indent="0">
              <a:spcBef>
                <a:spcPts val="1001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r"/>
    <p:sndAc>
      <p:stSnd>
        <p:snd r:embed="rId7" name="cashreg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28160"/>
            <a:ext cx="777096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Arial"/>
              </a:rPr>
              <a:t>Основные виды межличностных отношений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-1764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3T08:21:54Z</dcterms:created>
  <dc:creator>SVG</dc:creator>
  <dc:description/>
  <dc:language>en-US</dc:language>
  <cp:lastModifiedBy>я</cp:lastModifiedBy>
  <dcterms:modified xsi:type="dcterms:W3CDTF">2014-05-12T11:49:52Z</dcterms:modified>
  <cp:revision>158</cp:revision>
  <dc:subject/>
  <dc:title>Презентация PowerPoint</dc:title>
</cp:coreProperties>
</file>