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315-93C1-42F6-8788-1DEE071B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F83-8B05-4D76-BA0D-5B02E8F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E3B-D697-4D4D-991D-62B0F1B1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C69-C0EA-4CA4-9F31-8DB5DCE4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EEF-7947-43AB-A2F4-3C40DD14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AAD-B0E8-48C8-B72E-756824E3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3D5-5076-43AE-B3C8-27CC4E1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454-293B-49D0-AD7E-E49489D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A4A-9A1F-4F63-AD28-E4AEE52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215-E190-4477-B39C-E001707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F82-D8AD-4DF8-8996-084B89E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CB6-13FE-4198-9AA1-5F01A55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6D6-4EA8-431B-95D5-4FFBA9B05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871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МЕТНО-РАЗВИВ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28760" y="37861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ИЕ СУ ДЖОК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РАБОТ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User\Desktop\паспорт пед совет\Фото по инновации\су джок развив среда дети\СУДЖОК\DSCN0052.jpg"/>
          <p:cNvPicPr/>
          <p:nvPr/>
        </p:nvPicPr>
        <p:blipFill>
          <a:blip r:embed="rId2"/>
          <a:stretch/>
        </p:blipFill>
        <p:spPr>
          <a:xfrm>
            <a:off x="714240" y="642960"/>
            <a:ext cx="185760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C:\Users\User\Desktop\паспорт пед совет\Фото по инновации\су джок развив среда дети\DSCN0066.jpg"/>
          <p:cNvPicPr/>
          <p:nvPr/>
        </p:nvPicPr>
        <p:blipFill>
          <a:blip r:embed="rId3"/>
          <a:stretch/>
        </p:blipFill>
        <p:spPr>
          <a:xfrm>
            <a:off x="2714760" y="642960"/>
            <a:ext cx="1857240" cy="139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User\Desktop\паспорт пед совет\Фото по инновации\су джок развив среда дети\СУДЖОК\DSCN0055.jpg"/>
          <p:cNvPicPr/>
          <p:nvPr/>
        </p:nvPicPr>
        <p:blipFill>
          <a:blip r:embed="rId4"/>
          <a:stretch/>
        </p:blipFill>
        <p:spPr>
          <a:xfrm>
            <a:off x="714240" y="2286000"/>
            <a:ext cx="1857600" cy="139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User\Desktop\паспорт пед совет\Фото по инновации\су джок развив среда дети\DSCN0069.jpg"/>
          <p:cNvPicPr/>
          <p:nvPr/>
        </p:nvPicPr>
        <p:blipFill>
          <a:blip r:embed="rId5"/>
          <a:stretch/>
        </p:blipFill>
        <p:spPr>
          <a:xfrm>
            <a:off x="4786200" y="22860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User\Desktop\паспорт пед совет\Фото по инновации\су джок развив среда дети\СУДЖОК\DSCN0060.jpg"/>
          <p:cNvPicPr/>
          <p:nvPr/>
        </p:nvPicPr>
        <p:blipFill>
          <a:blip r:embed="rId6"/>
          <a:stretch/>
        </p:blipFill>
        <p:spPr>
          <a:xfrm>
            <a:off x="2714760" y="2286000"/>
            <a:ext cx="1857240" cy="139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User\Desktop\паспорт пед совет\Фото по инновации\су джок развив среда дети\СУДЖОК\DSCN0054.jpg"/>
          <p:cNvPicPr/>
          <p:nvPr/>
        </p:nvPicPr>
        <p:blipFill>
          <a:blip r:embed="rId7"/>
          <a:stretch/>
        </p:blipFill>
        <p:spPr>
          <a:xfrm>
            <a:off x="4786200" y="642960"/>
            <a:ext cx="1857600" cy="139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паспорт пед совет\Фото по инновации\су джок развив среда дети\DSCN0071.jpg"/>
          <p:cNvPicPr/>
          <p:nvPr/>
        </p:nvPicPr>
        <p:blipFill>
          <a:blip r:embed="rId8"/>
          <a:stretch/>
        </p:blipFill>
        <p:spPr>
          <a:xfrm>
            <a:off x="714240" y="4572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паспорт пед совет\Фото по инновации\су джок развив среда дети\DSCN0072.jpg"/>
          <p:cNvPicPr/>
          <p:nvPr/>
        </p:nvPicPr>
        <p:blipFill>
          <a:blip r:embed="rId9"/>
          <a:stretch/>
        </p:blipFill>
        <p:spPr>
          <a:xfrm>
            <a:off x="785880" y="6786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esktop\паспорт пед совет\Фото по инновации\су джок развив среда дети\DSCN0079.jpg"/>
          <p:cNvPicPr/>
          <p:nvPr/>
        </p:nvPicPr>
        <p:blipFill>
          <a:blip r:embed="rId10"/>
          <a:stretch/>
        </p:blipFill>
        <p:spPr>
          <a:xfrm>
            <a:off x="3714840" y="676908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паспорт пед совет\Фото по инновации\су джок развив среда дети\DSCN0074.jpg"/>
          <p:cNvPicPr/>
          <p:nvPr/>
        </p:nvPicPr>
        <p:blipFill>
          <a:blip r:embed="rId11"/>
          <a:stretch/>
        </p:blipFill>
        <p:spPr>
          <a:xfrm>
            <a:off x="3595680" y="45720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56:44Z</dcterms:created>
  <dc:creator>Admin</dc:creator>
  <dc:description/>
  <dc:language>en-US</dc:language>
  <cp:lastModifiedBy>User</cp:lastModifiedBy>
  <dcterms:modified xsi:type="dcterms:W3CDTF">2015-10-17T18:20:43Z</dcterms:modified>
  <cp:revision>41</cp:revision>
  <dc:subject/>
  <dc:title>Слайд 1</dc:title>
</cp:coreProperties>
</file>