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FE4-38D3-410E-A5A4-88830F8A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387-E7A8-4D1C-8710-92E0066A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04B-7BED-412B-AB1B-56FAC1B3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2AE-A069-4D81-9277-5FFECDE8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F90-6A9C-4050-82E7-2ED84160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198-8802-4A8E-8642-F8C074D6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188-2F81-4A55-9076-979FA41D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4FD-239C-4600-9213-BDB74609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4CF-EFA0-47AE-9917-678CFC3B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74F-C740-4181-A700-4CAAF2B8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939-74E8-4927-9CD2-7A8929AD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88E-F920-4059-897C-5BE43050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E030-CA3C-4D86-B221-8CBE21087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28760" y="214200"/>
            <a:ext cx="6215040" cy="871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МЕТНО-РАЗВИВАЮЩ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2"/>
          <p:cNvSpPr/>
          <p:nvPr/>
        </p:nvSpPr>
        <p:spPr>
          <a:xfrm>
            <a:off x="428760" y="378612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СПОЛЬЗОВАНИЕ СУ ДЖОК ТЕРАП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РАБОТЕ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User\Desktop\паспорт пед совет\Фото по инновации\су джок развив среда дети\СУДЖОК\DSCN0052.jpg"/>
          <p:cNvPicPr/>
          <p:nvPr/>
        </p:nvPicPr>
        <p:blipFill>
          <a:blip r:embed="rId2"/>
          <a:stretch/>
        </p:blipFill>
        <p:spPr>
          <a:xfrm>
            <a:off x="714240" y="642960"/>
            <a:ext cx="185760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C:\Users\User\Desktop\паспорт пед совет\Фото по инновации\су джок развив среда дети\DSCN0066.jpg"/>
          <p:cNvPicPr/>
          <p:nvPr/>
        </p:nvPicPr>
        <p:blipFill>
          <a:blip r:embed="rId3"/>
          <a:stretch/>
        </p:blipFill>
        <p:spPr>
          <a:xfrm>
            <a:off x="2714760" y="642960"/>
            <a:ext cx="1857240" cy="1392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User\Desktop\паспорт пед совет\Фото по инновации\су джок развив среда дети\СУДЖОК\DSCN0055.jpg"/>
          <p:cNvPicPr/>
          <p:nvPr/>
        </p:nvPicPr>
        <p:blipFill>
          <a:blip r:embed="rId4"/>
          <a:stretch/>
        </p:blipFill>
        <p:spPr>
          <a:xfrm>
            <a:off x="714240" y="2286000"/>
            <a:ext cx="1857600" cy="1392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User\Desktop\паспорт пед совет\Фото по инновации\су джок развив среда дети\DSCN0069.jpg"/>
          <p:cNvPicPr/>
          <p:nvPr/>
        </p:nvPicPr>
        <p:blipFill>
          <a:blip r:embed="rId5"/>
          <a:stretch/>
        </p:blipFill>
        <p:spPr>
          <a:xfrm>
            <a:off x="4786200" y="22860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Users\User\Desktop\паспорт пед совет\Фото по инновации\су джок развив среда дети\СУДЖОК\DSCN0060.jpg"/>
          <p:cNvPicPr/>
          <p:nvPr/>
        </p:nvPicPr>
        <p:blipFill>
          <a:blip r:embed="rId6"/>
          <a:stretch/>
        </p:blipFill>
        <p:spPr>
          <a:xfrm>
            <a:off x="2714760" y="2286000"/>
            <a:ext cx="1857240" cy="139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User\Desktop\паспорт пед совет\Фото по инновации\су джок развив среда дети\СУДЖОК\DSCN0054.jpg"/>
          <p:cNvPicPr/>
          <p:nvPr/>
        </p:nvPicPr>
        <p:blipFill>
          <a:blip r:embed="rId7"/>
          <a:stretch/>
        </p:blipFill>
        <p:spPr>
          <a:xfrm>
            <a:off x="4786200" y="642960"/>
            <a:ext cx="1857600" cy="139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паспорт пед совет\Фото по инновации\су джок развив среда дети\DSCN0071.jpg"/>
          <p:cNvPicPr/>
          <p:nvPr/>
        </p:nvPicPr>
        <p:blipFill>
          <a:blip r:embed="rId8"/>
          <a:stretch/>
        </p:blipFill>
        <p:spPr>
          <a:xfrm>
            <a:off x="714240" y="457200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User\Desktop\паспорт пед совет\Фото по инновации\су джок развив среда дети\DSCN0072.jpg"/>
          <p:cNvPicPr/>
          <p:nvPr/>
        </p:nvPicPr>
        <p:blipFill>
          <a:blip r:embed="rId9"/>
          <a:stretch/>
        </p:blipFill>
        <p:spPr>
          <a:xfrm>
            <a:off x="785880" y="6786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User\Desktop\паспорт пед совет\Фото по инновации\су джок развив среда дети\DSCN0079.jpg"/>
          <p:cNvPicPr/>
          <p:nvPr/>
        </p:nvPicPr>
        <p:blipFill>
          <a:blip r:embed="rId10"/>
          <a:stretch/>
        </p:blipFill>
        <p:spPr>
          <a:xfrm>
            <a:off x="3714840" y="676908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esktop\паспорт пед совет\Фото по инновации\су джок развив среда дети\DSCN0074.jpg"/>
          <p:cNvPicPr/>
          <p:nvPr/>
        </p:nvPicPr>
        <p:blipFill>
          <a:blip r:embed="rId11"/>
          <a:stretch/>
        </p:blipFill>
        <p:spPr>
          <a:xfrm>
            <a:off x="3595680" y="45720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56:44Z</dcterms:created>
  <dc:creator>Admin</dc:creator>
  <dc:description/>
  <dc:language>en-US</dc:language>
  <cp:lastModifiedBy>User</cp:lastModifiedBy>
  <dcterms:modified xsi:type="dcterms:W3CDTF">2015-10-17T18:20:43Z</dcterms:modified>
  <cp:revision>41</cp:revision>
  <dc:subject/>
  <dc:title>Слайд 1</dc:title>
</cp:coreProperties>
</file>