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2A3F-28EE-4FED-93B4-218FABBC4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45C3-D1CC-4D37-93A0-C8C376C9F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9203-437A-4A69-B0D8-1A20272BE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AB5F-2C94-4987-AF84-0548F543C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4575-178B-4C3B-BCA5-70DF227AB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D3CE-8CC0-45F9-B2A9-ED053BAAF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98E4-A95C-4F41-B874-6AFE7CC54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C7E2-792C-4294-9962-702B07203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2251-157D-4D74-9B17-4E473E6C7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36B0-9CF1-41DD-8C5D-9FFEB7A2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F5BD-0FBC-40CD-A664-E3B39DF5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CA1D-C256-4F81-BC44-750935FB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2F51C-54BE-4623-848C-546496F6E2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547640" y="1484280"/>
            <a:ext cx="6153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 Е О М Е Т Р И Ч Е С К И Е  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987640" y="3429000"/>
            <a:ext cx="27813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 И Г У Р Ы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"/>
          <p:cNvSpPr/>
          <p:nvPr/>
        </p:nvSpPr>
        <p:spPr>
          <a:xfrm>
            <a:off x="4287600" y="5804640"/>
            <a:ext cx="42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лавинова Светлана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 rot="18983400">
            <a:off x="468360" y="259920"/>
            <a:ext cx="2109600" cy="2086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40360" y="836640"/>
            <a:ext cx="1081080" cy="7920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588000" y="371628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63640" y="2997360"/>
            <a:ext cx="2160720" cy="1512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27640" y="522936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84720" y="2133720"/>
            <a:ext cx="1704960" cy="15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524720" y="5229360"/>
            <a:ext cx="1081080" cy="7920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5640" y="508464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8983400">
            <a:off x="6516720" y="404280"/>
            <a:ext cx="2109600" cy="2086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7667640" y="83664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508720" y="162864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435640" y="443700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236000" y="314172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87640" y="407664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42920" y="530064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32000" y="170028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00000" y="335772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126828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020000" y="551664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55640" y="54936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6028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87280" y="198900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627280" y="155736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16360" y="515772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08360" y="299736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59280" y="508464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050920" y="350028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56000" y="54936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342900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522936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451640" y="170028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516720" y="47628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028000" y="26028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00720" y="501336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451640" y="335772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64000" y="386064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716360" y="177336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56720" y="537372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84720" y="234936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8983400">
            <a:off x="1585440" y="740880"/>
            <a:ext cx="2109960" cy="2086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2375400">
            <a:off x="5643360" y="649440"/>
            <a:ext cx="2199960" cy="2236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933720"/>
            <a:ext cx="2232000" cy="22320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/>
          <p:nvPr/>
        </p:nvCxnSpPr>
        <p:spPr>
          <a:xfrm rot="5400000">
            <a:off x="4229640" y="3328200"/>
            <a:ext cx="1033560" cy="226080"/>
          </a:xfrm>
          <a:prstGeom prst="curvedConnector5">
            <a:avLst>
              <a:gd name="adj1" fmla="val 49930"/>
              <a:gd name="adj2" fmla="val 49920"/>
              <a:gd name="adj3" fmla="val 4993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" name=""/>
          <p:cNvCxnSpPr>
            <a:stCxn id="48" idx="4"/>
          </p:cNvCxnSpPr>
          <p:nvPr/>
        </p:nvCxnSpPr>
        <p:spPr>
          <a:xfrm flipH="1" flipV="1" rot="5400000">
            <a:off x="3940560" y="1837800"/>
            <a:ext cx="119880" cy="1284840"/>
          </a:xfrm>
          <a:prstGeom prst="curvedConnector5">
            <a:avLst>
              <a:gd name="adj1" fmla="val -325301"/>
              <a:gd name="adj2" fmla="val 39854"/>
              <a:gd name="adj3" fmla="val -32530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" name=""/>
          <p:cNvCxnSpPr>
            <a:stCxn id="49" idx="4"/>
          </p:cNvCxnSpPr>
          <p:nvPr/>
        </p:nvCxnSpPr>
        <p:spPr>
          <a:xfrm flipV="1" rot="16200000">
            <a:off x="5412960" y="2010600"/>
            <a:ext cx="137520" cy="1099440"/>
          </a:xfrm>
          <a:prstGeom prst="curvedConnector5">
            <a:avLst>
              <a:gd name="adj1" fmla="val -395275"/>
              <a:gd name="adj2" fmla="val 44284"/>
              <a:gd name="adj3" fmla="val -395275"/>
            </a:avLst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8983400">
            <a:off x="3492000" y="620280"/>
            <a:ext cx="2109960" cy="2086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8983400">
            <a:off x="3492000" y="4220640"/>
            <a:ext cx="2109960" cy="2086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8983400">
            <a:off x="2246040" y="2831760"/>
            <a:ext cx="1101600" cy="1116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8983400">
            <a:off x="5796000" y="2781000"/>
            <a:ext cx="1054080" cy="1096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/>
          <p:nvPr/>
        </p:nvCxnSpPr>
        <p:spPr>
          <a:xfrm flipV="1" rot="16200000">
            <a:off x="4139640" y="3068280"/>
            <a:ext cx="937440" cy="216360"/>
          </a:xfrm>
          <a:prstGeom prst="curvedConnector5">
            <a:avLst>
              <a:gd name="adj1" fmla="val 49980"/>
              <a:gd name="adj2" fmla="val 50000"/>
              <a:gd name="adj3" fmla="val 4998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endCxn id="57" idx="5"/>
          </p:cNvCxnSpPr>
          <p:nvPr/>
        </p:nvCxnSpPr>
        <p:spPr>
          <a:xfrm rot="10800000">
            <a:off x="3349080" y="3405960"/>
            <a:ext cx="1006920" cy="94320"/>
          </a:xfrm>
          <a:prstGeom prst="curvedConnector5">
            <a:avLst>
              <a:gd name="adj1" fmla="val 38483"/>
              <a:gd name="adj2" fmla="val -246360"/>
              <a:gd name="adj3" fmla="val 3848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" name=""/>
          <p:cNvCxnSpPr/>
          <p:nvPr/>
        </p:nvCxnSpPr>
        <p:spPr>
          <a:xfrm flipV="1" rot="16200000">
            <a:off x="4066560" y="3644280"/>
            <a:ext cx="937080" cy="216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" name=""/>
          <p:cNvCxnSpPr/>
          <p:nvPr/>
        </p:nvCxnSpPr>
        <p:spPr>
          <a:xfrm flipV="1" rot="10800000">
            <a:off x="5147640" y="3356640"/>
            <a:ext cx="637200" cy="503640"/>
          </a:xfrm>
          <a:prstGeom prst="curvedConnector5">
            <a:avLst>
              <a:gd name="adj1" fmla="val 49858"/>
              <a:gd name="adj2" fmla="val 50000"/>
              <a:gd name="adj3" fmla="val 49858"/>
            </a:avLst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7875600">
            <a:off x="5519160" y="4565520"/>
            <a:ext cx="2857320" cy="1727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8612000">
            <a:off x="838080" y="564840"/>
            <a:ext cx="2857680" cy="1727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8983400">
            <a:off x="2195640" y="3933360"/>
            <a:ext cx="2109600" cy="20862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8983400">
            <a:off x="5508360" y="691920"/>
            <a:ext cx="2109600" cy="20858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"/>
          <p:cNvCxnSpPr>
            <a:stCxn id="65" idx="3"/>
          </p:cNvCxnSpPr>
          <p:nvPr/>
        </p:nvCxnSpPr>
        <p:spPr>
          <a:xfrm>
            <a:off x="2925360" y="1985760"/>
            <a:ext cx="1359720" cy="1083240"/>
          </a:xfrm>
          <a:prstGeom prst="curvedConnector5">
            <a:avLst>
              <a:gd name="adj1" fmla="val 83871"/>
              <a:gd name="adj2" fmla="val 50000"/>
              <a:gd name="adj3" fmla="val 8387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9" name=""/>
          <p:cNvCxnSpPr>
            <a:stCxn id="67" idx="2"/>
          </p:cNvCxnSpPr>
          <p:nvPr/>
        </p:nvCxnSpPr>
        <p:spPr>
          <a:xfrm flipV="1" rot="10800000">
            <a:off x="5579280" y="2461680"/>
            <a:ext cx="219960" cy="1254960"/>
          </a:xfrm>
          <a:prstGeom prst="curvedConnector5">
            <a:avLst>
              <a:gd name="adj1" fmla="val 432459"/>
              <a:gd name="adj2" fmla="val 40057"/>
              <a:gd name="adj3" fmla="val 43245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0" name=""/>
          <p:cNvCxnSpPr>
            <a:stCxn id="66" idx="6"/>
          </p:cNvCxnSpPr>
          <p:nvPr/>
        </p:nvCxnSpPr>
        <p:spPr>
          <a:xfrm flipH="1" flipV="1">
            <a:off x="3779640" y="3141360"/>
            <a:ext cx="234000" cy="1108800"/>
          </a:xfrm>
          <a:prstGeom prst="curvedConnector5">
            <a:avLst>
              <a:gd name="adj1" fmla="val -406009"/>
              <a:gd name="adj2" fmla="val 42026"/>
              <a:gd name="adj3" fmla="val -40600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1" name=""/>
          <p:cNvCxnSpPr>
            <a:stCxn id="64" idx="3"/>
          </p:cNvCxnSpPr>
          <p:nvPr/>
        </p:nvCxnSpPr>
        <p:spPr>
          <a:xfrm rot="10800000">
            <a:off x="5147640" y="3788640"/>
            <a:ext cx="1151640" cy="1070640"/>
          </a:xfrm>
          <a:prstGeom prst="curvedConnector5">
            <a:avLst>
              <a:gd name="adj1" fmla="val 90869"/>
              <a:gd name="adj2" fmla="val 49983"/>
              <a:gd name="adj3" fmla="val 90869"/>
            </a:avLst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79640" y="234936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03640" y="476280"/>
            <a:ext cx="2857320" cy="172728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300720" y="234936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3984800">
            <a:off x="1269720" y="4354560"/>
            <a:ext cx="2857680" cy="1726920"/>
          </a:xfrm>
          <a:prstGeom prst="triangle">
            <a:avLst>
              <a:gd name="adj" fmla="val 500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7875600">
            <a:off x="5159160" y="4354200"/>
            <a:ext cx="2857680" cy="1727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endCxn id="74" idx="3"/>
          </p:cNvCxnSpPr>
          <p:nvPr/>
        </p:nvCxnSpPr>
        <p:spPr>
          <a:xfrm flipV="1" rot="16200000">
            <a:off x="4060440" y="2774160"/>
            <a:ext cx="1370520" cy="227520"/>
          </a:xfrm>
          <a:prstGeom prst="curvedConnector5">
            <a:avLst>
              <a:gd name="adj1" fmla="val 49921"/>
              <a:gd name="adj2" fmla="val 49920"/>
              <a:gd name="adj3" fmla="val 4992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9" name=""/>
          <p:cNvCxnSpPr>
            <a:stCxn id="76" idx="3"/>
          </p:cNvCxnSpPr>
          <p:nvPr/>
        </p:nvCxnSpPr>
        <p:spPr>
          <a:xfrm flipV="1">
            <a:off x="3387600" y="3788640"/>
            <a:ext cx="1113840" cy="910440"/>
          </a:xfrm>
          <a:prstGeom prst="curvedConnector5">
            <a:avLst>
              <a:gd name="adj1" fmla="val 88587"/>
              <a:gd name="adj2" fmla="val 50000"/>
              <a:gd name="adj3" fmla="val 885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0" name=""/>
          <p:cNvCxnSpPr>
            <a:endCxn id="77" idx="3"/>
          </p:cNvCxnSpPr>
          <p:nvPr/>
        </p:nvCxnSpPr>
        <p:spPr>
          <a:xfrm>
            <a:off x="4787640" y="4005360"/>
            <a:ext cx="1151640" cy="643320"/>
          </a:xfrm>
          <a:prstGeom prst="curvedConnector5">
            <a:avLst>
              <a:gd name="adj1" fmla="val 8943"/>
              <a:gd name="adj2" fmla="val 50000"/>
              <a:gd name="adj3" fmla="val 894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1" name=""/>
          <p:cNvCxnSpPr/>
          <p:nvPr/>
        </p:nvCxnSpPr>
        <p:spPr>
          <a:xfrm>
            <a:off x="2843280" y="3068280"/>
            <a:ext cx="1224720" cy="299160"/>
          </a:xfrm>
          <a:prstGeom prst="curvedConnector5">
            <a:avLst>
              <a:gd name="adj1" fmla="val 49926"/>
              <a:gd name="adj2" fmla="val 50000"/>
              <a:gd name="adj3" fmla="val 4992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2" name=""/>
          <p:cNvCxnSpPr/>
          <p:nvPr/>
        </p:nvCxnSpPr>
        <p:spPr>
          <a:xfrm flipV="1">
            <a:off x="5219280" y="2935440"/>
            <a:ext cx="1081800" cy="638280"/>
          </a:xfrm>
          <a:prstGeom prst="curvedConnector5">
            <a:avLst>
              <a:gd name="adj1" fmla="val 49900"/>
              <a:gd name="adj2" fmla="val 50000"/>
              <a:gd name="adj3" fmla="val 49900"/>
            </a:avLst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8983400">
            <a:off x="1547280" y="1412640"/>
            <a:ext cx="2109960" cy="20858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18983400">
            <a:off x="5003280" y="1412640"/>
            <a:ext cx="2109960" cy="2085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/>
          <p:nvPr/>
        </p:nvCxnSpPr>
        <p:spPr>
          <a:xfrm flipV="1" rot="16200000">
            <a:off x="1839240" y="4071240"/>
            <a:ext cx="1370880" cy="227880"/>
          </a:xfrm>
          <a:prstGeom prst="curvedConnector5">
            <a:avLst>
              <a:gd name="adj1" fmla="val 49934"/>
              <a:gd name="adj2" fmla="val 50000"/>
              <a:gd name="adj3" fmla="val 4993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7" name=""/>
          <p:cNvCxnSpPr/>
          <p:nvPr/>
        </p:nvCxnSpPr>
        <p:spPr>
          <a:xfrm flipV="1" rot="16200000">
            <a:off x="5439960" y="4071240"/>
            <a:ext cx="1370880" cy="227520"/>
          </a:xfrm>
          <a:prstGeom prst="curvedConnector5">
            <a:avLst>
              <a:gd name="adj1" fmla="val 49934"/>
              <a:gd name="adj2" fmla="val 49920"/>
              <a:gd name="adj3" fmla="val 49934"/>
            </a:avLst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1484280"/>
            <a:ext cx="2160720" cy="15130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348000" y="1413000"/>
            <a:ext cx="2160720" cy="15127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00720" y="1484280"/>
            <a:ext cx="2160720" cy="15130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/>
          <p:nvPr/>
        </p:nvCxnSpPr>
        <p:spPr>
          <a:xfrm flipV="1" rot="16200000">
            <a:off x="975600" y="3567960"/>
            <a:ext cx="1370520" cy="227880"/>
          </a:xfrm>
          <a:prstGeom prst="curvedConnector5">
            <a:avLst>
              <a:gd name="adj1" fmla="val 49921"/>
              <a:gd name="adj2" fmla="val 50000"/>
              <a:gd name="adj3" fmla="val 4992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3" name=""/>
          <p:cNvCxnSpPr/>
          <p:nvPr/>
        </p:nvCxnSpPr>
        <p:spPr>
          <a:xfrm flipV="1" rot="16200000">
            <a:off x="3855600" y="3494880"/>
            <a:ext cx="1370520" cy="227520"/>
          </a:xfrm>
          <a:prstGeom prst="curvedConnector5">
            <a:avLst>
              <a:gd name="adj1" fmla="val 49921"/>
              <a:gd name="adj2" fmla="val 49920"/>
              <a:gd name="adj3" fmla="val 4992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4" name=""/>
          <p:cNvCxnSpPr/>
          <p:nvPr/>
        </p:nvCxnSpPr>
        <p:spPr>
          <a:xfrm flipV="1" rot="16200000">
            <a:off x="6879600" y="3567960"/>
            <a:ext cx="1370520" cy="227880"/>
          </a:xfrm>
          <a:prstGeom prst="curvedConnector5">
            <a:avLst>
              <a:gd name="adj1" fmla="val 49921"/>
              <a:gd name="adj2" fmla="val 50000"/>
              <a:gd name="adj3" fmla="val 49921"/>
            </a:avLst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18983400">
            <a:off x="394920" y="1412640"/>
            <a:ext cx="2109960" cy="20858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8983400">
            <a:off x="5076360" y="1412640"/>
            <a:ext cx="2109960" cy="20858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740720" y="1844640"/>
            <a:ext cx="914400" cy="914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1844640"/>
            <a:ext cx="914400" cy="914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/>
          <p:nvPr/>
        </p:nvCxnSpPr>
        <p:spPr>
          <a:xfrm flipV="1" rot="16200000">
            <a:off x="759960" y="4071240"/>
            <a:ext cx="1370880" cy="227520"/>
          </a:xfrm>
          <a:prstGeom prst="curvedConnector5">
            <a:avLst>
              <a:gd name="adj1" fmla="val 49934"/>
              <a:gd name="adj2" fmla="val 49920"/>
              <a:gd name="adj3" fmla="val 4993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1" name=""/>
          <p:cNvCxnSpPr/>
          <p:nvPr/>
        </p:nvCxnSpPr>
        <p:spPr>
          <a:xfrm flipV="1" rot="16200000">
            <a:off x="3136320" y="3351960"/>
            <a:ext cx="1370520" cy="227880"/>
          </a:xfrm>
          <a:prstGeom prst="curvedConnector5">
            <a:avLst>
              <a:gd name="adj1" fmla="val 49921"/>
              <a:gd name="adj2" fmla="val 50000"/>
              <a:gd name="adj3" fmla="val 4992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2" name=""/>
          <p:cNvCxnSpPr/>
          <p:nvPr/>
        </p:nvCxnSpPr>
        <p:spPr>
          <a:xfrm flipV="1" rot="16200000">
            <a:off x="5512680" y="4071240"/>
            <a:ext cx="1370880" cy="227880"/>
          </a:xfrm>
          <a:prstGeom prst="curvedConnector5">
            <a:avLst>
              <a:gd name="adj1" fmla="val 49934"/>
              <a:gd name="adj2" fmla="val 50000"/>
              <a:gd name="adj3" fmla="val 4993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3" name=""/>
          <p:cNvCxnSpPr/>
          <p:nvPr/>
        </p:nvCxnSpPr>
        <p:spPr>
          <a:xfrm flipV="1" rot="16200000">
            <a:off x="7529040" y="3351960"/>
            <a:ext cx="1370520" cy="227520"/>
          </a:xfrm>
          <a:prstGeom prst="curvedConnector5">
            <a:avLst>
              <a:gd name="adj1" fmla="val 49921"/>
              <a:gd name="adj2" fmla="val 49920"/>
              <a:gd name="adj3" fmla="val 49921"/>
            </a:avLst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1844640"/>
            <a:ext cx="1081080" cy="792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8983400">
            <a:off x="1763280" y="1412640"/>
            <a:ext cx="2109960" cy="2085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40360" y="1844640"/>
            <a:ext cx="1081080" cy="792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812000" y="1916280"/>
            <a:ext cx="1081080" cy="792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983400">
            <a:off x="5508360" y="1412640"/>
            <a:ext cx="2109600" cy="2085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/>
          <p:nvPr/>
        </p:nvCxnSpPr>
        <p:spPr>
          <a:xfrm flipV="1" rot="16200000">
            <a:off x="4071240" y="3207600"/>
            <a:ext cx="1370520" cy="227880"/>
          </a:xfrm>
          <a:prstGeom prst="curvedConnector5">
            <a:avLst>
              <a:gd name="adj1" fmla="val 49921"/>
              <a:gd name="adj2" fmla="val 50000"/>
              <a:gd name="adj3" fmla="val 4992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" name=""/>
          <p:cNvCxnSpPr/>
          <p:nvPr/>
        </p:nvCxnSpPr>
        <p:spPr>
          <a:xfrm flipV="1" rot="16200000">
            <a:off x="327960" y="3207600"/>
            <a:ext cx="1370520" cy="227880"/>
          </a:xfrm>
          <a:prstGeom prst="curvedConnector5">
            <a:avLst>
              <a:gd name="adj1" fmla="val 49921"/>
              <a:gd name="adj2" fmla="val 50000"/>
              <a:gd name="adj3" fmla="val 4992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" name=""/>
          <p:cNvCxnSpPr/>
          <p:nvPr/>
        </p:nvCxnSpPr>
        <p:spPr>
          <a:xfrm flipV="1" rot="16200000">
            <a:off x="2199600" y="4071240"/>
            <a:ext cx="1370880" cy="227880"/>
          </a:xfrm>
          <a:prstGeom prst="curvedConnector5">
            <a:avLst>
              <a:gd name="adj1" fmla="val 49934"/>
              <a:gd name="adj2" fmla="val 50000"/>
              <a:gd name="adj3" fmla="val 4993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" name=""/>
          <p:cNvCxnSpPr/>
          <p:nvPr/>
        </p:nvCxnSpPr>
        <p:spPr>
          <a:xfrm flipV="1" rot="16200000">
            <a:off x="6015960" y="4071240"/>
            <a:ext cx="1370880" cy="227880"/>
          </a:xfrm>
          <a:prstGeom prst="curvedConnector5">
            <a:avLst>
              <a:gd name="adj1" fmla="val 49934"/>
              <a:gd name="adj2" fmla="val 50000"/>
              <a:gd name="adj3" fmla="val 4993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4" name=""/>
          <p:cNvCxnSpPr/>
          <p:nvPr/>
        </p:nvCxnSpPr>
        <p:spPr>
          <a:xfrm flipV="1" rot="16200000">
            <a:off x="7745040" y="3279240"/>
            <a:ext cx="1370880" cy="227520"/>
          </a:xfrm>
          <a:prstGeom prst="curvedConnector5">
            <a:avLst>
              <a:gd name="adj1" fmla="val 49934"/>
              <a:gd name="adj2" fmla="val 49920"/>
              <a:gd name="adj3" fmla="val 49934"/>
            </a:avLst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3T14:34:00Z</dcterms:created>
  <dc:creator>User</dc:creator>
  <dc:description/>
  <dc:language>en-US</dc:language>
  <cp:lastModifiedBy>User</cp:lastModifiedBy>
  <dcterms:modified xsi:type="dcterms:W3CDTF">2015-10-17T13:53:10Z</dcterms:modified>
  <cp:revision>32</cp:revision>
  <dc:subject/>
  <dc:title>Слайд 1</dc:title>
</cp:coreProperties>
</file>