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CA9-C7B0-4E04-B1CD-CCF429EF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073-CC70-4F2F-B383-5801B034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A2D-A214-478F-9D19-FB963ABA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57D-6F1E-4DED-99F4-194B6135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102-E494-49B2-AC08-50663C24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F55-18FB-4E6B-8484-3FB0120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F66-65A1-4B6A-9748-980CB6D9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135-2B7D-4A7B-9EEE-2BD51873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E71-06EA-4768-A5F9-F36A2F66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71E-26AD-41F3-A476-0122FBC9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84A-D856-4291-9BC9-4588A106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40A-1ECF-4656-938D-150E850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04C2-B47E-490C-BC50-8DE49DA4E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47640" y="1484280"/>
            <a:ext cx="6153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 Е О М Е Т Р И Ч Е С К И Е  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87640" y="3429000"/>
            <a:ext cx="2781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 И Г У Р Ы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287600" y="580464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винов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18983400">
            <a:off x="468360" y="259920"/>
            <a:ext cx="2109600" cy="208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836640"/>
            <a:ext cx="1081080" cy="79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3716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997360"/>
            <a:ext cx="2160720" cy="151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5229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133720"/>
            <a:ext cx="17049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5229360"/>
            <a:ext cx="1081080" cy="79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08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983400">
            <a:off x="6516720" y="404280"/>
            <a:ext cx="2109600" cy="208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67640" y="83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1628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4437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3141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407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5300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1700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357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268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551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54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98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1557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5157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2997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5084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4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342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522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17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476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2800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013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3357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3860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1773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5373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34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983400">
            <a:off x="1585440" y="740880"/>
            <a:ext cx="2109960" cy="208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375400">
            <a:off x="5643360" y="649440"/>
            <a:ext cx="2199960" cy="2236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933720"/>
            <a:ext cx="2232000" cy="2232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/>
          <p:nvPr/>
        </p:nvCxnSpPr>
        <p:spPr>
          <a:xfrm rot="5400000">
            <a:off x="4229640" y="3328200"/>
            <a:ext cx="1033560" cy="226080"/>
          </a:xfrm>
          <a:prstGeom prst="curvedConnector5">
            <a:avLst>
              <a:gd name="adj1" fmla="val 49930"/>
              <a:gd name="adj2" fmla="val 49920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8" idx="4"/>
          </p:cNvCxnSpPr>
          <p:nvPr/>
        </p:nvCxnSpPr>
        <p:spPr>
          <a:xfrm flipH="1" flipV="1" rot="5400000">
            <a:off x="3940560" y="1837800"/>
            <a:ext cx="119880" cy="1284840"/>
          </a:xfrm>
          <a:prstGeom prst="curvedConnector5">
            <a:avLst>
              <a:gd name="adj1" fmla="val -325301"/>
              <a:gd name="adj2" fmla="val 39854"/>
              <a:gd name="adj3" fmla="val -3253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9" idx="4"/>
          </p:cNvCxnSpPr>
          <p:nvPr/>
        </p:nvCxnSpPr>
        <p:spPr>
          <a:xfrm flipV="1" rot="16200000">
            <a:off x="5412960" y="2010600"/>
            <a:ext cx="137520" cy="1099440"/>
          </a:xfrm>
          <a:prstGeom prst="curvedConnector5">
            <a:avLst>
              <a:gd name="adj1" fmla="val -395275"/>
              <a:gd name="adj2" fmla="val 44284"/>
              <a:gd name="adj3" fmla="val -395275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983400">
            <a:off x="3492000" y="620280"/>
            <a:ext cx="2109960" cy="2086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983400">
            <a:off x="3492000" y="4220640"/>
            <a:ext cx="2109960" cy="2086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983400">
            <a:off x="2246040" y="2831760"/>
            <a:ext cx="1101600" cy="11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983400">
            <a:off x="5796000" y="2781000"/>
            <a:ext cx="1054080" cy="109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/>
          <p:nvPr/>
        </p:nvCxnSpPr>
        <p:spPr>
          <a:xfrm flipV="1" rot="16200000">
            <a:off x="4139640" y="3068280"/>
            <a:ext cx="937440" cy="216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endCxn id="57" idx="5"/>
          </p:cNvCxnSpPr>
          <p:nvPr/>
        </p:nvCxnSpPr>
        <p:spPr>
          <a:xfrm rot="10800000">
            <a:off x="3349080" y="3405960"/>
            <a:ext cx="1006920" cy="94320"/>
          </a:xfrm>
          <a:prstGeom prst="curvedConnector5">
            <a:avLst>
              <a:gd name="adj1" fmla="val 38483"/>
              <a:gd name="adj2" fmla="val -246360"/>
              <a:gd name="adj3" fmla="val 384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/>
          <p:nvPr/>
        </p:nvCxnSpPr>
        <p:spPr>
          <a:xfrm flipV="1" rot="16200000">
            <a:off x="4066560" y="3644280"/>
            <a:ext cx="93708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/>
          <p:nvPr/>
        </p:nvCxnSpPr>
        <p:spPr>
          <a:xfrm flipV="1" rot="10800000">
            <a:off x="5147640" y="3356640"/>
            <a:ext cx="637200" cy="503640"/>
          </a:xfrm>
          <a:prstGeom prst="curvedConnector5">
            <a:avLst>
              <a:gd name="adj1" fmla="val 49858"/>
              <a:gd name="adj2" fmla="val 50000"/>
              <a:gd name="adj3" fmla="val 49858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7875600">
            <a:off x="5519160" y="4565520"/>
            <a:ext cx="2857320" cy="172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8612000">
            <a:off x="838080" y="564840"/>
            <a:ext cx="2857680" cy="172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983400">
            <a:off x="2195640" y="3933360"/>
            <a:ext cx="2109600" cy="2086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983400">
            <a:off x="5508360" y="691920"/>
            <a:ext cx="2109600" cy="2085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5" idx="3"/>
          </p:cNvCxnSpPr>
          <p:nvPr/>
        </p:nvCxnSpPr>
        <p:spPr>
          <a:xfrm>
            <a:off x="2925360" y="1985760"/>
            <a:ext cx="1359720" cy="1083240"/>
          </a:xfrm>
          <a:prstGeom prst="curvedConnector5">
            <a:avLst>
              <a:gd name="adj1" fmla="val 83871"/>
              <a:gd name="adj2" fmla="val 50000"/>
              <a:gd name="adj3" fmla="val 838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7" idx="2"/>
          </p:cNvCxnSpPr>
          <p:nvPr/>
        </p:nvCxnSpPr>
        <p:spPr>
          <a:xfrm flipV="1" rot="10800000">
            <a:off x="5579280" y="2461680"/>
            <a:ext cx="219960" cy="1254960"/>
          </a:xfrm>
          <a:prstGeom prst="curvedConnector5">
            <a:avLst>
              <a:gd name="adj1" fmla="val 432459"/>
              <a:gd name="adj2" fmla="val 40057"/>
              <a:gd name="adj3" fmla="val 4324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6" idx="6"/>
          </p:cNvCxnSpPr>
          <p:nvPr/>
        </p:nvCxnSpPr>
        <p:spPr>
          <a:xfrm flipH="1" flipV="1">
            <a:off x="3779640" y="3141360"/>
            <a:ext cx="234000" cy="1108800"/>
          </a:xfrm>
          <a:prstGeom prst="curvedConnector5">
            <a:avLst>
              <a:gd name="adj1" fmla="val -406009"/>
              <a:gd name="adj2" fmla="val 42026"/>
              <a:gd name="adj3" fmla="val -4060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4" idx="3"/>
          </p:cNvCxnSpPr>
          <p:nvPr/>
        </p:nvCxnSpPr>
        <p:spPr>
          <a:xfrm rot="10800000">
            <a:off x="5147640" y="3788640"/>
            <a:ext cx="1151640" cy="1070640"/>
          </a:xfrm>
          <a:prstGeom prst="curvedConnector5">
            <a:avLst>
              <a:gd name="adj1" fmla="val 90869"/>
              <a:gd name="adj2" fmla="val 49983"/>
              <a:gd name="adj3" fmla="val 90869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2349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476280"/>
            <a:ext cx="2857320" cy="1727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2349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984800">
            <a:off x="1269720" y="4354560"/>
            <a:ext cx="2857680" cy="17269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7875600">
            <a:off x="5159160" y="4354200"/>
            <a:ext cx="2857680" cy="172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endCxn id="74" idx="3"/>
          </p:cNvCxnSpPr>
          <p:nvPr/>
        </p:nvCxnSpPr>
        <p:spPr>
          <a:xfrm flipV="1" rot="16200000">
            <a:off x="4060440" y="2774160"/>
            <a:ext cx="1370520" cy="227520"/>
          </a:xfrm>
          <a:prstGeom prst="curvedConnector5">
            <a:avLst>
              <a:gd name="adj1" fmla="val 49921"/>
              <a:gd name="adj2" fmla="val 4992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6" idx="3"/>
          </p:cNvCxnSpPr>
          <p:nvPr/>
        </p:nvCxnSpPr>
        <p:spPr>
          <a:xfrm flipV="1">
            <a:off x="3387600" y="3788640"/>
            <a:ext cx="1113840" cy="910440"/>
          </a:xfrm>
          <a:prstGeom prst="curvedConnector5">
            <a:avLst>
              <a:gd name="adj1" fmla="val 88587"/>
              <a:gd name="adj2" fmla="val 50000"/>
              <a:gd name="adj3" fmla="val 885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endCxn id="77" idx="3"/>
          </p:cNvCxnSpPr>
          <p:nvPr/>
        </p:nvCxnSpPr>
        <p:spPr>
          <a:xfrm>
            <a:off x="4787640" y="4005360"/>
            <a:ext cx="1151640" cy="643320"/>
          </a:xfrm>
          <a:prstGeom prst="curvedConnector5">
            <a:avLst>
              <a:gd name="adj1" fmla="val 8943"/>
              <a:gd name="adj2" fmla="val 50000"/>
              <a:gd name="adj3" fmla="val 8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/>
          <p:nvPr/>
        </p:nvCxnSpPr>
        <p:spPr>
          <a:xfrm>
            <a:off x="2843280" y="3068280"/>
            <a:ext cx="1224720" cy="2991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/>
          <p:nvPr/>
        </p:nvCxnSpPr>
        <p:spPr>
          <a:xfrm flipV="1">
            <a:off x="5219280" y="2935440"/>
            <a:ext cx="1081800" cy="63828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8983400">
            <a:off x="1547280" y="1412640"/>
            <a:ext cx="2109960" cy="2085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983400">
            <a:off x="5003280" y="1412640"/>
            <a:ext cx="2109960" cy="208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/>
          <p:nvPr/>
        </p:nvCxnSpPr>
        <p:spPr>
          <a:xfrm flipV="1" rot="16200000">
            <a:off x="1839240" y="4071240"/>
            <a:ext cx="1370880" cy="2278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/>
          <p:nvPr/>
        </p:nvCxnSpPr>
        <p:spPr>
          <a:xfrm flipV="1" rot="16200000">
            <a:off x="5439960" y="4071240"/>
            <a:ext cx="1370880" cy="227520"/>
          </a:xfrm>
          <a:prstGeom prst="curvedConnector5">
            <a:avLst>
              <a:gd name="adj1" fmla="val 49934"/>
              <a:gd name="adj2" fmla="val 4992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484280"/>
            <a:ext cx="2160720" cy="1513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1413000"/>
            <a:ext cx="2160720" cy="1512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1484280"/>
            <a:ext cx="2160720" cy="1513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/>
          <p:nvPr/>
        </p:nvCxnSpPr>
        <p:spPr>
          <a:xfrm flipV="1" rot="16200000">
            <a:off x="975600" y="356796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/>
          <p:nvPr/>
        </p:nvCxnSpPr>
        <p:spPr>
          <a:xfrm flipV="1" rot="16200000">
            <a:off x="3855600" y="3494880"/>
            <a:ext cx="1370520" cy="227520"/>
          </a:xfrm>
          <a:prstGeom prst="curvedConnector5">
            <a:avLst>
              <a:gd name="adj1" fmla="val 49921"/>
              <a:gd name="adj2" fmla="val 4992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/>
          <p:nvPr/>
        </p:nvCxnSpPr>
        <p:spPr>
          <a:xfrm flipV="1" rot="16200000">
            <a:off x="6879600" y="356796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983400">
            <a:off x="394920" y="1412640"/>
            <a:ext cx="2109960" cy="2085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983400">
            <a:off x="5076360" y="1412640"/>
            <a:ext cx="2109960" cy="2085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40720" y="184464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184464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759960" y="4071240"/>
            <a:ext cx="1370880" cy="227520"/>
          </a:xfrm>
          <a:prstGeom prst="curvedConnector5">
            <a:avLst>
              <a:gd name="adj1" fmla="val 49934"/>
              <a:gd name="adj2" fmla="val 4992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/>
          <p:nvPr/>
        </p:nvCxnSpPr>
        <p:spPr>
          <a:xfrm flipV="1" rot="16200000">
            <a:off x="3136320" y="335196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/>
          <p:nvPr/>
        </p:nvCxnSpPr>
        <p:spPr>
          <a:xfrm flipV="1" rot="16200000">
            <a:off x="5512680" y="4071240"/>
            <a:ext cx="1370880" cy="2278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/>
          <p:nvPr/>
        </p:nvCxnSpPr>
        <p:spPr>
          <a:xfrm flipV="1" rot="16200000">
            <a:off x="7529040" y="3351960"/>
            <a:ext cx="1370520" cy="227520"/>
          </a:xfrm>
          <a:prstGeom prst="curvedConnector5">
            <a:avLst>
              <a:gd name="adj1" fmla="val 49921"/>
              <a:gd name="adj2" fmla="val 4992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844640"/>
            <a:ext cx="10810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983400">
            <a:off x="1763280" y="1412640"/>
            <a:ext cx="2109960" cy="208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1844640"/>
            <a:ext cx="10810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2000" y="1916280"/>
            <a:ext cx="108108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983400">
            <a:off x="5508360" y="1412640"/>
            <a:ext cx="2109600" cy="208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/>
          <p:nvPr/>
        </p:nvCxnSpPr>
        <p:spPr>
          <a:xfrm flipV="1" rot="16200000">
            <a:off x="4071240" y="320760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 flipV="1" rot="16200000">
            <a:off x="327960" y="320760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/>
          <p:nvPr/>
        </p:nvCxnSpPr>
        <p:spPr>
          <a:xfrm flipV="1" rot="16200000">
            <a:off x="2199600" y="4071240"/>
            <a:ext cx="1370880" cy="2278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 flipV="1" rot="16200000">
            <a:off x="6015960" y="4071240"/>
            <a:ext cx="1370880" cy="2278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 flipV="1" rot="16200000">
            <a:off x="7745040" y="3279240"/>
            <a:ext cx="1370880" cy="227520"/>
          </a:xfrm>
          <a:prstGeom prst="curvedConnector5">
            <a:avLst>
              <a:gd name="adj1" fmla="val 49934"/>
              <a:gd name="adj2" fmla="val 4992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34:00Z</dcterms:created>
  <dc:creator>User</dc:creator>
  <dc:description/>
  <dc:language>en-US</dc:language>
  <cp:lastModifiedBy>User</cp:lastModifiedBy>
  <dcterms:modified xsi:type="dcterms:W3CDTF">2015-10-17T13:53:10Z</dcterms:modified>
  <cp:revision>32</cp:revision>
  <dc:subject/>
  <dc:title>Слайд 1</dc:title>
</cp:coreProperties>
</file>