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0827-6E10-48F5-BB27-6BD2E0452D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EE4F-6B48-43E3-8DBB-2C02F7D4DA74}" type="slidenum">
              <a:rPr b="0" lang="ru-RU" sz="1200" spc="-1" strike="noStrike">
                <a:solidFill>
                  <a:srgbClr val="000000"/>
                </a:solidFill>
                <a:latin typeface="Candar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547-C89F-4EB9-95AE-258F831C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833-0926-4204-9450-097EB5A3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6DD-49F3-494D-ADC0-91E86AF7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E33-14D6-4C6E-9089-A70F0173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E550-E511-4CD3-AA70-3B16E004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DAB5-CEEA-4EB2-9CFB-FB52F033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9BBD-FBC6-4899-85AA-A0F5DB56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7E91-BF18-41F0-B1CA-FEF8DBCE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1C30-52EF-44C4-9239-DDAF8DA8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9CC1-DB80-416B-B34C-C1AEFE50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4BFE-25DA-4437-BF84-2FAACE3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83E-AFD3-41C8-BC88-B1185905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3277-3932-4978-ACE1-F180D2A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6CE2-EEB3-4066-AA85-7183E001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3F95-44AE-4E78-B69F-C7D9C304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E3F3-327F-4E50-9D7A-A3A29318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0149-C8AE-49E4-97B1-884E9A88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9BF0-C2FB-4DFF-B41D-8E51F971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259F-FBDA-4334-9A21-942BD1B8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DD19-7C7E-4566-81A0-658200F0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8223-9C26-417C-974F-E2E8C9D6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C449-6CC5-4D90-882D-650DC105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1EE-67FD-462A-AB85-6378586D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C39A-FA44-4C16-B710-9016E1A0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D945-7088-47D5-9E9C-55C8386A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FC8E-0D3C-4FDB-ACD3-C722399B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C5D3-B453-4171-AA46-13D4A612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F333-C4F3-44A8-A02B-BF31152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8424-1B9C-4242-ABE1-EC50BF68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1FA5-F132-4C25-A04A-15FD4E9F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583C-7A55-420A-B34C-E498A6A9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63A1-469E-4BCF-B71A-A2ADBAD3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A7F3A-FF0C-4BC9-A4D0-434FE34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5EE-E043-42C4-A0CB-33E7A499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800AD-8690-43A2-A20C-97E2AF14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72DF-556F-45D8-87E5-10CA5A0A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F71B-1A7A-4451-A0E0-D260A38E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D6961-EC01-4B3A-B52F-19A3830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191AA-FB5E-4216-83DA-AC2D8F77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F9DD-67E8-47AB-B11B-8B1B3644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77CAB-762D-437D-9BEB-134AD195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56DF-DCB4-4F65-9FB9-B0E3A8F7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B6C6-3F77-407B-826C-685C0778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9EF2E-284E-4859-ACE8-E205F61C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07A-DC3C-4EFE-A3E3-34AD1CEC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0C7D-C29C-403E-B0BD-232D1A96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A7FA5-D301-4958-BA39-5D2EFD93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6EAE0-379E-45D6-801E-3181D8DE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92D6-C704-47F0-8EA3-4ADA8122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B663-05F0-4EA2-928B-7C659E18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6ACD-F94A-434D-BD63-58CFD458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0CF2B-E645-4BC2-AA92-D38C69A8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BC25-495D-4BEF-A40B-D317EAE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BA4F-D07C-447F-886D-13A5BD16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D99E-CD6C-41CD-8DC8-B00F0BE4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2BB-4E52-44D7-B675-5DE9BCA0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1D1A-1C7B-41B1-9746-36CAE9FC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A849C-E15A-4C57-9971-6B3705A3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1201C-8C3F-43E0-8E01-3C9D7876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D4F50-950B-4646-9D7D-6F584E11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627F0-BF0B-4C31-9E6E-5B49F07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3141E-5052-41F7-A797-351485E2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3FEF-3ECB-4DF4-A181-E08AF459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6DC4E-67D9-4FCC-B5C5-394F3C6D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30B81-32E1-4F61-AAC9-1253DC66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0C206-616E-427D-B756-A77B5EC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C26-A862-4246-8809-E44E779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3A6C6-DF2A-43C8-B51D-9F809DD0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E1562-763A-4304-BC5B-CB7CF603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15077-F07E-4384-8445-CD7CF1EB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7B5D-BAA8-4EC1-883A-EC54367C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CB1D-AA89-48B0-BCE9-C39CE7FF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A73D-9866-4880-8673-8C0005D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2768-975D-4921-B6EE-C4120B2E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34B5-C272-4E3E-8EDB-7700269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2417C-E5DF-494B-ACE1-4717B115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42982-748E-42C1-B4A7-EC7D967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014-AAC9-493B-A159-D51FBE0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0735F-A211-4916-9E28-D3D8F0B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3E12C-D11A-4174-9524-6C4BF948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C8121-4251-4C1E-B920-11F9BA4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EDC22-A986-402F-A546-73ED4B80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234C4-9AEC-48B5-9501-53A63E08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A32-B0DF-4FD9-95FD-A9C3CD2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F6D-906C-40C6-8288-8259CD9FFB2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84D1-7835-4F7B-8E9E-76F39164DFC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B09-D0DA-47F8-B38D-A591EAB755F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12C5-D477-463F-AA4C-F0AAD56BD3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69C9-8A13-4099-BB8E-76E36D09993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415B-F500-4959-9288-2E72D1E009C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410-96C7-49EC-9B15-782AE930E0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essera.ru/wp-content/uploads/2012/08/rocollor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lessera.ru/wp-content/uploads/2012/08/kisa_vor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ий проек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тему: Влияние бытовых и профессиональных красителей на структуру волос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435280" y="3556080"/>
            <a:ext cx="331308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работы ­– Петрова Ксения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удентка Новочебоксарского политехнического техникума                                                                                           Руководители: Иванова Т. Н.,                                                                                       преподаватель профцикл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ердохлеб О.В., мастер п/о.                                                                                  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266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3" descr="1371726664_korobka.jpg"/>
          <p:cNvPicPr/>
          <p:nvPr/>
        </p:nvPicPr>
        <p:blipFill>
          <a:blip r:embed="rId1"/>
          <a:srcRect l="37407" t="4977" r="0" b="0"/>
          <a:stretch/>
        </p:blipFill>
        <p:spPr>
          <a:xfrm>
            <a:off x="684360" y="1989000"/>
            <a:ext cx="2146320" cy="4104000"/>
          </a:xfrm>
          <a:prstGeom prst="rect">
            <a:avLst/>
          </a:prstGeom>
          <a:ln w="0">
            <a:noFill/>
          </a:ln>
        </p:spPr>
      </p:pic>
      <p:pic>
        <p:nvPicPr>
          <p:cNvPr id="366" name="Объект 8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Объект 4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5" descr="http://karamel-shop.ru/data/big/deluxe_box_b.jpg"/>
          <p:cNvPicPr/>
          <p:nvPr/>
        </p:nvPicPr>
        <p:blipFill>
          <a:blip r:embed="rId2"/>
          <a:stretch/>
        </p:blipFill>
        <p:spPr>
          <a:xfrm>
            <a:off x="1116000" y="1844640"/>
            <a:ext cx="1511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755640" y="1268280"/>
          <a:ext cx="7775640" cy="5313600"/>
        </p:xfrm>
        <a:graphic>
          <a:graphicData uri="http://schemas.openxmlformats.org/drawingml/2006/table">
            <a:tbl>
              <a:tblPr/>
              <a:tblGrid>
                <a:gridCol w="1887480"/>
                <a:gridCol w="1346400"/>
                <a:gridCol w="1546200"/>
                <a:gridCol w="1461960"/>
                <a:gridCol w="1533600"/>
              </a:tblGrid>
              <a:tr h="6480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о для вол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аживающие 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2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овая краска фирмы  Эстель 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ксид аммо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4 месте по соста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расители их нет, а только в маске и бальза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3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а-уход DE LUXE фирмы Эс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ксид аммо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месте п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асло авокадо, касторовое масло и пантенол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асло орехов мак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итание и увлаж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Лечение и питание поврежденных воло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1" name="Рисунок 1" descr="1371726664_korobka.jpg"/>
          <p:cNvPicPr/>
          <p:nvPr/>
        </p:nvPicPr>
        <p:blipFill>
          <a:blip r:embed="rId1"/>
          <a:srcRect l="37407" t="4977" r="0" b="4202"/>
          <a:stretch/>
        </p:blipFill>
        <p:spPr>
          <a:xfrm>
            <a:off x="2771640" y="1916280"/>
            <a:ext cx="866880" cy="18730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3" descr="http://karamel-shop.ru/data/big/deluxe_box_b.jpg"/>
          <p:cNvPicPr/>
          <p:nvPr/>
        </p:nvPicPr>
        <p:blipFill>
          <a:blip r:embed="rId2"/>
          <a:stretch/>
        </p:blipFill>
        <p:spPr>
          <a:xfrm>
            <a:off x="2843280" y="4221000"/>
            <a:ext cx="576360" cy="19386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1"/>
          <p:cNvSpPr/>
          <p:nvPr/>
        </p:nvSpPr>
        <p:spPr>
          <a:xfrm>
            <a:off x="1042920" y="47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состава красителей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1" descr="гири.JPG"/>
          <p:cNvPicPr/>
          <p:nvPr/>
        </p:nvPicPr>
        <p:blipFill>
          <a:blip r:embed="rId1"/>
          <a:stretch/>
        </p:blipFill>
        <p:spPr>
          <a:xfrm>
            <a:off x="2340000" y="1341360"/>
            <a:ext cx="3600360" cy="18543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2195640" y="620640"/>
            <a:ext cx="57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Тест на прочность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6" name="Рисунок 3" descr="290312 148.jpg"/>
          <p:cNvPicPr/>
          <p:nvPr/>
        </p:nvPicPr>
        <p:blipFill>
          <a:blip r:embed="rId2"/>
          <a:stretch/>
        </p:blipFill>
        <p:spPr>
          <a:xfrm>
            <a:off x="539640" y="3645000"/>
            <a:ext cx="3286080" cy="25034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290312 139.jpg"/>
          <p:cNvPicPr/>
          <p:nvPr/>
        </p:nvPicPr>
        <p:blipFill>
          <a:blip r:embed="rId3"/>
          <a:stretch/>
        </p:blipFill>
        <p:spPr>
          <a:xfrm>
            <a:off x="5003640" y="3716280"/>
            <a:ext cx="3097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539640" y="1557360"/>
          <a:ext cx="8209080" cy="4846680"/>
        </p:xfrm>
        <a:graphic>
          <a:graphicData uri="http://schemas.openxmlformats.org/drawingml/2006/table">
            <a:tbl>
              <a:tblPr/>
              <a:tblGrid>
                <a:gridCol w="836640"/>
                <a:gridCol w="1792440"/>
                <a:gridCol w="2149560"/>
                <a:gridCol w="1428480"/>
                <a:gridCol w="2001960"/>
              </a:tblGrid>
              <a:tr h="6397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ди вол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мые процед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на про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я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овой краситель  фирмы  Эстель 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ы прокрасились равномерно,  на тон светлее желаемого ц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 не выдерживает гирю весом в 15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ря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а-уход DELUXE фирмы Эстель и 6% оксиг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ы прокрасились равномерно, цвет совпал с желаемым результато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 выдерживает гирю весом в 15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Рисунок 4" descr="http://im2-tub-ru.yandex.net/i?id=de9fb07584f67e19e02254025046c67c-132-144&amp;n=21"/>
          <p:cNvPicPr/>
          <p:nvPr/>
        </p:nvPicPr>
        <p:blipFill>
          <a:blip r:embed="rId1"/>
          <a:stretch/>
        </p:blipFill>
        <p:spPr>
          <a:xfrm>
            <a:off x="1650960" y="450864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5" descr="Краски для волос"/>
          <p:cNvPicPr/>
          <p:nvPr/>
        </p:nvPicPr>
        <p:blipFill>
          <a:blip r:embed="rId2"/>
          <a:stretch/>
        </p:blipFill>
        <p:spPr>
          <a:xfrm rot="9846000">
            <a:off x="1669680" y="2544480"/>
            <a:ext cx="1266840" cy="13716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2"/>
          <p:cNvSpPr/>
          <p:nvPr/>
        </p:nvSpPr>
        <p:spPr>
          <a:xfrm>
            <a:off x="1332000" y="6206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после окрашивани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3" descr="http://karamel-shop.ru/data/big/deluxe_box_b.jpg"/>
          <p:cNvPicPr/>
          <p:nvPr/>
        </p:nvPicPr>
        <p:blipFill>
          <a:blip r:embed="rId1"/>
          <a:stretch/>
        </p:blipFill>
        <p:spPr>
          <a:xfrm>
            <a:off x="6300720" y="1700280"/>
            <a:ext cx="1511280" cy="475308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Выбираем краситель для волос. Бытовой или профессиональный?"/>
          <p:cNvPicPr/>
          <p:nvPr/>
        </p:nvPicPr>
        <p:blipFill>
          <a:blip r:embed="rId2"/>
          <a:stretch/>
        </p:blipFill>
        <p:spPr>
          <a:xfrm>
            <a:off x="2627280" y="3213000"/>
            <a:ext cx="3421080" cy="3367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http://im4-tub-ru.yandex.net/i?id=113826314-56-72&amp;n=21"/>
          <p:cNvPicPr/>
          <p:nvPr/>
        </p:nvPicPr>
        <p:blipFill>
          <a:blip r:embed="rId3"/>
          <a:stretch/>
        </p:blipFill>
        <p:spPr>
          <a:xfrm>
            <a:off x="324000" y="1125360"/>
            <a:ext cx="357156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1" descr="Кератиновое выпрямление волос - Саратов - Косметические услуги"/>
          <p:cNvPicPr/>
          <p:nvPr/>
        </p:nvPicPr>
        <p:blipFill>
          <a:blip r:embed="rId1"/>
          <a:srcRect l="46169" t="0" r="0" b="0"/>
          <a:stretch/>
        </p:blipFill>
        <p:spPr>
          <a:xfrm>
            <a:off x="971640" y="2421000"/>
            <a:ext cx="2809800" cy="39718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468360" y="549360"/>
            <a:ext cx="830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Окрашивание клиента  профессиональным красителем фирмы Эстель 6/43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4284720" y="2708280"/>
            <a:ext cx="43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6/47+6% оксигент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Пропорции смешивания  1:1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Время выдержки 35 мин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2" descr="http://zhkr.ru/wp-content/uploads/2012/03/uvlazhnenie-volos.jpg"/>
          <p:cNvPicPr/>
          <p:nvPr/>
        </p:nvPicPr>
        <p:blipFill>
          <a:blip r:embed="rId1"/>
          <a:stretch/>
        </p:blipFill>
        <p:spPr>
          <a:xfrm>
            <a:off x="4067280" y="3716280"/>
            <a:ext cx="5116320" cy="3141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68360" y="1483920"/>
            <a:ext cx="8136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фессиональные краски не только гарантируют красивый и стойкий цвет при минимальном содержании аммиака, но и максимально сохраняют структуру волос (формула красоты волос проста: чем меньше аммиака в красителе, тем лучше их качество после окрашивания)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10920" y="126792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Times New Roman"/>
              </a:rPr>
              <a:t>По результатам статистики около 80% женщин во всем мире регулярно красят волосы. Из них почти 60%, экономя время или деньги,  делают это дома, используя бытовые красители . В результате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Gungsuh"/>
              </a:rPr>
              <a:t>волосы становятся сухими, ломкими, секутся и выпадают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расот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олос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 — 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 не только ежедневный уход, но и правильное окрашива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just">
              <a:lnSpc>
                <a:spcPts val="142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Актуальность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Выяснить влияние бытовых и профессиональных красителей на структуру волос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Цель исследования: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68360" y="1700280"/>
            <a:ext cx="7812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добрать бытовые и профессиональные красители  и исследовать их  составы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дготовить две пряди волос с натуральной базой для исследования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Выполнить окрашивание прядей бытовыми и профессиональными красителям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Выяснить воздействие исследуемых  красителей   на структуру волос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Доказать, действительно ли профессиональные красители при правильном окрашивании не портят структуру волос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Выполнить окрашивание  волос клиент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дачи работ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Если окрашивать волосы бытовыми красителями  структура волос ухудшается,  а при правильном окрашивании  профессиональными красителями структура волос максимально сохраняетс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ndara"/>
              </a:rPr>
              <a:t>Гипотез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Бытовые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Профессиональные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ва класса красителей для вол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Рисунок 5" descr="1371726664_korobka.jpg"/>
          <p:cNvPicPr/>
          <p:nvPr/>
        </p:nvPicPr>
        <p:blipFill>
          <a:blip r:embed="rId1"/>
          <a:srcRect l="37407" t="4977" r="0" b="0"/>
          <a:stretch/>
        </p:blipFill>
        <p:spPr>
          <a:xfrm>
            <a:off x="4495680" y="1916280"/>
            <a:ext cx="978120" cy="18730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4" descr="http://gazeta-p.ru/upload/articles_img/fbf196bc5a91d0141d8497f9995ac99d.jpg"/>
          <p:cNvPicPr/>
          <p:nvPr/>
        </p:nvPicPr>
        <p:blipFill>
          <a:blip r:embed="rId2"/>
          <a:stretch/>
        </p:blipFill>
        <p:spPr>
          <a:xfrm>
            <a:off x="5867280" y="1916280"/>
            <a:ext cx="1152720" cy="17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После окрашивания"/>
          <p:cNvPicPr/>
          <p:nvPr/>
        </p:nvPicPr>
        <p:blipFill>
          <a:blip r:embed="rId1"/>
          <a:srcRect l="0" t="29625" r="50060" b="0"/>
          <a:stretch/>
        </p:blipFill>
        <p:spPr>
          <a:xfrm>
            <a:off x="1071720" y="257040"/>
            <a:ext cx="67150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http://www.e-beauty.lv/fotos/images/Klienti/Nanomax/raksts-mati/2-bojat%20mati.jpg"/>
          <p:cNvPicPr/>
          <p:nvPr/>
        </p:nvPicPr>
        <p:blipFill>
          <a:blip r:embed="rId1"/>
          <a:stretch/>
        </p:blipFill>
        <p:spPr>
          <a:xfrm>
            <a:off x="642960" y="1554120"/>
            <a:ext cx="7072200" cy="5303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Волосы после окрашивания бытовыми красителям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ытовые металлсодержащие красител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Рисунок 4" descr="http://gazeta-p.ru/upload/articles_img/fbf196bc5a91d0141d8497f9995ac99d.jpg"/>
          <p:cNvPicPr/>
          <p:nvPr/>
        </p:nvPicPr>
        <p:blipFill>
          <a:blip r:embed="rId1"/>
          <a:stretch/>
        </p:blipFill>
        <p:spPr>
          <a:xfrm>
            <a:off x="395280" y="2492280"/>
            <a:ext cx="2179800" cy="3311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http://lessera.ru/wp-content/uploads/2012/08/rocollor-238x300.jpg">
            <a:hlinkClick r:id="rId2"/>
          </p:cNvPr>
          <p:cNvPicPr/>
          <p:nvPr/>
        </p:nvPicPr>
        <p:blipFill>
          <a:blip r:embed="rId3"/>
          <a:srcRect l="22233" t="20156" r="28585" b="18896"/>
          <a:stretch/>
        </p:blipFill>
        <p:spPr>
          <a:xfrm>
            <a:off x="6443640" y="2565360"/>
            <a:ext cx="2089080" cy="316728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6" descr="http://lessera.ru/wp-content/uploads/2012/08/kisa_vor-300x21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492280"/>
            <a:ext cx="33051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5:08:41Z</dcterms:created>
  <dc:creator>Family</dc:creator>
  <dc:description/>
  <dc:language>en-US</dc:language>
  <cp:lastModifiedBy>Family</cp:lastModifiedBy>
  <dcterms:modified xsi:type="dcterms:W3CDTF">2015-02-25T16:22:20Z</dcterms:modified>
  <cp:revision>73</cp:revision>
  <dc:subject/>
  <dc:title>Исследовательская работа на тему: Влияние бытовых и профессиональных красителей на структуру волос</dc:title>
</cp:coreProperties>
</file>