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9BD-11A3-44EA-A554-5C89A81A24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0F7-7AFF-482E-9E9B-CFA2802646C5}" type="slidenum">
              <a:rPr b="0" lang="ru-RU" sz="1200" spc="-1" strike="noStrike">
                <a:solidFill>
                  <a:srgbClr val="000000"/>
                </a:solidFill>
                <a:latin typeface="Candar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8F9-A336-486A-96AF-617A0F5D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559-C922-4DB1-89D4-A00AA16E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4C3-5C40-4E4F-B2C8-84E60AB4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760-74A5-43CE-9E4B-5B55CA0B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DE87-C8CC-47F3-8B79-52DE8DBF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53F8-5521-422F-A9B8-AA87317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F5D5-FBBD-45AA-8104-AC7E407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41F-F4EB-4AFB-A3CC-DCD6DA50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06A-EDB1-41BA-9162-D3CFBD32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4813-5A43-4C5D-AA8C-C4F1BBB4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32AC-5E7E-4FD7-9035-8D6E33B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7E4-C0BF-4E41-AB63-D8E8F37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1523-6716-4F01-A79B-7F2F3D0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8509-5E5C-4E5A-A305-54BD7FF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3E98-440C-44A1-B43F-757B7BEA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04C-2D0A-4D6C-9979-62F65004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3916-4090-4942-B860-90B8AA9D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9F47-3C8F-43A3-A60F-26222694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D6AE-D45A-4CE5-BD6D-E5C08A76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F03D-D435-4667-82B1-A2557DC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6312-584C-4526-B690-E3314257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7035-A82F-4971-9449-042921AD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74D-74B8-45B0-817D-C3F3E13F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0E02-C230-4D76-AD88-D8C4212D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C276-F748-4BD3-8C19-66735EE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4363-F199-4DF1-88E9-3EB2C217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3F55-1B6B-49D8-ABCF-49A16D0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AAE5-6080-48CF-9CD6-7F6B33D1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048D-503F-44B2-AA88-CE9F1D30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4C9B-E088-4C95-92EE-7D153A7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3D67-205E-4B7E-A598-F12E08ED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2047-89D1-44FE-B7F8-868573F4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E996-D65C-43A3-8366-0265115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819-E82A-4B7B-BF58-1079EC1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0B30-3887-4017-8E03-66BDB6E8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E960-A96C-481D-BF30-50B26B74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6D341-9550-4B99-BE22-F4CF2925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9792-51BC-47B4-B535-DDB791D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D668-9F25-40CA-864E-747C5F5A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33EA-67AB-48D2-A355-DBE6300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16EB-5444-4FD9-8B65-5F040FFC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8270D-DF90-489B-B53B-D8DEE882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7AF9-DE02-4918-B114-E22DA37E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DE4B-7956-4284-BF35-B3561971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ACC-055A-40A2-A66C-84B09915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21B4-30D5-46CE-AC72-BEF33F07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AC836-BFE5-4CBB-BCBA-331C7553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E55F-3C01-463C-BD92-1270642E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1F77-6344-4D8C-A4E3-E86F754D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EE5F-373E-4028-AA1C-17C8D29F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F875D-AE70-4510-965E-F072B58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1B3D-49CB-417F-9004-C16E05E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8F584-41FB-400A-9501-BDE3B41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2CB3-2EB3-4E7A-A275-6084A7D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2CDB-D0C3-47C9-A9AE-C7D5BB41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DB4-D60B-475D-9696-3E3E4C8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296C-B1B2-4562-A315-32A7419E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B1FF-64D7-4144-B5A8-E28AB884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CE94-42FE-40BF-8899-BE4DE0EB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B16D-DD4C-4409-A592-B7836D2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B19C-9796-4B63-88B5-B73672C6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85C0-ED49-4A90-A17E-C8A65378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A14A-E1E6-4371-9FB0-2CAF71C4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79B20-0968-401C-A2DD-E6DF881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3E73-EFB8-41ED-9A3D-A7003FF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14B3-A06D-4C74-9462-8D0ED9ED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A8F-2D6B-4CED-B21E-8A8B879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BBB9-8EF3-4ADD-898E-FE83F66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41532-9B55-4FF4-9584-442BD3E0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1A402-8564-4878-94B4-1AA136AC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160D-2880-4ACC-8B80-807E4142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0F02-F769-4117-B1B9-EA543BE5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D5F6-DB70-4912-9CA2-84E94926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8970B-E034-40DF-AD84-6D34380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244A-F0AA-49F6-9C75-55016E56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39944-D24E-4179-B98D-2FA5C7B5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EAA6-8109-4953-AFE5-42194852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190-43FB-4874-A9DB-9464123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9E64-037D-4928-8E42-D68E086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B34E8-9FC6-43DA-ACC1-6515FA5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24CE-81EF-468A-8D98-E62AFE78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FFC7-B5D1-4FF5-92A0-F9C9E127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A5F6-338F-4D36-944E-1A658FA1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F05-3CDF-4535-BE0E-1E3226A4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67F-7BF3-473C-AAE5-8C09F92332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ADFE-F6D4-4A92-85B8-F317E9F5AB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1465-0D35-405A-B050-69A750D853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D15-391C-4B24-B012-87982849B2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D2A4-C781-4608-9A08-5F58C0493D5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BE1C-9A98-44BB-8BAC-1BE7610E17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D8A-C9D1-4A87-914B-2AF9E213163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essera.ru/wp-content/uploads/2012/08/rocollor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lessera.ru/wp-content/uploads/2012/08/kisa_vor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й проек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тему: Влияние бытовых и профессиональных красителей на структуру волос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435280" y="3556080"/>
            <a:ext cx="331308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работы ­– Петрова Ксения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удентка Новочебоксарского политехнического техникума                                                                                           Руководители: Иванова Т. Н.,                                                                                       преподаватель профцикл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ердохлеб О.В., мастер п/о.                                                                               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266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1371726664_korobka.jpg"/>
          <p:cNvPicPr/>
          <p:nvPr/>
        </p:nvPicPr>
        <p:blipFill>
          <a:blip r:embed="rId1"/>
          <a:srcRect l="37407" t="4977" r="0" b="0"/>
          <a:stretch/>
        </p:blipFill>
        <p:spPr>
          <a:xfrm>
            <a:off x="684360" y="1989000"/>
            <a:ext cx="2146320" cy="4104000"/>
          </a:xfrm>
          <a:prstGeom prst="rect">
            <a:avLst/>
          </a:prstGeom>
          <a:ln w="0">
            <a:noFill/>
          </a:ln>
        </p:spPr>
      </p:pic>
      <p:pic>
        <p:nvPicPr>
          <p:cNvPr id="366" name="Объект 8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Объект 4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http://karamel-shop.ru/data/big/deluxe_box_b.jpg"/>
          <p:cNvPicPr/>
          <p:nvPr/>
        </p:nvPicPr>
        <p:blipFill>
          <a:blip r:embed="rId2"/>
          <a:stretch/>
        </p:blipFill>
        <p:spPr>
          <a:xfrm>
            <a:off x="1116000" y="1844640"/>
            <a:ext cx="1511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755640" y="1268280"/>
          <a:ext cx="7775640" cy="5313600"/>
        </p:xfrm>
        <a:graphic>
          <a:graphicData uri="http://schemas.openxmlformats.org/drawingml/2006/table">
            <a:tbl>
              <a:tblPr/>
              <a:tblGrid>
                <a:gridCol w="1887480"/>
                <a:gridCol w="1346400"/>
                <a:gridCol w="1546200"/>
                <a:gridCol w="1461960"/>
                <a:gridCol w="1533600"/>
              </a:tblGrid>
              <a:tr h="6480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о для в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аживающие 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ая краска фирмы  Эстель 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 аммо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4 месте по соста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расители их нет, а только в маске и бальза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3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-уход DE LUXE фирмы Эс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 аммо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месте п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асло авокадо, касторовое масло и пантенол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асло орехов мак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итание и увлаж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Лечение и питание поврежденных воло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1" name="Рисунок 1" descr="1371726664_korobka.jpg"/>
          <p:cNvPicPr/>
          <p:nvPr/>
        </p:nvPicPr>
        <p:blipFill>
          <a:blip r:embed="rId1"/>
          <a:srcRect l="37407" t="4977" r="0" b="4202"/>
          <a:stretch/>
        </p:blipFill>
        <p:spPr>
          <a:xfrm>
            <a:off x="2771640" y="1916280"/>
            <a:ext cx="866880" cy="18730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3" descr="http://karamel-shop.ru/data/big/deluxe_box_b.jpg"/>
          <p:cNvPicPr/>
          <p:nvPr/>
        </p:nvPicPr>
        <p:blipFill>
          <a:blip r:embed="rId2"/>
          <a:stretch/>
        </p:blipFill>
        <p:spPr>
          <a:xfrm>
            <a:off x="2843280" y="4221000"/>
            <a:ext cx="576360" cy="19386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"/>
          <p:cNvSpPr/>
          <p:nvPr/>
        </p:nvSpPr>
        <p:spPr>
          <a:xfrm>
            <a:off x="1042920" y="47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состава красителей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гири.JPG"/>
          <p:cNvPicPr/>
          <p:nvPr/>
        </p:nvPicPr>
        <p:blipFill>
          <a:blip r:embed="rId1"/>
          <a:stretch/>
        </p:blipFill>
        <p:spPr>
          <a:xfrm>
            <a:off x="2340000" y="1341360"/>
            <a:ext cx="3600360" cy="1854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2195640" y="620640"/>
            <a:ext cx="57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Тест на прочность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6" name="Рисунок 3" descr="290312 148.jpg"/>
          <p:cNvPicPr/>
          <p:nvPr/>
        </p:nvPicPr>
        <p:blipFill>
          <a:blip r:embed="rId2"/>
          <a:stretch/>
        </p:blipFill>
        <p:spPr>
          <a:xfrm>
            <a:off x="539640" y="3645000"/>
            <a:ext cx="3286080" cy="25034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290312 139.jpg"/>
          <p:cNvPicPr/>
          <p:nvPr/>
        </p:nvPicPr>
        <p:blipFill>
          <a:blip r:embed="rId3"/>
          <a:stretch/>
        </p:blipFill>
        <p:spPr>
          <a:xfrm>
            <a:off x="5003640" y="3716280"/>
            <a:ext cx="3097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39640" y="1557360"/>
          <a:ext cx="8209080" cy="4846680"/>
        </p:xfrm>
        <a:graphic>
          <a:graphicData uri="http://schemas.openxmlformats.org/drawingml/2006/table">
            <a:tbl>
              <a:tblPr/>
              <a:tblGrid>
                <a:gridCol w="836640"/>
                <a:gridCol w="1792440"/>
                <a:gridCol w="2149560"/>
                <a:gridCol w="1428480"/>
                <a:gridCol w="2001960"/>
              </a:tblGrid>
              <a:tr h="6397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ди в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мые процед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а про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я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ой краситель  фирмы  Эстель 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 прокрасились равномерно,  на тон светлее желаемого 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 не выдерживает гирю весом в 15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я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-уход DELUXE фирмы Эстель и 6% оксиг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 прокрасились равномерно, цвет совпал с желаемым результато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7840"/>
                          <a:tab algn="l" pos="2697120"/>
                          <a:tab algn="l" pos="3146400"/>
                          <a:tab algn="l" pos="3595680"/>
                          <a:tab algn="l" pos="4044960"/>
                          <a:tab algn="l" pos="4495680"/>
                          <a:tab algn="l" pos="4944960"/>
                          <a:tab algn="l" pos="5394240"/>
                          <a:tab algn="l" pos="5843520"/>
                          <a:tab algn="l" pos="6292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 выдерживает гирю весом в 15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Рисунок 4" descr="http://im2-tub-ru.yandex.net/i?id=de9fb07584f67e19e02254025046c67c-132-144&amp;n=21"/>
          <p:cNvPicPr/>
          <p:nvPr/>
        </p:nvPicPr>
        <p:blipFill>
          <a:blip r:embed="rId1"/>
          <a:stretch/>
        </p:blipFill>
        <p:spPr>
          <a:xfrm>
            <a:off x="1650960" y="450864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5" descr="Краски для волос"/>
          <p:cNvPicPr/>
          <p:nvPr/>
        </p:nvPicPr>
        <p:blipFill>
          <a:blip r:embed="rId2"/>
          <a:stretch/>
        </p:blipFill>
        <p:spPr>
          <a:xfrm rot="9846000">
            <a:off x="1669680" y="2544480"/>
            <a:ext cx="1266840" cy="13716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1332000" y="6206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после окрашиван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http://karamel-shop.ru/data/big/deluxe_box_b.jpg"/>
          <p:cNvPicPr/>
          <p:nvPr/>
        </p:nvPicPr>
        <p:blipFill>
          <a:blip r:embed="rId1"/>
          <a:stretch/>
        </p:blipFill>
        <p:spPr>
          <a:xfrm>
            <a:off x="6300720" y="1700280"/>
            <a:ext cx="1511280" cy="47530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Выбираем краситель для волос. Бытовой или профессиональный?"/>
          <p:cNvPicPr/>
          <p:nvPr/>
        </p:nvPicPr>
        <p:blipFill>
          <a:blip r:embed="rId2"/>
          <a:stretch/>
        </p:blipFill>
        <p:spPr>
          <a:xfrm>
            <a:off x="2627280" y="3213000"/>
            <a:ext cx="3421080" cy="3367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http://im4-tub-ru.yandex.net/i?id=113826314-56-72&amp;n=21"/>
          <p:cNvPicPr/>
          <p:nvPr/>
        </p:nvPicPr>
        <p:blipFill>
          <a:blip r:embed="rId3"/>
          <a:stretch/>
        </p:blipFill>
        <p:spPr>
          <a:xfrm>
            <a:off x="324000" y="1125360"/>
            <a:ext cx="357156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1" descr="Кератиновое выпрямление волос - Саратов - Косметические услуги"/>
          <p:cNvPicPr/>
          <p:nvPr/>
        </p:nvPicPr>
        <p:blipFill>
          <a:blip r:embed="rId1"/>
          <a:srcRect l="46169" t="0" r="0" b="0"/>
          <a:stretch/>
        </p:blipFill>
        <p:spPr>
          <a:xfrm>
            <a:off x="971640" y="2421000"/>
            <a:ext cx="2809800" cy="39718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468360" y="549360"/>
            <a:ext cx="830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Окрашивание клиента  профессиональным красителем фирмы Эстель 6/43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4284720" y="2708280"/>
            <a:ext cx="43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6/47+6% оксиген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Пропорции смешивания  1:1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ремя выдержки 35 мин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2" descr="http://zhkr.ru/wp-content/uploads/2012/03/uvlazhnenie-volos.jpg"/>
          <p:cNvPicPr/>
          <p:nvPr/>
        </p:nvPicPr>
        <p:blipFill>
          <a:blip r:embed="rId1"/>
          <a:stretch/>
        </p:blipFill>
        <p:spPr>
          <a:xfrm>
            <a:off x="4067280" y="3716280"/>
            <a:ext cx="5116320" cy="3141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68360" y="1483920"/>
            <a:ext cx="8136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фессиональные краски не только гарантируют красивый и стойкий цвет при минимальном содержании аммиака, но и максимально сохраняют структуру волос (формула красоты волос проста: чем меньше аммиака в красителе, тем лучше их качество после окрашивания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10920" y="126792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Times New Roman"/>
              </a:rPr>
              <a:t>По результатам статистики около 80% женщин во всем мире регулярно красят волосы. Из них почти 60%, экономя время или деньги,  делают это дома, используя бытовые красители . В результате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Gungsuh"/>
              </a:rPr>
              <a:t>волосы становятся сухими, ломкими, секутся и выпадают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расот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олос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 — 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 не только ежедневный уход, но и правильное окрашив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ts val="142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ктуальность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Выяснить влияние бытовых и профессиональных красителей на структуру волос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Цель исследования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360" y="1700280"/>
            <a:ext cx="7812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добрать бытовые и профессиональные красители  и исследовать их  состав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Подготовить две пряди волос с натуральной базой для исследования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ыполнить окрашивание прядей бытовыми и профессиональными красителям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ыяснить воздействие исследуемых  красителей   на структуру волос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Доказать, действительно ли профессиональные красители при правильном окрашивании не портят структуру волос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ыполнить окрашивание  волос клиент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чи работ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Если окрашивать волосы бытовыми красителями  структура волос ухудшается,  а при правильном окрашивании  профессиональными красителями структура волос максимально сохраняетс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Гипотез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Бытовые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рофессиональные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ва класса красителей для вол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Рисунок 5" descr="1371726664_korobka.jpg"/>
          <p:cNvPicPr/>
          <p:nvPr/>
        </p:nvPicPr>
        <p:blipFill>
          <a:blip r:embed="rId1"/>
          <a:srcRect l="37407" t="4977" r="0" b="0"/>
          <a:stretch/>
        </p:blipFill>
        <p:spPr>
          <a:xfrm>
            <a:off x="4495680" y="1916280"/>
            <a:ext cx="978120" cy="1873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4" descr="http://gazeta-p.ru/upload/articles_img/fbf196bc5a91d0141d8497f9995ac99d.jpg"/>
          <p:cNvPicPr/>
          <p:nvPr/>
        </p:nvPicPr>
        <p:blipFill>
          <a:blip r:embed="rId2"/>
          <a:stretch/>
        </p:blipFill>
        <p:spPr>
          <a:xfrm>
            <a:off x="5867280" y="1916280"/>
            <a:ext cx="1152720" cy="17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После окрашивания"/>
          <p:cNvPicPr/>
          <p:nvPr/>
        </p:nvPicPr>
        <p:blipFill>
          <a:blip r:embed="rId1"/>
          <a:srcRect l="0" t="29625" r="50060" b="0"/>
          <a:stretch/>
        </p:blipFill>
        <p:spPr>
          <a:xfrm>
            <a:off x="1071720" y="257040"/>
            <a:ext cx="67150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www.e-beauty.lv/fotos/images/Klienti/Nanomax/raksts-mati/2-bojat%20mati.jpg"/>
          <p:cNvPicPr/>
          <p:nvPr/>
        </p:nvPicPr>
        <p:blipFill>
          <a:blip r:embed="rId1"/>
          <a:stretch/>
        </p:blipFill>
        <p:spPr>
          <a:xfrm>
            <a:off x="642960" y="1554120"/>
            <a:ext cx="7072200" cy="5303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Волосы после окрашивания бытовыми красителям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ытовые металлсодержащие красител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4" descr="http://gazeta-p.ru/upload/articles_img/fbf196bc5a91d0141d8497f9995ac99d.jpg"/>
          <p:cNvPicPr/>
          <p:nvPr/>
        </p:nvPicPr>
        <p:blipFill>
          <a:blip r:embed="rId1"/>
          <a:stretch/>
        </p:blipFill>
        <p:spPr>
          <a:xfrm>
            <a:off x="395280" y="2492280"/>
            <a:ext cx="2179800" cy="3311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http://lessera.ru/wp-content/uploads/2012/08/rocollor-238x300.jpg">
            <a:hlinkClick r:id="rId2"/>
          </p:cNvPr>
          <p:cNvPicPr/>
          <p:nvPr/>
        </p:nvPicPr>
        <p:blipFill>
          <a:blip r:embed="rId3"/>
          <a:srcRect l="22233" t="20156" r="28585" b="18896"/>
          <a:stretch/>
        </p:blipFill>
        <p:spPr>
          <a:xfrm>
            <a:off x="6443640" y="2565360"/>
            <a:ext cx="2089080" cy="316728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6" descr="http://lessera.ru/wp-content/uploads/2012/08/kisa_vor-300x21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492280"/>
            <a:ext cx="33051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5:08:41Z</dcterms:created>
  <dc:creator>Family</dc:creator>
  <dc:description/>
  <dc:language>en-US</dc:language>
  <cp:lastModifiedBy>Family</cp:lastModifiedBy>
  <dcterms:modified xsi:type="dcterms:W3CDTF">2015-02-25T16:22:20Z</dcterms:modified>
  <cp:revision>73</cp:revision>
  <dc:subject/>
  <dc:title>Исследовательская работа на тему: Влияние бытовых и профессиональных красителей на структуру волос</dc:title>
</cp:coreProperties>
</file>