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294-3F8D-451F-AD19-895D9E95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0AE-0DFA-425D-B17E-14BB3B19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4A4-7E99-4E1A-BAC0-0388D664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228-438A-4D40-9AE2-F5EFE2FA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334F-EE46-4669-AD13-C08AE786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E925-6653-4015-B3C8-DDCEE981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E597-C1BD-43B3-8EBF-C227A634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4E2B-5040-4F8C-B544-F301CC2C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28BB-4281-482D-8C1C-778F7EF9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DCBE-9198-404B-8D85-AB7E6169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6D20-4621-4270-9499-0EDB7394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B83-5D4C-4317-8608-39CA427C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98BB-F85C-4557-AC8F-74E96267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8359-95B7-4A1F-ABB8-48FED156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9BFE-1988-4078-B77F-404A27D9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42B3-CF20-4956-A2B9-2DF5BF85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DBEF-792C-4283-9D15-D61C541B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D4214-7D0D-4750-AFA6-1307C4B3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26EEB-E03D-4543-AF54-35B0A67C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27F2B-8272-440C-9CB8-DC317FE6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4DF4D-A638-4157-B996-FF3A003D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CE302-01D6-45E8-AD96-6645B119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0FE-3A47-4167-95FF-4E8291F4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5D46E-6175-4372-98B9-BE7F950E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78136-0E68-467A-B85F-E27AE7BE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961DF-3BE9-42BE-AC83-0FEECDC0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A0AD3-A455-4B06-99A1-BE14E788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3A80A-1155-42FD-9F7A-D17F7CFF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68A0D-87D4-4ACA-95C6-CD8C5EDE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1634A-1102-4343-8F51-F79279B5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24D0F-0196-4C81-91D5-EFA5FC1B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BA86E-C417-4348-9037-384C9555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F7470-C416-4CEE-9715-71938C93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5D9-E8CE-4575-87F4-1A9FCBDF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79C82-9347-4229-8D3E-78D563A6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7F903-C407-4BFB-B10C-E8E4F806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D541-09A3-4A45-A55A-E393142D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89165-4583-4276-A5D7-9DD17A4D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B4C39-13F5-49FD-87D6-789AED07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57CF3-BD8A-454A-BCDE-50E78E4A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AFB37-0E07-4E22-B04D-9A229AD8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11796-84F0-460C-9CE1-5B30E34B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2669D-99C8-4C9B-9F20-F47503C4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8D9-B1EA-44E8-A3A2-86FEB543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4F28-6913-4BCF-801A-98DA67F9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192-39CD-43D9-87FF-728F230D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919D-9933-4528-8BFD-7C2119DB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CB1-DD3F-4E8B-9DE2-4EA286CF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8BDF-CA68-42A5-AF42-A18546BB4A7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B868-63B1-4417-B784-DD8F44A0872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E118-A294-4199-BC8B-45ADCE67BD3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5D5C-879E-41EA-BB8D-C023F2F513A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XIV_&#1074;&#1077;&#1082;" TargetMode="External"/><Relationship Id="rId2" Type="http://schemas.openxmlformats.org/officeDocument/2006/relationships/hyperlink" Target="https://ru.wikipedia.org/wiki/&#1059;&#1095;&#1072;_(&#1087;&#1088;&#1080;&#1090;&#1086;&#1082;_&#1050;&#1083;&#1103;&#1079;&#1100;&#1084;&#1099;)" TargetMode="External"/><Relationship Id="rId3" Type="http://schemas.openxmlformats.org/officeDocument/2006/relationships/hyperlink" Target="https://ru.wikipedia.org/wiki/&#1055;&#1091;&#1096;&#1082;&#1080;&#1085;,_&#1040;&#1083;&#1077;&#1082;&#1089;&#1072;&#1085;&#1076;&#1088;_&#1057;&#1077;&#1088;&#1075;&#1077;&#1077;&#1074;&#1080;&#1095;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1499_&#1075;&#1086;&#1076;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91;&#1082;&#1085;&#1086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Trebuchet MS"/>
              </a:rPr>
              <a:t>Пушкино</a:t>
            </a:r>
            <a:br>
              <a:rPr sz="9600"/>
            </a:br>
            <a:r>
              <a:rPr b="1" i="1" lang="ru-RU" sz="9600" spc="-1" strike="noStrike">
                <a:solidFill>
                  <a:srgbClr val="ffffff"/>
                </a:solidFill>
                <a:latin typeface="Trebuchet MS"/>
              </a:rPr>
              <a:t>90 лет</a:t>
            </a:r>
            <a:endParaRPr b="0" lang="en-US" sz="9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16" name="Picture 3" descr="C:\Users\Dimon\Desktop\DSC_8517%20kopiya.jpg"/>
          <p:cNvPicPr/>
          <p:nvPr/>
        </p:nvPicPr>
        <p:blipFill>
          <a:blip r:embed="rId1"/>
          <a:stretch/>
        </p:blipFill>
        <p:spPr>
          <a:xfrm>
            <a:off x="0" y="3714840"/>
            <a:ext cx="9144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стор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звание появилось во второй половине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XIV век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когда местностью по реке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Уч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ладел боярин Григорий Александрович Морхинин, по прозвищу Пушка (ум. 1380) — основатель боярского рода Пушкиных (к которому принадлежал поэт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Александр Сергеевич Пушкин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3 сентября 2010 года был установлен памятник Пушк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0" name="Picture 2" descr="C:\Users\Dimon\Desktop\18.jpg"/>
          <p:cNvPicPr/>
          <p:nvPr/>
        </p:nvPicPr>
        <p:blipFill>
          <a:blip r:embed="rId1"/>
          <a:stretch/>
        </p:blipFill>
        <p:spPr>
          <a:xfrm>
            <a:off x="1285920" y="2357280"/>
            <a:ext cx="6491160" cy="43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ервое документальное упоминание о селе Пушкино относится к </a:t>
            </a:r>
            <a:r>
              <a:rPr b="0" lang="ru-RU" sz="36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1499 году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Picture 2" descr="C:\Users\Dimon\Desktop\0_fb86f_212d44fa_XXXL.png"/>
          <p:cNvPicPr/>
          <p:nvPr/>
        </p:nvPicPr>
        <p:blipFill>
          <a:blip r:embed="rId2"/>
          <a:stretch/>
        </p:blipFill>
        <p:spPr>
          <a:xfrm>
            <a:off x="2216160" y="2533680"/>
            <a:ext cx="6927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Во второй половине XVIII века начал развиваться ткацкий промысел: производство шерстяного </a:t>
            </a:r>
            <a:r>
              <a:rPr b="0" lang="ru-RU" sz="36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сукна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, каразеи, кушаков, шёлковых платков.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4" name="Picture 2" descr="C:\Users\Dimon\Desktop\fabr%20Armand-1.jpg"/>
          <p:cNvPicPr/>
          <p:nvPr/>
        </p:nvPicPr>
        <p:blipFill>
          <a:blip r:embed="rId2"/>
          <a:stretch/>
        </p:blipFill>
        <p:spPr>
          <a:xfrm>
            <a:off x="500040" y="3000240"/>
            <a:ext cx="86439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Picture 2" descr="C:\Users\Dimon\Desktop\30915308.jpg"/>
          <p:cNvPicPr/>
          <p:nvPr/>
        </p:nvPicPr>
        <p:blipFill>
          <a:blip r:embed="rId1"/>
          <a:stretch/>
        </p:blipFill>
        <p:spPr>
          <a:xfrm>
            <a:off x="428760" y="571680"/>
            <a:ext cx="8358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17 августа 1925 года Пушкино получает статус город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9" name="Picture 2" descr="C:\Users\Dimon\Desktop\90px-Gerb_Pushkino_(MO)_2010.png"/>
          <p:cNvPicPr/>
          <p:nvPr/>
        </p:nvPicPr>
        <p:blipFill>
          <a:blip r:embed="rId1"/>
          <a:stretch/>
        </p:blipFill>
        <p:spPr>
          <a:xfrm>
            <a:off x="3857760" y="2214720"/>
            <a:ext cx="52862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В том же году из Москвы в Пушкино прошёл первый электропоезд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2" descr="C:\Users\Dimon\Desktop\1326957335aad.jpg"/>
          <p:cNvPicPr/>
          <p:nvPr/>
        </p:nvPicPr>
        <p:blipFill>
          <a:blip r:embed="rId1"/>
          <a:stretch/>
        </p:blipFill>
        <p:spPr>
          <a:xfrm>
            <a:off x="1233360" y="2249640"/>
            <a:ext cx="66772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пользованные источники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far-way.inf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s://ru.wikipedia.org/wiki/%D0%9F%D1%83%D1%88%D0%BA%D0%B8%D0%BD%D0%BE#cite_note-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14:13:40Z</dcterms:created>
  <dc:creator>Ira</dc:creator>
  <dc:description/>
  <dc:language>en-US</dc:language>
  <cp:lastModifiedBy>Ira</cp:lastModifiedBy>
  <dcterms:modified xsi:type="dcterms:W3CDTF">2015-10-17T12:46:46Z</dcterms:modified>
  <cp:revision>3</cp:revision>
  <dc:subject/>
  <dc:title>Пушкино 90 лет</dc:title>
</cp:coreProperties>
</file>