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69B-670A-4879-8B37-CC0E79CE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292D-AD29-48FB-9CE4-8834B6A9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7C5-338C-4DB2-B422-DEBB0A7E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94F-81CF-4182-9B03-DCFA575E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17ED-F575-4118-846D-14F1F9C0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9266-626B-4E5F-BDD9-796FD915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ED6F-8291-458F-AF19-FCD9D508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3324-44BB-4C5E-B242-249459BF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28F5-A715-4F27-9E63-97689CF7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3293-5CEB-44D3-87B4-3E36C3B0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1C70-10C0-49A6-BA26-926668BF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172-CD98-4DB6-803C-2244855E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0439-B318-48A6-A229-DA6F17A5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0D3C-104F-4113-AED3-17D24109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6BC8-CF11-4495-AF5B-282AD009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C46C-974E-4D99-A36D-B5D3727B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E737-6BE4-4A12-8C83-8061EF8B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740E4-0EFF-44B3-8315-A9397A5A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9B2FF-6522-4D2F-8DE3-C9CD2311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5DCC5-29D6-4AA9-A8B2-0BAB447D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4955B-8FE4-4040-B43D-F11D0EF9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5B8C4-3189-4573-8955-837CDDD0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A9B-3350-4AA9-B903-57D64C6D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34B55-DCF7-468E-9FF5-072E8B8A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0D72C-0FAF-444C-B886-25241F26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32360-4570-4E72-8FB4-17B90D93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40BE4-5703-4CE1-99A4-B6865BD0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E2FF6-8E4A-44D4-A0C5-CC1E1770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4242B-0E2D-43A4-A87B-C9B3A75E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5D78D-E99E-4F44-868C-E24C2A5E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06A81-3A62-448B-BD4B-D9629A5E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17BBE-60CF-4143-8A19-C1358957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DFD92-B1EF-42C8-9E3D-B3761EC3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A34-3A3D-4DC2-B82A-67F5153F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89B88-C7A4-46E8-B2CC-13F68F92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CD5A1-03E7-4EF1-862B-AA62A8FF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82128-FD4A-4025-A4CB-8244A6D3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DB10-FC3F-4AD4-88AB-385C54F9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F8576-B423-4908-9523-E04BA967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9D3C-E739-406B-B1AF-B888F8BC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B448-F59B-4E8E-BE06-EEBBF47F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9E9CB-2767-40AA-9794-96389077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939DC-3D8A-4C8C-9908-918EFC88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621-389A-4012-9470-015C3591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A29-3F21-4607-B476-1D3F036A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6B1-A40A-4F5F-93AB-CFD0DB16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2B6-1256-4139-ACE6-8E679D79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519-57C3-40D8-8DEE-59E6581D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5E6F-FE8D-4378-B0ED-872CE35103D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7994-DC32-4228-88FD-77B40437B86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B211-9253-4196-93BB-89149684EAA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5F5A-E8D9-47C1-A1BD-AF6E529FA3F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XIV_&#1074;&#1077;&#1082;" TargetMode="External"/><Relationship Id="rId2" Type="http://schemas.openxmlformats.org/officeDocument/2006/relationships/hyperlink" Target="https://ru.wikipedia.org/wiki/&#1059;&#1095;&#1072;_(&#1087;&#1088;&#1080;&#1090;&#1086;&#1082;_&#1050;&#1083;&#1103;&#1079;&#1100;&#1084;&#1099;)" TargetMode="External"/><Relationship Id="rId3" Type="http://schemas.openxmlformats.org/officeDocument/2006/relationships/hyperlink" Target="https://ru.wikipedia.org/wiki/&#1055;&#1091;&#1096;&#1082;&#1080;&#1085;,_&#1040;&#1083;&#1077;&#1082;&#1089;&#1072;&#1085;&#1076;&#1088;_&#1057;&#1077;&#1088;&#1075;&#1077;&#1077;&#1074;&#1080;&#1095;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1499_&#1075;&#1086;&#1076;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91;&#1082;&#1085;&#1086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Trebuchet MS"/>
              </a:rPr>
              <a:t>Пушкино</a:t>
            </a:r>
            <a:br>
              <a:rPr sz="9600"/>
            </a:br>
            <a:r>
              <a:rPr b="1" i="1" lang="ru-RU" sz="9600" spc="-1" strike="noStrike">
                <a:solidFill>
                  <a:srgbClr val="ffffff"/>
                </a:solidFill>
                <a:latin typeface="Trebuchet MS"/>
              </a:rPr>
              <a:t>90 лет</a:t>
            </a:r>
            <a:endParaRPr b="0" lang="en-US" sz="9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16" name="Picture 3" descr="C:\Users\Dimon\Desktop\DSC_8517%20kopiya.jpg"/>
          <p:cNvPicPr/>
          <p:nvPr/>
        </p:nvPicPr>
        <p:blipFill>
          <a:blip r:embed="rId1"/>
          <a:stretch/>
        </p:blipFill>
        <p:spPr>
          <a:xfrm>
            <a:off x="0" y="3714840"/>
            <a:ext cx="9144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тор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звание появилось во второй половине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XIV век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гда местностью по реке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Уч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ладел боярин Григорий Александрович Морхинин, по прозвищу Пушка (ум. 1380) — основатель боярского рода Пушкиных (к которому принадлежал поэт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Александр Сергеевич Пушкин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3 сентября 2010 года был установлен памятник Пушк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0" name="Picture 2" descr="C:\Users\Dimon\Desktop\18.jpg"/>
          <p:cNvPicPr/>
          <p:nvPr/>
        </p:nvPicPr>
        <p:blipFill>
          <a:blip r:embed="rId1"/>
          <a:stretch/>
        </p:blipFill>
        <p:spPr>
          <a:xfrm>
            <a:off x="1285920" y="2357280"/>
            <a:ext cx="6491160" cy="43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ервое документальное упоминание о селе Пушкино относится к </a:t>
            </a:r>
            <a:r>
              <a:rPr b="0" lang="ru-RU" sz="36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1499 год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Picture 2" descr="C:\Users\Dimon\Desktop\0_fb86f_212d44fa_XXXL.png"/>
          <p:cNvPicPr/>
          <p:nvPr/>
        </p:nvPicPr>
        <p:blipFill>
          <a:blip r:embed="rId2"/>
          <a:stretch/>
        </p:blipFill>
        <p:spPr>
          <a:xfrm>
            <a:off x="2216160" y="2533680"/>
            <a:ext cx="6927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Во второй половине XVIII века начал развиваться ткацкий промысел: производство шерстяного </a:t>
            </a:r>
            <a:r>
              <a:rPr b="0" lang="ru-RU" sz="36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сукна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, каразеи, кушаков, шёлковых платков.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4" name="Picture 2" descr="C:\Users\Dimon\Desktop\fabr%20Armand-1.jpg"/>
          <p:cNvPicPr/>
          <p:nvPr/>
        </p:nvPicPr>
        <p:blipFill>
          <a:blip r:embed="rId2"/>
          <a:stretch/>
        </p:blipFill>
        <p:spPr>
          <a:xfrm>
            <a:off x="500040" y="3000240"/>
            <a:ext cx="86439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Picture 2" descr="C:\Users\Dimon\Desktop\30915308.jpg"/>
          <p:cNvPicPr/>
          <p:nvPr/>
        </p:nvPicPr>
        <p:blipFill>
          <a:blip r:embed="rId1"/>
          <a:stretch/>
        </p:blipFill>
        <p:spPr>
          <a:xfrm>
            <a:off x="428760" y="57168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17 августа 1925 года Пушкино получает статус город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Picture 2" descr="C:\Users\Dimon\Desktop\90px-Gerb_Pushkino_(MO)_2010.png"/>
          <p:cNvPicPr/>
          <p:nvPr/>
        </p:nvPicPr>
        <p:blipFill>
          <a:blip r:embed="rId1"/>
          <a:stretch/>
        </p:blipFill>
        <p:spPr>
          <a:xfrm>
            <a:off x="3857760" y="2214720"/>
            <a:ext cx="52862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В том же году из Москвы в Пушкино прошёл первый электропоезд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2" descr="C:\Users\Dimon\Desktop\1326957335aad.jpg"/>
          <p:cNvPicPr/>
          <p:nvPr/>
        </p:nvPicPr>
        <p:blipFill>
          <a:blip r:embed="rId1"/>
          <a:stretch/>
        </p:blipFill>
        <p:spPr>
          <a:xfrm>
            <a:off x="1233360" y="2249640"/>
            <a:ext cx="66772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пользованные источники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far-way.inf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s://ru.wikipedia.org/wiki/%D0%9F%D1%83%D1%88%D0%BA%D0%B8%D0%BD%D0%BE#cite_note-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14:13:40Z</dcterms:created>
  <dc:creator>Ira</dc:creator>
  <dc:description/>
  <dc:language>en-US</dc:language>
  <cp:lastModifiedBy>Ira</cp:lastModifiedBy>
  <dcterms:modified xsi:type="dcterms:W3CDTF">2015-10-17T12:46:46Z</dcterms:modified>
  <cp:revision>3</cp:revision>
  <dc:subject/>
  <dc:title>Пушкино 90 лет</dc:title>
</cp:coreProperties>
</file>