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C08-2A7E-422F-AE59-2BE1D47E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C92-641F-494F-B89A-CA9C3E7B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311-3B09-4228-A1D8-B06EE446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CA6-712D-45D3-ACA8-91F4A15C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A9E-7E94-4E10-B611-F55027B1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682-1C88-4424-A646-5C4C1285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FFB-AD04-4945-875B-69547E0C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9E6-4CDC-4019-869C-E772B70C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0B0-89F9-42FB-BC67-B92A8C0D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AAC-ECC3-412B-A175-7CA1C7E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2A3-C9C3-4BC1-AFC2-62C20D55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751-A99B-42DE-A282-E628CD0C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8160-16B2-4584-841B-89349A55B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95280" y="228600"/>
            <a:ext cx="6096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 в прошл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286000" y="4038480"/>
            <a:ext cx="426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ости к самовару</a:t>
            </a:r>
            <a:endParaRPr b="0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5ff95e3bba349f3ab33af55f360e8591bc5f6c122109919"/>
          <p:cNvPicPr/>
          <p:nvPr/>
        </p:nvPicPr>
        <p:blipFill>
          <a:blip r:embed="rId1"/>
          <a:stretch/>
        </p:blipFill>
        <p:spPr>
          <a:xfrm>
            <a:off x="2819520" y="1676520"/>
            <a:ext cx="3276360" cy="3898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533520" y="472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ЛАЙД «Красавица у самова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13e0_3997"/>
          <p:cNvPicPr/>
          <p:nvPr/>
        </p:nvPicPr>
        <p:blipFill>
          <a:blip r:embed="rId1"/>
          <a:stretch/>
        </p:blipFill>
        <p:spPr>
          <a:xfrm>
            <a:off x="5410080" y="1905120"/>
            <a:ext cx="2212920" cy="244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9639220"/>
          <p:cNvPicPr/>
          <p:nvPr/>
        </p:nvPicPr>
        <p:blipFill>
          <a:blip r:embed="rId2"/>
          <a:stretch/>
        </p:blipFill>
        <p:spPr>
          <a:xfrm>
            <a:off x="838080" y="1371600"/>
            <a:ext cx="39769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tmp1083-20"/>
          <p:cNvPicPr/>
          <p:nvPr/>
        </p:nvPicPr>
        <p:blipFill>
          <a:blip r:embed="rId1"/>
          <a:stretch/>
        </p:blipFill>
        <p:spPr>
          <a:xfrm>
            <a:off x="3051000" y="1752480"/>
            <a:ext cx="2995920" cy="441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unnamed"/>
          <p:cNvPicPr/>
          <p:nvPr/>
        </p:nvPicPr>
        <p:blipFill>
          <a:blip r:embed="rId2"/>
          <a:stretch/>
        </p:blipFill>
        <p:spPr>
          <a:xfrm>
            <a:off x="2514600" y="22860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1609 razv"/>
          <p:cNvPicPr/>
          <p:nvPr/>
        </p:nvPicPr>
        <p:blipFill>
          <a:blip r:embed="rId3"/>
          <a:stretch/>
        </p:blipFill>
        <p:spPr>
          <a:xfrm>
            <a:off x="2057400" y="2209680"/>
            <a:ext cx="5410080" cy="3586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33520" y="198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ЛАЙД-Ш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т сказки к сказ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17T19:07:1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