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C57-0504-499A-95DF-7F3EB122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B3C-FFCE-4E92-BF33-98A01D3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010-1122-4B69-B0CD-96F5C040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307-5DD7-47B8-B315-9A9E77B5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06C-3C6F-4499-AC3C-14F37D1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92F-6C11-41FC-A59D-30F23EA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D48-0686-4BE4-94D3-C0C713F2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54F-92C3-40F8-9CBF-D04BA57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3F9-D3E7-4BAB-AB5D-2C2FF9F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D21-8F82-46A4-813E-46AFC41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78F-B68C-405E-98DB-DB86488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EB0-CADD-48C7-B04C-7C34186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04A-B6E6-4EE8-9259-F82896634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95280" y="228600"/>
            <a:ext cx="6096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в прошл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286000" y="403848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сти к самовару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5ff95e3bba349f3ab33af55f360e8591bc5f6c122109919"/>
          <p:cNvPicPr/>
          <p:nvPr/>
        </p:nvPicPr>
        <p:blipFill>
          <a:blip r:embed="rId1"/>
          <a:stretch/>
        </p:blipFill>
        <p:spPr>
          <a:xfrm>
            <a:off x="2819520" y="1676520"/>
            <a:ext cx="3276360" cy="3898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533520" y="472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ЛАЙД «Красавица у самова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3e0_3997"/>
          <p:cNvPicPr/>
          <p:nvPr/>
        </p:nvPicPr>
        <p:blipFill>
          <a:blip r:embed="rId1"/>
          <a:stretch/>
        </p:blipFill>
        <p:spPr>
          <a:xfrm>
            <a:off x="5410080" y="1905120"/>
            <a:ext cx="2212920" cy="244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9639220"/>
          <p:cNvPicPr/>
          <p:nvPr/>
        </p:nvPicPr>
        <p:blipFill>
          <a:blip r:embed="rId2"/>
          <a:stretch/>
        </p:blipFill>
        <p:spPr>
          <a:xfrm>
            <a:off x="838080" y="1371600"/>
            <a:ext cx="39769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tmp1083-20"/>
          <p:cNvPicPr/>
          <p:nvPr/>
        </p:nvPicPr>
        <p:blipFill>
          <a:blip r:embed="rId1"/>
          <a:stretch/>
        </p:blipFill>
        <p:spPr>
          <a:xfrm>
            <a:off x="3051000" y="1752480"/>
            <a:ext cx="2995920" cy="441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unnamed"/>
          <p:cNvPicPr/>
          <p:nvPr/>
        </p:nvPicPr>
        <p:blipFill>
          <a:blip r:embed="rId2"/>
          <a:stretch/>
        </p:blipFill>
        <p:spPr>
          <a:xfrm>
            <a:off x="2514600" y="2286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1609 razv"/>
          <p:cNvPicPr/>
          <p:nvPr/>
        </p:nvPicPr>
        <p:blipFill>
          <a:blip r:embed="rId3"/>
          <a:stretch/>
        </p:blipFill>
        <p:spPr>
          <a:xfrm>
            <a:off x="2057400" y="2209680"/>
            <a:ext cx="5410080" cy="3586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520" y="198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ЛАЙД-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т сказки к сказ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7T19:07:1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