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DA1-FD42-4977-9F92-5A7E05CF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9F8-BBFF-44AD-B93D-280590B1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94E-ECDF-44BA-93ED-82693123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AB1-5157-41B9-8B53-76A94647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A7118-8D25-421B-B53F-55952246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7C3A6-00A9-4A0D-B36D-562E7DCB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AD67C-0C20-4B67-92C1-34665B44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A4191-4513-466D-A69D-49716201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C7C14-950A-4659-8D7A-042FF4A0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49F67-EA18-4ECE-9237-75CB5AB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2CFAA-9447-4942-9BA0-2F7BB50B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195-B505-434F-991A-26DBFE62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09059-4C60-4A5A-BEFF-EAB3A2B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9441E-65A3-4DB8-8298-0AFCE826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D932B-0310-4301-A413-5D307504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2D4BA-4E1A-438C-9A29-C424D1E5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05511-E271-46D3-939F-442415EA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9A2F-771A-4025-8D1F-8AC02221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665B-4686-4C69-88CA-98838AED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891A-AD57-4CB5-8041-6F7629F8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D1A97-2D49-478A-B081-AB6D3BC8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B419-2671-4926-BB36-F86EA6FF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A04-28DB-4A55-AA2B-6242EC59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2767B-F3A4-45C3-876B-1A316BB8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3351-A7F1-4132-A298-738E3EFD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4D1C-30CC-45AF-AAF8-506121C6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D3805-5BDB-4702-9A4E-350397D5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469E-46B3-4588-81D4-F017FEAD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232D-2BC3-47EF-ABC9-6F817247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37A6-952C-4786-A564-69F4DE60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9F4-D076-43D5-A21B-BC22D59C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D41-895F-41D0-8824-1CC2151E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E2B-E52A-47EF-BA66-23754E72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F20-A64E-4F1F-ABA0-9B958C94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154-1B78-4FC0-AE54-EBC4E593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A7F-ADFF-49D1-9627-C663D6CA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9BB6-6733-4731-9C18-0071BEDEB9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4174-A572-48C9-BCD1-E05B74A70F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996F-EEB2-4837-A384-2C6BD561B3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95280" y="436572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а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x_311662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Ребенок имеет право пользоваться родным языком, исповедовать религию своих родителей, даже если он принадлежит к этнической, религиозной или языковой группе, которая в данном государстве составляет меньшинство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Ребенок имеет право на отдых и досуг, право участвовать в играх и развлекательных мероприятиях, соответствующих его возрасту, свободно участвовать в культурной жизни и заниматься искусством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. Ребенок имеет право на защиту от экономической эксплуатации и от выполнения любой работы, которая может представлять опасность для его здоровья, либо наносить ущерб физическому, умственному, духовному, моральному и социальному развитию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x_82ec74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2. Ребенок имеет право на защиту от всех форм сексуальной эксплуатации и сексуального совращения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13. Государства-участники обеспечивают, чтобы ни один ребенок не был подвергнут пыткам или другим жестоким, бесчеловечным или унижающим достоинство видам обращения или наказания; ни один ребенок не был лишен свободы незаконным или произвольным образом; каждый лишенный свободы ребенок имел право на незамедлительный доступ к правовой и другой соответствующей помощ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x_32602e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4. Государства обязуются принимать меры для борьбы с незаконным перемещением и невозвращением детей из-за                                                            границы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5. Государства обязуются уважать и соблюдать нормы международного гуманитарного права в отношении детей, попавших в зону вооруженного конфликта. Государства принимают все возможные меры для того, чтобы лица младше 15 лет не принимали прямого участия в военных действия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x_4d171b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9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школьное детство — уникальный период в жизни человека, в процессе которого формируется здоровье, осуществляется развитие личност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 в то же время это период, когда ребенок находится в полной зависимости от окружающих его взрослых — родителей и педагогов. Ненадлежащий уход, поведенческие, социальные и эмоциональные проблемы, возникающие в этом возрасте, приводят к тяжелым последствиям в будущем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 детей и их полноценное развитие во многом определяются эффективностью работы по защите их прав. 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x_be7980b3"/>
          <p:cNvPicPr/>
          <p:nvPr/>
        </p:nvPicPr>
        <p:blipFill>
          <a:blip r:embed="rId1"/>
          <a:stretch/>
        </p:blipFill>
        <p:spPr>
          <a:xfrm>
            <a:off x="0" y="0"/>
            <a:ext cx="9144000" cy="7623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окое обращение с детьм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(child abuse). Одной из глобальных проблем в области защиты прав детей признается проблема жестокого обращения с детьми.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 жестоким обращением понимаются «все формы физического или психического насилия, причинение побоев или нанесение оскорблений, невнимательное, небрежное или жестокое обращение, эксплуатация, включая сексуальные посягательства на ребенка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Насилие имеет четыре основные формы: физическое, сексуальное, психическое, социально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Физическое насилие – преднамеренное нанесение физических повреждений ребенку, причиняющих ущерб его здоровью, нарушающих его развитие и даже лишающих его жизни, а также приобщение ребенка к употреблению наркотиков, алкоголя, отравляющих веществ или «медицинских» препаратов, вызывающих одурманива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Сексуальное насилие – вовлечение ребенка с его согласия и без такового в сексуальные действия, а также в проституцию и порнобизнес. Согласие ребенка на сексуальный контакт не дает основания считать его ненасильственным, поскольку ребенок еще не способен предвидеть все негативные последствия таких действ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Психическое насилие – периодическое, длительное или постоянное психическое воздействие на ребенка, а также предъявление ребенку требований, не соответствующих его возрастным возможностям, тормозящих развитие личности и приводящих к формированию психологических комплек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Социальное насилие – пренебрежение интересами и нуждами ребенка – отсутствие элементарной заботы о ребенке и должного обеспечения его основных потребностей (питание, одежда, жилье, образование, медицинская помощь). В результате нарушается эмоциональное состояние ребенка, появляется угроза здоровью и нормальному развит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x_4269465e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а детей в Ро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32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годня в России права детей регулируются следующими      основными закона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итуция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ейный кодекс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законодательства Российской Федерации об охране здоровья гражд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едеральный закон об образ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об основных гарантиях прав ребенк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о дополнительных гарантиях социальной защиты детей-сирот и детей, оставшихся без попечения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о социальной защите инвалидов в Россий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x_453060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водя итоги, можно отметить, что к началу 21 века в мире сложилась система защиты прав детей на международном уровне, подкрепленная соответствующими правовыми документами. Что касается России, то основной задачей государства является практическое обеспечение принципов Конвенции о правах детей, выполнение рекомендаций ОО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x_c26f1ab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резвычайно важно, чтобы дети росли в атмосфере уважения и не страдали от различных негативных последствий, ведь в слабых руках малыша наше будущее. Поэтому уже сейчас, в трудных социально-экономических условиях, нельзя оставаться равнодушным к бедам маленьких граждан Росс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87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ите дет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- это наше будуще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x_4438f03e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4067280" y="189000"/>
            <a:ext cx="4692600" cy="19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Права Ребенка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</p:spTree>
  </p:cSld>
  <p:transition spd="slow" advTm="3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x_cb732a0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148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Ребенок приходит в этот мир                                            беспомощным и беззащит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Его жизнь, здоровье,                                                               будущее целиком зависят от мира на Земле,                                                                               от родителей, от </a:t>
            </a: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действий</a:t>
            </a: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 других взрослых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 </a:t>
            </a: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Ребенок верит в их любовь и доброе отношение                         и очень надеется на их за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x_8db7a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4652640"/>
            <a:ext cx="8352000" cy="18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А РЕБЕНКА (Rights of children) – это те права и свободы, которыми должен обладать каждый ребенок (ребенком признается каждый человек до 18 лет) вне зависимости от каких-либо различий: расы, пола, языка, религии, места рождения, национального или социального происхождения, имущественного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ловного или иного положе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x_ba8591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62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гармоничного развития личности ребенок должен расти в атмосфере любви и добра, в семье, среди близких и любящих людей. Задача взрослых – помочь ребенку подготовиться к самостоятельной жизни, стать полноправным членом общества, создать ребенку условия для нормального физического и интеллектуального развит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x_146dc77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Rage Italic"/>
              </a:rPr>
              <a:t>Семейный кодекс Российской Федерации предусматривает, что родители не вправе причинять вред физическому и психическому здоровью детей, их нравственному развитию. Способы воспитания должны исключать пренебрежительное, жестокое, грубое, унижающее человеческое достоинство обращение с детьми, их оскорбление или эксплуат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x_ae037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 соответствии основным принципом защиты прав детей :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1. Ребенок имеет право на жизнь и здоровое развитие.        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2.Ребенок имеет право на сохранение своей индивидуальности, включая гражданство, имя и семейные связ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3. Ребенок имеет право на свободу личности, свободу мысли, совести и религии. Это право включает в себя свободу выражать свое мнение в устной, письменной или печатной форме, в форме произведений искусства или с помощью других средств по выбору ребен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x_11f79056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4.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Arial"/>
              </a:rPr>
              <a:t>Ребенок имеет право на защиту от всех форм физического или психологического насилия, эксплуатации, оскорбления, небрежного или грубого обращения как со стороны родителей, так и законных опекунов или любого другого лица, заботящегося о ребенке. </a:t>
            </a:r>
            <a:br>
              <a:rPr sz="1800"/>
            </a:br>
            <a:r>
              <a:rPr b="1" lang="ru-RU" sz="1800" spc="-1" strike="noStrike" u="sng">
                <a:solidFill>
                  <a:srgbClr val="333333"/>
                </a:solidFill>
                <a:uFillTx/>
                <a:latin typeface="Arial"/>
              </a:rPr>
              <a:t>5. Ребенок, лишенный своего семейного окружения, имеет право на особую защиту и помощь, предоставляемые государство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x_294097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6. Ребенок имеет право на уровень жизни, необходимый для его физического, умственного, духовного, нравственного и социального развития. Неполноценный в умственном или физическом отношении ребенок должен вести полноценную и достойную жизнь в условиях, которые обеспечивают его достоинство, способствуют его уверенности в себе и облегчают его активное участие в жизни общества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. Ребенок имеет право на здравоохранение и социальное обеспечение, включая социальное страхование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8. Ребенок имеет право на образование, которое должно быть направлено на развитие личности, талантов и умственных и физических способностей ребенка в их самом полном объем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3:23:51Z</dcterms:created>
  <dc:creator>user</dc:creator>
  <dc:description/>
  <dc:language>en-US</dc:language>
  <cp:lastModifiedBy>Юлия</cp:lastModifiedBy>
  <dcterms:modified xsi:type="dcterms:W3CDTF">2012-02-23T11:22:32Z</dcterms:modified>
  <cp:revision>5</cp:revision>
  <dc:subject/>
  <dc:title>Права Ребенка…</dc:title>
</cp:coreProperties>
</file>