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1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9431-6E8A-40D3-8756-6ECF010E8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FAE1-F79B-4BF1-875F-C39139A1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9975-54B0-4D2F-8AB7-E59EAAEF7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4789-451A-4224-8FB2-C209A72E6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13E041-778D-442D-B45F-37B6899A4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F54A6D-1C6B-49BC-AE6C-CE64B9DC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CBCBBB-20A0-4B5C-B08E-A4451A3B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0AB4DC-6ED5-4214-9170-B4D0D77C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683E8-C179-4FC8-9A75-BBB069BB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28A85-8D54-4CC8-B086-EB970E9C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EE2C6-8141-4189-A158-DF377963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1849-995F-46AC-BF3D-2D0021F4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9DDF0-9CE9-4D52-818B-DEE95084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08527-1930-48EF-8162-56AF486D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9FBE5-88DA-422D-AD7A-E51F1C66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7836B-85FE-4865-9CCD-879AA4219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ADC84-3A15-4928-85ED-5D0CF8180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C0A9F-CA50-45BE-B297-CDC8DD7E4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32373-45FA-4588-AF6E-14A56F9C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51FB3-41E7-49CE-A3A9-D03956A5F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581FD-304D-463B-B294-B13F699D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F261A-D6B7-4240-A114-73C439BCF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479A-7F54-401D-AE6B-B0E12F3A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8617C-EF77-4DE2-8D41-1C24E083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80873-2801-42F1-8378-42F0777F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C4415-4AE6-40C5-BC20-8BC28044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BACA1-C94D-4BD8-928E-A5441A8B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8402B-29D1-4556-8B7E-5AF570E3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9E2B7-7823-46D3-9CE4-204D0A001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4F3EA-FDED-4E83-909E-04CFCFA5C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D4B3-F249-4D48-8F1C-94ADA46B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C8F9-9617-48C6-B7CD-2DE039AA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0218-4D7F-4F38-8263-9CC7B67E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BB4B-A986-47FC-991A-DF1D8210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E03F-E2E7-4709-B5EA-83C1DC47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8295-07FD-4460-9FC7-B70555A8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0FC6-3D2F-4783-B50C-9B2732C92D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6D6C-03AB-4B4F-A356-6B00855D0B9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A712-9116-4506-A69E-4CE5334C597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95280" y="4365720"/>
            <a:ext cx="8137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а реб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x_311662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92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. Ребенок имеет право пользоваться родным языком, исповедовать религию своих родителей, даже если он принадлежит к этнической, религиозной или языковой группе, которая в данном государстве составляет меньшинство.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. Ребенок имеет право на отдых и досуг, право участвовать в играх и развлекательных мероприятиях, соответствующих его возрасту, свободно участвовать в культурной жизни и заниматься искусством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1. Ребенок имеет право на защиту от экономической эксплуатации и от выполнения любой работы, которая может представлять опасность для его здоровья, либо наносить ущерб физическому, умственному, духовному, моральному и социальному развитию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x_82ec74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2. Ребенок имеет право на защиту от всех форм сексуальной эксплуатации и сексуального совращения.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13. Государства-участники обеспечивают, чтобы ни один ребенок не был подвергнут пыткам или другим жестоким, бесчеловечным или унижающим достоинство видам обращения или наказания; ни один ребенок не был лишен свободы незаконным или произвольным образом; каждый лишенный свободы ребенок имел право на незамедлительный доступ к правовой и другой соответствующей помощ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x_32602ec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2852280"/>
            <a:ext cx="83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4. Государства обязуются принимать меры для борьбы с незаконным перемещением и невозвращением детей из-за                                                            границы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5. Государства обязуются уважать и соблюдать нормы международного гуманитарного права в отношении детей, попавших в зону вооруженного конфликта. Государства принимают все возможные меры для того, чтобы лица младше 15 лет не принимали прямого участия в военных действиях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x_4d171b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39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школьное детство — уникальный период в жизни человека, в процессе которого формируется здоровье, осуществляется развитие личности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 в то же время это период, когда ребенок находится в полной зависимости от окружающих его взрослых — родителей и педагогов. Ненадлежащий уход, поведенческие, социальные и эмоциональные проблемы, возникающие в этом возрасте, приводят к тяжелым последствиям в будущем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доровье детей и их полноценное развитие во многом определяются эффективностью работы по защите их прав. </a:t>
            </a:r>
            <a:br>
              <a:rPr sz="2000"/>
            </a:b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x_be7980b3"/>
          <p:cNvPicPr/>
          <p:nvPr/>
        </p:nvPicPr>
        <p:blipFill>
          <a:blip r:embed="rId1"/>
          <a:stretch/>
        </p:blipFill>
        <p:spPr>
          <a:xfrm>
            <a:off x="0" y="0"/>
            <a:ext cx="9144000" cy="7623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Жестокое обращение с детьми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(child abuse). Одной из глобальных проблем в области защиты прав детей признается проблема жестокого обращения с детьми.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д жестоким обращением понимаются «все формы физического или психического насилия, причинение побоев или нанесение оскорблений, невнимательное, небрежное или жестокое обращение, эксплуатация, включая сексуальные посягательства на ребенка»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000" y="306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orte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Forte"/>
              </a:rPr>
              <a:t>Насилие имеет четыре основные формы: физическое, сексуальное, психическое, социально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orte"/>
              </a:rPr>
              <a:t>Физическое насилие – преднамеренное нанесение физических повреждений ребенку, причиняющих ущерб его здоровью, нарушающих его развитие и даже лишающих его жизни, а также приобщение ребенка к употреблению наркотиков, алкоголя, отравляющих веществ или «медицинских» препаратов, вызывающих одурманивани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orte"/>
              </a:rPr>
              <a:t>Сексуальное насилие – вовлечение ребенка с его согласия и без такового в сексуальные действия, а также в проституцию и порнобизнес. Согласие ребенка на сексуальный контакт не дает основания считать его ненасильственным, поскольку ребенок еще не способен предвидеть все негативные последствия таких действ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orte"/>
              </a:rPr>
              <a:t>Психическое насилие – периодическое, длительное или постоянное психическое воздействие на ребенка, а также предъявление ребенку требований, не соответствующих его возрастным возможностям, тормозящих развитие личности и приводящих к формированию психологических комплек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orte"/>
              </a:rPr>
              <a:t>Социальное насилие – пренебрежение интересами и нуждами ребенка – отсутствие элементарной заботы о ребенке и должного обеспечения его основных потребностей (питание, одежда, жилье, образование, медицинская помощь). В результате нарушается эмоциональное состояние ребенка, появляется угроза здоровью и нормальному развити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7000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x_4269465e"/>
          <p:cNvPicPr/>
          <p:nvPr/>
        </p:nvPicPr>
        <p:blipFill>
          <a:blip r:embed="rId1"/>
          <a:stretch/>
        </p:blipFill>
        <p:spPr>
          <a:xfrm>
            <a:off x="-324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ава детей в Росс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32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годня в России права детей регулируются следующими      основными законам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ституция Российской Феде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мейный кодекс Российской Феде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новы законодательства Российской Федерации об охране здоровья гражд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едеральный закон об образов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кон об основных гарантиях прав ребенка в Российской Феде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кон о дополнительных гарантиях социальной защиты детей-сирот и детей, оставшихся без попечения родите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кон о социальной защите инвалидов в Российск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едер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x_4530609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дводя итоги, можно отметить, что к началу 21 века в мире сложилась система защиты прав детей на международном уровне, подкрепленная соответствующими правовыми документами. Что касается России, то основной задачей государства является практическое обеспечение принципов Конвенции о правах детей, выполнение рекомендаций ООН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x_c26f1ab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резвычайно важно, чтобы дети росли в атмосфере уважения и не страдали от различных негативных последствий, ведь в слабых руках малыша наше будущее. Поэтому уже сейчас, в трудных социально-экономических условиях, нельзя оставаться равнодушным к бедам маленьких граждан Росси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187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бите дете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и- это наше будуще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x_4438f03e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49" name="WordArt 6"/>
          <p:cNvSpPr txBox="1"/>
          <p:nvPr/>
        </p:nvSpPr>
        <p:spPr>
          <a:xfrm>
            <a:off x="4067280" y="189000"/>
            <a:ext cx="4692600" cy="19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Impact"/>
              </a:rPr>
              <a:t>Права Ребенка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Impact"/>
              <a:ea typeface="Impact"/>
            </a:endParaRPr>
          </a:p>
        </p:txBody>
      </p:sp>
    </p:spTree>
  </p:cSld>
  <p:transition spd="slow" advTm="3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x_cb732a0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-360" y="0"/>
            <a:ext cx="51483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3399"/>
                </a:solidFill>
                <a:uFillTx/>
                <a:latin typeface="Monotype Corsiva"/>
              </a:rPr>
              <a:t>Ребенок приходит в этот мир                                            беспомощным и беззащитны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3399"/>
                </a:solidFill>
                <a:uFillTx/>
                <a:latin typeface="Monotype Corsiva"/>
              </a:rPr>
              <a:t>Его жизнь, здоровье,                                                               будущее целиком зависят от мира на Земле,                                                                               от родителей, от </a:t>
            </a:r>
            <a:r>
              <a:rPr b="1" i="1" lang="ru-RU" sz="2800" spc="-1" strike="noStrike" u="sng">
                <a:solidFill>
                  <a:srgbClr val="003399"/>
                </a:solidFill>
                <a:uFillTx/>
                <a:latin typeface="Monotype Corsiva"/>
              </a:rPr>
              <a:t>действий</a:t>
            </a:r>
            <a:r>
              <a:rPr b="1" i="1" lang="ru-RU" sz="2800" spc="-1" strike="noStrike" u="sng">
                <a:solidFill>
                  <a:srgbClr val="003399"/>
                </a:solidFill>
                <a:uFillTx/>
                <a:latin typeface="Monotype Corsiva"/>
              </a:rPr>
              <a:t> других взрослых люд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3399"/>
                </a:solidFill>
                <a:uFillTx/>
                <a:latin typeface="Monotype Corsiva"/>
              </a:rPr>
              <a:t> </a:t>
            </a:r>
            <a:r>
              <a:rPr b="1" i="1" lang="ru-RU" sz="2800" spc="-1" strike="noStrike" u="sng">
                <a:solidFill>
                  <a:srgbClr val="003399"/>
                </a:solidFill>
                <a:uFillTx/>
                <a:latin typeface="Monotype Corsiva"/>
              </a:rPr>
              <a:t>Ребенок верит в их любовь и доброе отношение                         и очень надеется на их защи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x_8db7a0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280" y="4652640"/>
            <a:ext cx="8352000" cy="186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А РЕБЕНКА (Rights of children) – это те права и свободы, которыми должен обладать каждый ребенок (ребенком признается каждый человек до 18 лет) вне зависимости от каких-либо различий: расы, пола, языка, религии, места рождения, национального или социального происхождения, имущественного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словного или иного положения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x_ba8591b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3628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ля гармоничного развития личности ребенок должен расти в атмосфере любви и добра, в семье, среди близких и любящих людей. Задача взрослых – помочь ребенку подготовиться к самостоятельной жизни, стать полноправным членом общества, создать ребенку условия для нормального физического и интеллектуального развития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x_146dc77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6836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Rage Italic"/>
              </a:rPr>
              <a:t>Семейный кодекс Российской Федерации предусматривает, что родители не вправе причинять вред физическому и психическому здоровью детей, их нравственному развитию. Способы воспитания должны исключать пренебрежительное, жестокое, грубое, унижающее человеческое достоинство обращение с детьми, их оскорбление или эксплуатац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x_ae037122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69228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В соответствии основным принципом защиты прав детей :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1. Ребенок имеет право на жизнь и здоровое развитие.        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2.Ребенок имеет право на сохранение своей индивидуальности, включая гражданство, имя и семейные связи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3. Ребенок имеет право на свободу личности, свободу мысли, совести и религии. Это право включает в себя свободу выражать свое мнение в устной, письменной или печатной форме, в форме произведений искусства или с помощью других средств по выбору ребенк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x_11f79056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486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4.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Arial"/>
              </a:rPr>
              <a:t>Ребенок имеет право на защиту от всех форм физического или психологического насилия, эксплуатации, оскорбления, небрежного или грубого обращения как со стороны родителей, так и законных опекунов или любого другого лица, заботящегося о ребенке. </a:t>
            </a:r>
            <a:br>
              <a:rPr sz="1800"/>
            </a:br>
            <a:r>
              <a:rPr b="1" lang="ru-RU" sz="1800" spc="-1" strike="noStrike" u="sng">
                <a:solidFill>
                  <a:srgbClr val="333333"/>
                </a:solidFill>
                <a:uFillTx/>
                <a:latin typeface="Arial"/>
              </a:rPr>
              <a:t>5. Ребенок, лишенный своего семейного окружения, имеет право на особую защиту и помощь, предоставляемые государством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x_294097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6. Ребенок имеет право на уровень жизни, необходимый для его физического, умственного, духовного, нравственного и социального развития. Неполноценный в умственном или физическом отношении ребенок должен вести полноценную и достойную жизнь в условиях, которые обеспечивают его достоинство, способствуют его уверенности в себе и облегчают его активное участие в жизни общества.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7. Ребенок имеет право на здравоохранение и социальное обеспечение, включая социальное страхование.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8. Ребенок имеет право на образование, которое должно быть направлено на развитие личности, талантов и умственных и физических способностей ребенка в их самом полном объеме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3:23:51Z</dcterms:created>
  <dc:creator>user</dc:creator>
  <dc:description/>
  <dc:language>en-US</dc:language>
  <cp:lastModifiedBy>Юлия</cp:lastModifiedBy>
  <dcterms:modified xsi:type="dcterms:W3CDTF">2012-02-23T11:22:32Z</dcterms:modified>
  <cp:revision>5</cp:revision>
  <dc:subject/>
  <dc:title>Права Ребенка…</dc:title>
</cp:coreProperties>
</file>