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4E6-1C70-465C-A203-6CB7F67B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E25-FDBC-4850-B030-E42F950F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C71-BC40-4F7B-80D9-4681274D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14F-0813-4F92-ADFF-18B03DA8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B7C3-5EBC-4DC9-A0C8-DD496635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5726-FE3D-4F09-A0F6-37960359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EDE1-21DF-44E7-904D-3A2B8817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B4D4-386E-4074-9939-5A443911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E20A-F645-4594-B215-07463CBA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9E15-C695-4438-9288-731EDFE5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C105-0ADB-42BB-9A61-70CA4072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34F-5B1F-4053-8614-3BC50C1A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389D-41B6-4919-B16E-3A4133B5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F787-D640-4FBF-85EF-1ACD4E29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F6BD-F83C-43CB-B085-3FBB0EA1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E556-4EF3-43E4-A064-6C13A4B6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78E7-50D1-4231-8FEA-3FCAEDE0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BA9-41CA-4B3D-8D9D-938A54C4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0AE-7503-4615-AC64-BC8F8B99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379-A792-4628-A39D-39788868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A7B-9415-4428-B103-BE62F04F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2C1-5ECE-48AD-B231-10C06FC1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AF8-8F24-4990-99C6-2F173ED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15F-3B6A-40F9-B300-2707D85F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87462D-9B6B-4BD4-8DE4-DDC4D4E9CE5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7560" cy="1051200"/>
            <a:chOff x="0" y="2438280"/>
            <a:chExt cx="9007560" cy="105120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9560" cy="473040"/>
              <a:chOff x="290520" y="2546280"/>
              <a:chExt cx="709560" cy="4730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6680" cy="4730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688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6200" cy="473040"/>
              <a:chOff x="414360" y="2968560"/>
              <a:chExt cx="736200" cy="4730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30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720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872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024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148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F62201-DBB7-4132-AAE9-F8A75A3A9AED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Технологи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проблемного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диалога как средство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реализации ФГОС 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начальной школе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Проблемные уроки очень эффективны и детя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нравятся. Поэтому можно проводить урок по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такой структуре по любым предмета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Конечно, работа трудоёмкая, так как к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каждому уроку надо подбирать необходимые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упражнения для актуализации знаний 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создания проблемной ситуации, продумывать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постановку проблемы и выбор путей её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решения в соответствии с принципом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рациональности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2724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На данном этапе развития человечества обуч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должно быть проблемным, так как оно формиру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творческую личность, способную логичес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мыслить, находить решение в разных проблемных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ситуациях, способную к высокому самоанализ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саморазвитию, самокоррекции. Войдя в жизн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такая личность будет более защищена от стресс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 Black"/>
              </a:rPr>
              <a:t>Обучаясь по данной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 Black"/>
              </a:rPr>
              <a:t>технологии, у ребя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 Black"/>
              </a:rPr>
              <a:t>появляется увереннос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 Black"/>
              </a:rPr>
              <a:t>в своих силах и знаниях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Цель примене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 Black"/>
              </a:rPr>
              <a:t>научить учащихс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 Black"/>
              </a:rPr>
              <a:t>идти путе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 Black"/>
              </a:rPr>
              <a:t>самостоятельных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 Black"/>
              </a:rPr>
              <a:t>находок и открытий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Black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Создать условия для приобретения учащимися средств познания и исслед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Повысить познавательную активность в процессе овладения знани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Применять дифференцированный подход в учебном и воспитательном процесс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облемное обучение целесообразно применят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Когда содержание учебного материала содержит причинно-следственные связи и зависимости и направлено на формирование понятий, законов и теор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Когда ученики подготовлены к проблемному изучению темы и решают задачи на развитие самостоятельности мышления, формирование исследовательских умений, творческого подхода к делу, т.к. для слабых учащихся этот метод оказывается труд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Когда у учителя есть время для проблемного изучения темы, т.к. оно требует больших затра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0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Основой проблемного обучения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уроках является знаком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учащихся с новыми фактами пут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созданий проблемных ситуац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способствующих выдвижени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гипотезы и с последующим поиск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доказательства справедливост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выдвинутого  предложения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труктура проблемного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1.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2. Актуализация зн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3. Постановка учебной пробл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4. «Открытие» учащимися нового зн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5. Первичное закрепл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6. Самостоятельная работа с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самопроверкой и самооценкой в класс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7. Повтор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8. Итог 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0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иёмы создания проблемных ситуаций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Подвести школьников к противоречию и предложить им самим найти способ его реш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Изложить различные точки зрения на один и тот же вопро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Предложить классу рассмотреть явление с различных позиц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Побудить учащихся делать сравнения, обобщения, выводы из ситуации, сопоставлять факт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Ставить конкретные вопросы на обобщение, обоснование, конкретизацию, логику, рассужд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Определить проблемные теоретические и практические зна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Ставить проблемные задачи (например: с недостающими, избыточными или противоречивыми данными, с заведомо допущенными ошибками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dur="indefinite" fill="hold">
                      <p:stCondLst>
                        <p:cond delay="0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Каждый новый урок – это элемен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сложной системы взаимодейств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учителя и ученика, новый вклад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формирование его умственной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моральной культу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Виды диалог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7240" y="20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 Black"/>
              </a:rPr>
              <a:t>Побуждающий диа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(отдельные стимулирующие реплики, которые помогаю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ученику осуществить творческую деятельность и поэтому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развивают творческие способности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 Black"/>
              </a:rPr>
              <a:t>Подводящий диа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(система вопросов и заданий, которая активизирует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оответственно развивает логическое мыш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учеников, обеспечивают учебную мотивац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dur="indefinite" fill="hold">
                      <p:stCondLst>
                        <p:cond delay="0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9-20T15:33:0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