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D47-BE97-4375-BB3C-A9A66A3B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505-662C-439B-8DBE-E93E5548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EE2-BB6F-4A6E-8949-88410E94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7FA-9CED-4B57-BB53-4C0DCAB7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1FF4-51B6-45E0-A5C8-221D4F0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BFB8-DA28-4051-8700-FFE49F5E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7116-3372-4537-884F-DFC485E5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EAC-A032-4D36-899C-DA82E56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8ED3-E6A3-4FE1-8B14-EE28CABE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A4BD-A2C6-43C0-ADCD-3B96D8FE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028C-BA42-49ED-A961-5B601E2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FBD-DD63-4708-B151-9DD35375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14F-95A9-43BD-9841-7C623B8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0C54-27BD-43D8-AF78-6508434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7F58-3127-418D-9A74-6FC8886F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DEB0-7ECA-453B-AC68-1FF0CC3C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BDE2-EE01-477D-993D-E09B8F43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D27-41DF-48A9-8A0C-DDADF18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0F0-D52C-4281-8C8B-AD6C481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B80-61A0-4BC5-827B-39DB309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2FD-9842-4F4C-B1F9-5153424C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152-0085-42BF-9F65-F89FECC6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161-7403-4924-B778-EF79E0F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C9A-A03C-4349-A278-25375A0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8A7080-0AA7-4F8A-B29E-C04FF223021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6200" cy="473040"/>
              <a:chOff x="414360" y="2968560"/>
              <a:chExt cx="736200" cy="4730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720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6F7174-D81E-4934-B8EF-F3AB8A4D8370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Технологи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проблемного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диалога как средство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реализации ФГОС 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начальной школе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Проблемные уроки очень эффективны и детя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нравятся. Поэтому можно проводить урок п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такой структуре по любым предмета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Конечно, работа трудоёмкая, так как к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каждому уроку надо подбирать необходимые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упражнения для актуализации знаний 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создания проблемной ситуации, продумыва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постановку проблемы и выбор путей её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решения в соответствии с принципом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Arial Black"/>
              </a:rPr>
              <a:t>рациональности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724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На данном этапе развития человечества обуч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должно быть проблемным, так как оно формиру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творческую личность, способную логичес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мыслить, находить решение в разных проблемных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ситуациях, способную к высокому самоанализ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саморазвитию, самокоррекции. Войдя в жизн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такая личность будет более защищена от стресс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Обучаясь по данной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технологии, у ребя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появляется увереннос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 Black"/>
              </a:rPr>
              <a:t>в своих силах и знаниях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ь примен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научить учащихс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идти путе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самостоятельных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находок и открытий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Black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оздать условия для приобретения учащимися средств познания и исслед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Повысить познавательную активность в процессе овладения знани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Применять дифференцированный подход в учебном и воспитательном процесс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блемное обучение целесообразно применят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Когда содержание учебного материала содержит причинно-следственные связи и зависимости и направлено на формирование понятий, законов и теор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Когда ученики подготовлены к проблемному изучению темы и решают задачи на развитие самостоятельности мышления, формирование исследовательских умений, творческого подхода к делу, т.к. для слабых учащихся этот метод оказывается труд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Когда у учителя есть время для проблемного изучения темы, т.к. оно требует больших затра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Основой проблемного обучения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уроках является знаком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учащихся с новыми фактами пут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озданий проблемных ситуац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пособствующих выдвижени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гипотезы и с последующим поиск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доказательства справедливост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выдвинутого  предложения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уктура проблемного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1.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2. Актуализация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3. Постановка учебной пробл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4. «Открытие» учащимися нового 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5. Первичное закреп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6. Самостоятельная работа 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самопроверкой и самооценкой в класс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7. Повтор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8. Итог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иёмы создания проблемных ситуаций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Подвести школьников к противоречию и предложить им самим найти способ его реш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Изложить различные точки зрения на один и тот же вопр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Предложить классу рассмотреть явление с различных позиц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Побудить учащихся делать сравнения, обобщения, выводы из ситуации, сопоставлять факт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Ставить конкретные вопросы на обобщение, обоснование, конкретизацию, логику, рассужд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Определить проблемные теоретические и практические зна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 Black"/>
              </a:rPr>
              <a:t>Ставить проблемные задачи (например: с недостающими, избыточными или противоречивыми данными, с заведомо допущенными ошибками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0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0952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Каждый новый урок – это элемен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ложной системы взаимодейст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учителя и ученика, новый вклад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формирование его умственной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моральной культу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Виды диалог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7240" y="20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 Black"/>
              </a:rPr>
              <a:t>Побуждаю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(отдельные стимулирующие реплики, которые помогаю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ученику осуществить творческую деятельность и поэтому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развивают творческие способности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 Black"/>
              </a:rPr>
              <a:t>Подводя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(система вопросов и заданий, которая активизирует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оответственно развивает логическое мыш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учеников, обеспечивают учебную мотивац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0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9-20T15:33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