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F75-35ED-441F-82F5-DE2FEBA3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257-8FBA-4177-B368-FBCC1B96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182-5EC8-455B-B9D5-BE36593D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3A8-BE15-4AFC-8F6D-70192591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DB4-E658-49C5-8B18-57AB537B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072A-17E0-402B-9EE5-CED7454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4825-236B-4574-83B7-63786F9A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D5BF-505E-4A87-A57E-FD243D2B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1E4-AFCC-410B-B539-E2D283F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27F-FF72-465F-8763-571840F9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7D01-64BC-4233-852E-D1333FB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633-EE0F-4EAD-9801-95F6628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6AED-C2EF-4D97-8D9E-B12CFD9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DDA-0D2B-4354-B96B-A4460FF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6FAE-DB68-4640-8F74-A4257CFB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B946-56AD-41B0-A835-39796B27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958F-4D04-4901-B437-2628F0DC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0D8-389B-427E-8C61-DF4AD1AC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838-74E9-4366-8A8F-04CD094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FD3-E6CC-4D18-8408-15FF6DCA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BE2-368B-46E6-970C-A375742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426-B717-4302-87E9-7551CFC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505-05D7-44B3-B82B-F1F403C2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E8E-24DC-408B-9CD7-A3CA72B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0280"/>
                    <a:gd name="textAreaBottom" fmla="*/ 1250640 h 1250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3000"/>
                    <a:gd name="textAreaBottom" fmla="*/ 513360 h 5130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518-05E0-4AF5-98B8-CA6BCC3FCA4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59040"/>
              <a:ext cx="3622320" cy="6132600"/>
              <a:chOff x="5408280" y="59040"/>
              <a:chExt cx="36223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6920" y="343800"/>
                <a:ext cx="2111040" cy="2354400"/>
              </a:xfrm>
              <a:custGeom>
                <a:avLst/>
                <a:gdLst>
                  <a:gd name="textAreaLeft" fmla="*/ 0 w 2111040"/>
                  <a:gd name="textAreaRight" fmla="*/ 2111400 w 2111040"/>
                  <a:gd name="textAreaTop" fmla="*/ 360 h 2354400"/>
                  <a:gd name="textAreaBottom" fmla="*/ 2355120 h 23544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4280" y="1953000"/>
                <a:ext cx="904320" cy="84168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9200" y="258552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4360" y="6688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6360" y="2647080"/>
                <a:ext cx="162720" cy="3304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080" y="12412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3640"/>
                <a:ext cx="522360" cy="32644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360 h 3264480"/>
                  <a:gd name="textAreaBottom" fmla="*/ 3265200 h 32644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8040" y="296640"/>
              <a:ext cx="897480" cy="821160"/>
              <a:chOff x="5648040" y="296640"/>
              <a:chExt cx="89748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78552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8520" y="469080"/>
                <a:ext cx="310320" cy="30060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888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33400"/>
              <a:chOff x="968760" y="525888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132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6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0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E896-4722-4CF5-81B5-B94A94B676D9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«Цыпленок и утенок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838080" y="380880"/>
            <a:ext cx="701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Picture 9" descr="0b08c9c49cb26daf80199964595981d7"/>
          <p:cNvPicPr/>
          <p:nvPr/>
        </p:nvPicPr>
        <p:blipFill>
          <a:blip r:embed="rId1"/>
          <a:stretch/>
        </p:blipFill>
        <p:spPr>
          <a:xfrm>
            <a:off x="3174840" y="5105520"/>
            <a:ext cx="1254240" cy="127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24386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Загадки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655344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Рисунок 5" descr="корзинка2.jpg"/>
          <p:cNvPicPr/>
          <p:nvPr/>
        </p:nvPicPr>
        <p:blipFill>
          <a:blip r:embed="rId1"/>
          <a:stretch/>
        </p:blipFill>
        <p:spPr>
          <a:xfrm>
            <a:off x="3200400" y="3657600"/>
            <a:ext cx="1698480" cy="1447920"/>
          </a:xfrm>
          <a:prstGeom prst="rect">
            <a:avLst/>
          </a:prstGeom>
          <a:ln w="0">
            <a:noFill/>
          </a:ln>
        </p:spPr>
      </p:pic>
      <p:sp>
        <p:nvSpPr>
          <p:cNvPr id="174" name="Выноска-облако 8"/>
          <p:cNvSpPr/>
          <p:nvPr/>
        </p:nvSpPr>
        <p:spPr>
          <a:xfrm rot="672000">
            <a:off x="6224400" y="290520"/>
            <a:ext cx="836280" cy="140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Удивительный ребенок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Только вышел из пеленок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Может плавать и нырять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Как его родная мат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(утенок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Выноска-облако 9"/>
          <p:cNvSpPr/>
          <p:nvPr/>
        </p:nvSpPr>
        <p:spPr>
          <a:xfrm flipH="1" rot="20848800">
            <a:off x="679320" y="531360"/>
            <a:ext cx="1346400" cy="1319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Весь я золотистый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Мягкий и пушистый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Я у курицы – ребенок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f4ff"/>
                </a:solidFill>
                <a:latin typeface="Comic Sans MS"/>
              </a:rPr>
              <a:t>А зовут меня… (цыпленок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В.Сутеев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Цыпленок и утенок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9" descr="0b08c9c49cb26daf80199964595981d7"/>
          <p:cNvPicPr/>
          <p:nvPr/>
        </p:nvPicPr>
        <p:blipFill>
          <a:blip r:embed="rId1"/>
          <a:stretch/>
        </p:blipFill>
        <p:spPr>
          <a:xfrm>
            <a:off x="987480" y="1596960"/>
            <a:ext cx="123192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i30MVLZ81"/>
          <p:cNvPicPr/>
          <p:nvPr/>
        </p:nvPicPr>
        <p:blipFill>
          <a:blip r:embed="rId2"/>
          <a:stretch/>
        </p:blipFill>
        <p:spPr>
          <a:xfrm>
            <a:off x="4443480" y="1822320"/>
            <a:ext cx="1560600" cy="115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90244-i_009"/>
          <p:cNvPicPr/>
          <p:nvPr/>
        </p:nvPicPr>
        <p:blipFill>
          <a:blip r:embed="rId3"/>
          <a:stretch/>
        </p:blipFill>
        <p:spPr>
          <a:xfrm>
            <a:off x="7083360" y="1517760"/>
            <a:ext cx="1774800" cy="16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mpF43-26"/>
          <p:cNvPicPr/>
          <p:nvPr/>
        </p:nvPicPr>
        <p:blipFill>
          <a:blip r:embed="rId4"/>
          <a:stretch/>
        </p:blipFill>
        <p:spPr>
          <a:xfrm>
            <a:off x="2127240" y="4340160"/>
            <a:ext cx="1311120" cy="1176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tmpF43-27"/>
          <p:cNvPicPr/>
          <p:nvPr/>
        </p:nvPicPr>
        <p:blipFill>
          <a:blip r:embed="rId5"/>
          <a:stretch/>
        </p:blipFill>
        <p:spPr>
          <a:xfrm>
            <a:off x="5559480" y="3803760"/>
            <a:ext cx="1079280" cy="1212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0" descr="баб лет1.jpg"/>
          <p:cNvPicPr/>
          <p:nvPr/>
        </p:nvPicPr>
        <p:blipFill>
          <a:blip r:embed="rId6"/>
          <a:stretch/>
        </p:blipFill>
        <p:spPr>
          <a:xfrm>
            <a:off x="4114800" y="1909800"/>
            <a:ext cx="1371600" cy="882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1" descr="баб лет1.jpg"/>
          <p:cNvPicPr/>
          <p:nvPr/>
        </p:nvPicPr>
        <p:blipFill>
          <a:blip r:embed="rId7"/>
          <a:stretch/>
        </p:blipFill>
        <p:spPr>
          <a:xfrm>
            <a:off x="-228600" y="285768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овообразов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89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Пищи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324480" y="1219320"/>
            <a:ext cx="28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mic Sans MS"/>
              </a:rPr>
              <a:t>Крякае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8" descr="images (1)"/>
          <p:cNvPicPr/>
          <p:nvPr/>
        </p:nvPicPr>
        <p:blipFill>
          <a:blip r:embed="rId1"/>
          <a:stretch/>
        </p:blipFill>
        <p:spPr>
          <a:xfrm>
            <a:off x="603360" y="2736720"/>
            <a:ext cx="1158840" cy="1202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ц и у"/>
          <p:cNvPicPr/>
          <p:nvPr/>
        </p:nvPicPr>
        <p:blipFill>
          <a:blip r:embed="rId2"/>
          <a:stretch/>
        </p:blipFill>
        <p:spPr>
          <a:xfrm>
            <a:off x="7345440" y="2816280"/>
            <a:ext cx="1109520" cy="1152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1"/>
          <p:cNvSpPr/>
          <p:nvPr/>
        </p:nvSpPr>
        <p:spPr>
          <a:xfrm>
            <a:off x="3124080" y="1676520"/>
            <a:ext cx="1143000" cy="685800"/>
          </a:xfrm>
          <a:prstGeom prst="cloudCallout">
            <a:avLst>
              <a:gd name="adj1" fmla="val -14356"/>
              <a:gd name="adj2" fmla="val 27337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и-п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AutoShape 13"/>
          <p:cNvSpPr/>
          <p:nvPr/>
        </p:nvSpPr>
        <p:spPr>
          <a:xfrm flipH="1" flipV="1">
            <a:off x="5714280" y="1675800"/>
            <a:ext cx="1066680" cy="609480"/>
          </a:xfrm>
          <a:prstGeom prst="cloudCallout">
            <a:avLst>
              <a:gd name="adj1" fmla="val -52888"/>
              <a:gd name="adj2" fmla="val -110027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ря-кр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3505320" y="2895480"/>
            <a:ext cx="380880" cy="1067040"/>
          </a:xfrm>
          <a:custGeom>
            <a:avLst/>
            <a:gdLst>
              <a:gd name="textAreaLeft" fmla="*/ 50760 w 380880"/>
              <a:gd name="textAreaRight" fmla="*/ 330120 w 380880"/>
              <a:gd name="textAreaTop" fmla="*/ 212760 h 1067040"/>
              <a:gd name="textAreaBottom" fmla="*/ 782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7" stAng="-5400000" swAng="5400000"/>
                <a:lnTo>
                  <a:pt x="21600" y="11528"/>
                </a:lnTo>
                <a:arcTo wR="21600" hR="8617" stAng="0" swAng="2906977"/>
                <a:lnTo>
                  <a:pt x="7200" y="21107"/>
                </a:lnTo>
                <a:lnTo>
                  <a:pt x="0" y="18689"/>
                </a:lnTo>
                <a:lnTo>
                  <a:pt x="7200" y="15284"/>
                </a:lnTo>
                <a:lnTo>
                  <a:pt x="7200" y="16740"/>
                </a:lnTo>
                <a:arcTo wR="21600" hR="8617" stAng="2906977" swAng="-2672315"/>
                <a:lnTo>
                  <a:pt x="21290" y="10072"/>
                </a:lnTo>
                <a:arcTo wR="21600" hR="8617" stAng="-234662" swAng="-5165338"/>
                <a:close/>
              </a:path>
              <a:path fill="darkenLess" w="21600" h="21600">
                <a:moveTo>
                  <a:pt x="0" y="0"/>
                </a:moveTo>
                <a:arcTo wR="21600" hR="8617" stAng="-5400000" swAng="5400000"/>
                <a:lnTo>
                  <a:pt x="21600" y="11528"/>
                </a:lnTo>
                <a:arcTo wR="21600" hR="8617" stAng="0" swAng="-234662"/>
                <a:lnTo>
                  <a:pt x="21290" y="10072"/>
                </a:lnTo>
                <a:arcTo wR="21600" hR="8617" stAng="-234662" swAng="-5165338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952880" y="3352680"/>
            <a:ext cx="533520" cy="990720"/>
          </a:xfrm>
          <a:custGeom>
            <a:avLst/>
            <a:gdLst>
              <a:gd name="textAreaLeft" fmla="*/ 71280 w 533520"/>
              <a:gd name="textAreaRight" fmla="*/ 462240 w 533520"/>
              <a:gd name="textAreaTop" fmla="*/ 178200 h 990720"/>
              <a:gd name="textAreaBottom" fmla="*/ 7200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9" stAng="-5400000" swAng="-5400000"/>
                <a:lnTo>
                  <a:pt x="0" y="11811"/>
                </a:lnTo>
                <a:arcTo wR="21600" hR="7769" stAng="10800000" swAng="-2729399"/>
                <a:lnTo>
                  <a:pt x="14400" y="21156"/>
                </a:lnTo>
                <a:lnTo>
                  <a:pt x="21600" y="17558"/>
                </a:lnTo>
                <a:lnTo>
                  <a:pt x="14400" y="13072"/>
                </a:lnTo>
                <a:lnTo>
                  <a:pt x="14400" y="15093"/>
                </a:lnTo>
                <a:arcTo wR="21600" hR="7769" stAng="8070601" swAng="2397314"/>
                <a:lnTo>
                  <a:pt x="744" y="9790"/>
                </a:lnTo>
                <a:arcTo wR="21600" hR="7769" stAng="-10467914" swAng="5067914"/>
                <a:close/>
              </a:path>
              <a:path fill="darkenLess" w="21600" h="21600">
                <a:moveTo>
                  <a:pt x="21600" y="0"/>
                </a:moveTo>
                <a:arcTo wR="21600" hR="7769" stAng="-5400000" swAng="-5400000"/>
                <a:lnTo>
                  <a:pt x="0" y="7769"/>
                </a:lnTo>
                <a:arcTo wR="21600" hR="7769" stAng="10800000" swAng="-332086"/>
                <a:lnTo>
                  <a:pt x="744" y="9790"/>
                </a:lnTo>
                <a:arcTo wR="21600" hR="7769" stAng="-10467914" swAng="5067914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Utka-Kryakane.mp3" descr=""/>
          <p:cNvPicPr/>
          <p:nvPr/>
        </p:nvPicPr>
        <p:blipFill>
          <a:blip r:embed="rId3"/>
          <a:stretch/>
        </p:blipFill>
        <p:spPr>
          <a:xfrm>
            <a:off x="70102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zvuki-Cyplyata(muzofon.com).mp3" descr=""/>
          <p:cNvPicPr/>
          <p:nvPr/>
        </p:nvPicPr>
        <p:blipFill>
          <a:blip r:embed="rId4"/>
          <a:stretch/>
        </p:blipFill>
        <p:spPr>
          <a:xfrm>
            <a:off x="1981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баб6"/>
          <p:cNvPicPr/>
          <p:nvPr/>
        </p:nvPicPr>
        <p:blipFill>
          <a:blip r:embed="rId5"/>
          <a:stretch/>
        </p:blipFill>
        <p:spPr>
          <a:xfrm rot="21025800">
            <a:off x="762120" y="2895480"/>
            <a:ext cx="142848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баб6"/>
          <p:cNvPicPr/>
          <p:nvPr/>
        </p:nvPicPr>
        <p:blipFill>
          <a:blip r:embed="rId6"/>
          <a:stretch/>
        </p:blipFill>
        <p:spPr>
          <a:xfrm rot="888000">
            <a:off x="7086600" y="2971800"/>
            <a:ext cx="1428840" cy="571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87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9533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Поиграем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Цыплята клюют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зер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Утята плаваю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Picture 4" descr="клюют"/>
          <p:cNvPicPr/>
          <p:nvPr/>
        </p:nvPicPr>
        <p:blipFill>
          <a:blip r:embed="rId1"/>
          <a:stretch/>
        </p:blipFill>
        <p:spPr>
          <a:xfrm>
            <a:off x="1646280" y="1901880"/>
            <a:ext cx="1365120" cy="1152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плав"/>
          <p:cNvPicPr/>
          <p:nvPr/>
        </p:nvPicPr>
        <p:blipFill>
          <a:blip r:embed="rId2"/>
          <a:stretch/>
        </p:blipFill>
        <p:spPr>
          <a:xfrm>
            <a:off x="7083360" y="1901880"/>
            <a:ext cx="1609920" cy="101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Аппликаци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66"/>
                </a:solidFill>
                <a:latin typeface="Comic Sans MS"/>
              </a:rPr>
              <a:t>Утята и цыплята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5" name="Рисунок 3" descr="Фото0125.jpg"/>
          <p:cNvPicPr/>
          <p:nvPr/>
        </p:nvPicPr>
        <p:blipFill>
          <a:blip r:embed="rId1"/>
          <a:stretch/>
        </p:blipFill>
        <p:spPr>
          <a:xfrm>
            <a:off x="3121200" y="3803760"/>
            <a:ext cx="1304640" cy="981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Фото0127.jpg"/>
          <p:cNvPicPr/>
          <p:nvPr/>
        </p:nvPicPr>
        <p:blipFill>
          <a:blip r:embed="rId2"/>
          <a:stretch/>
        </p:blipFill>
        <p:spPr>
          <a:xfrm>
            <a:off x="6924600" y="3328920"/>
            <a:ext cx="744480" cy="9255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Фото0128.jpg"/>
          <p:cNvPicPr/>
          <p:nvPr/>
        </p:nvPicPr>
        <p:blipFill>
          <a:blip r:embed="rId3"/>
          <a:stretch/>
        </p:blipFill>
        <p:spPr>
          <a:xfrm>
            <a:off x="792000" y="3621240"/>
            <a:ext cx="1170000" cy="14508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баб лет1.jpg"/>
          <p:cNvPicPr/>
          <p:nvPr/>
        </p:nvPicPr>
        <p:blipFill>
          <a:blip r:embed="rId4"/>
          <a:stretch/>
        </p:blipFill>
        <p:spPr>
          <a:xfrm>
            <a:off x="3505320" y="-22860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баб лет1.jpg"/>
          <p:cNvPicPr/>
          <p:nvPr/>
        </p:nvPicPr>
        <p:blipFill>
          <a:blip r:embed="rId5"/>
          <a:stretch/>
        </p:blipFill>
        <p:spPr>
          <a:xfrm>
            <a:off x="609480" y="8380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1" descr=""/>
          <p:cNvPicPr/>
          <p:nvPr/>
        </p:nvPicPr>
        <p:blipFill>
          <a:blip r:embed="rId1"/>
          <a:stretch/>
        </p:blipFill>
        <p:spPr>
          <a:xfrm>
            <a:off x="2444760" y="2816280"/>
            <a:ext cx="57913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5-10-17T05:49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