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011-0190-404D-8E0C-62D83587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EA1-0043-4761-A97D-FABBC63B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097-3C16-4FFF-A838-613EDC9C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304-9C50-49BB-A454-BEA551A4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C3EF-0559-4189-8326-3A7CCEE7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E9D6-8301-453E-8908-E64C835C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5831-EB3C-427E-98F2-DC27E733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6A5D-7907-486C-A638-CC56D207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986D-0365-48A5-AA11-9B2DA7C2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4EEA-5308-413F-A534-150C7020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DC55-31D4-4830-AD4B-A76BE4F3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DE8-3FFF-4E2B-A352-E4D33BE0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A254-9F39-483B-8500-747AA394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B2E5-729F-4F3B-B8DB-52095317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5BFB-54B3-411F-9A7F-40D6AE3F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92C7-3B64-4830-A811-87EB0A51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5594-09B0-47C5-810D-225C135E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5E5-F2BA-4A60-9066-FB891B96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00D-E67C-45AB-9CD6-C0727451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FEE-187A-4FC5-B04A-D00FD0A0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451-F4DB-4872-BD0B-B480031F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2FA-E868-4296-BBC0-F85E7E62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94C-26C1-4276-A93D-26E21489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AF3-B940-42D8-ABB7-C55F046A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360"/>
                <a:ext cx="1833120" cy="1669680"/>
                <a:chOff x="853200" y="4050360"/>
                <a:chExt cx="1833120" cy="166968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7640" y="3932280"/>
                  <a:ext cx="477360" cy="125028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50280"/>
                    <a:gd name="textAreaBottom" fmla="*/ 1250640 h 1250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2400" y="4978440"/>
                  <a:ext cx="110520" cy="51300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3000"/>
                    <a:gd name="textAreaBottom" fmla="*/ 513360 h 5130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400" y="5565600"/>
                  <a:ext cx="200880" cy="8928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9951-9EED-4E89-B593-AE79430BE3D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280" y="59040"/>
              <a:ext cx="3622320" cy="6132600"/>
              <a:chOff x="5408280" y="59040"/>
              <a:chExt cx="362232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6920" y="343800"/>
                <a:ext cx="2111040" cy="2354400"/>
              </a:xfrm>
              <a:custGeom>
                <a:avLst/>
                <a:gdLst>
                  <a:gd name="textAreaLeft" fmla="*/ 0 w 2111040"/>
                  <a:gd name="textAreaRight" fmla="*/ 2111400 w 2111040"/>
                  <a:gd name="textAreaTop" fmla="*/ 360 h 2354400"/>
                  <a:gd name="textAreaBottom" fmla="*/ 2355120 h 235440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4280" y="1953000"/>
                <a:ext cx="904320" cy="841680"/>
              </a:xfrm>
              <a:custGeom>
                <a:avLst/>
                <a:gdLst>
                  <a:gd name="textAreaLeft" fmla="*/ 0 w 904320"/>
                  <a:gd name="textAreaRight" fmla="*/ 904680 w 904320"/>
                  <a:gd name="textAreaTop" fmla="*/ 360 h 841680"/>
                  <a:gd name="textAreaBottom" fmla="*/ 842400 h 8416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9200" y="2585520"/>
                <a:ext cx="438480" cy="39492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4360" y="668880"/>
                <a:ext cx="388080" cy="55044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6360" y="2647080"/>
                <a:ext cx="162720" cy="33048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360 h 330480"/>
                  <a:gd name="textAreaBottom" fmla="*/ 331200 h 33048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080" y="124128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3640"/>
                <a:ext cx="522360" cy="326448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360 h 3264480"/>
                  <a:gd name="textAreaBottom" fmla="*/ 3265200 h 326448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8040" y="296640"/>
              <a:ext cx="897480" cy="821160"/>
              <a:chOff x="5648040" y="296640"/>
              <a:chExt cx="89748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785520"/>
                <a:ext cx="182160" cy="36180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8520" y="469080"/>
                <a:ext cx="310320" cy="300600"/>
              </a:xfrm>
              <a:custGeom>
                <a:avLst/>
                <a:gdLst>
                  <a:gd name="textAreaLeft" fmla="*/ 0 w 310320"/>
                  <a:gd name="textAreaRight" fmla="*/ 310680 w 3103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480" y="398880"/>
                <a:ext cx="324360" cy="15300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33400"/>
              <a:chOff x="968760" y="5258880"/>
              <a:chExt cx="105912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1320"/>
                <a:ext cx="250920" cy="3016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6240"/>
                <a:ext cx="429480" cy="2505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0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5D7B-1701-4880-A433-0457D8B74F2B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«Цыпленок и утенок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838080" y="380880"/>
            <a:ext cx="701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0" name="Picture 9" descr="0b08c9c49cb26daf80199964595981d7"/>
          <p:cNvPicPr/>
          <p:nvPr/>
        </p:nvPicPr>
        <p:blipFill>
          <a:blip r:embed="rId1"/>
          <a:stretch/>
        </p:blipFill>
        <p:spPr>
          <a:xfrm>
            <a:off x="3174840" y="5105520"/>
            <a:ext cx="1254240" cy="1271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609480"/>
            <a:ext cx="243864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Загадки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3200040"/>
            <a:ext cx="655344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3" name="Рисунок 5" descr="корзинка2.jpg"/>
          <p:cNvPicPr/>
          <p:nvPr/>
        </p:nvPicPr>
        <p:blipFill>
          <a:blip r:embed="rId1"/>
          <a:stretch/>
        </p:blipFill>
        <p:spPr>
          <a:xfrm>
            <a:off x="3200400" y="3657600"/>
            <a:ext cx="1698480" cy="1447920"/>
          </a:xfrm>
          <a:prstGeom prst="rect">
            <a:avLst/>
          </a:prstGeom>
          <a:ln w="0">
            <a:noFill/>
          </a:ln>
        </p:spPr>
      </p:pic>
      <p:sp>
        <p:nvSpPr>
          <p:cNvPr id="174" name="Выноска-облако 8"/>
          <p:cNvSpPr/>
          <p:nvPr/>
        </p:nvSpPr>
        <p:spPr>
          <a:xfrm rot="672000">
            <a:off x="6224400" y="290520"/>
            <a:ext cx="836280" cy="1405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Удивительный ребенок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Только вышел из пеленок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Может плавать и нырять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Как его родная мать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(утенок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Выноска-облако 9"/>
          <p:cNvSpPr/>
          <p:nvPr/>
        </p:nvSpPr>
        <p:spPr>
          <a:xfrm flipH="1" rot="20848800">
            <a:off x="679320" y="531360"/>
            <a:ext cx="1346400" cy="1319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Весь я золотистый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Мягкий и пушистый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Я у курицы – ребенок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А зовут меня… (цыпленок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В.Сутеев</a:t>
            </a:r>
            <a:br>
              <a:rPr sz="3600"/>
            </a:b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Цыпленок и утенок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8" name="Picture 9" descr="0b08c9c49cb26daf80199964595981d7"/>
          <p:cNvPicPr/>
          <p:nvPr/>
        </p:nvPicPr>
        <p:blipFill>
          <a:blip r:embed="rId1"/>
          <a:stretch/>
        </p:blipFill>
        <p:spPr>
          <a:xfrm>
            <a:off x="987480" y="1596960"/>
            <a:ext cx="1231920" cy="12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i30MVLZ81"/>
          <p:cNvPicPr/>
          <p:nvPr/>
        </p:nvPicPr>
        <p:blipFill>
          <a:blip r:embed="rId2"/>
          <a:stretch/>
        </p:blipFill>
        <p:spPr>
          <a:xfrm>
            <a:off x="4443480" y="1822320"/>
            <a:ext cx="1560600" cy="1158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90244-i_009"/>
          <p:cNvPicPr/>
          <p:nvPr/>
        </p:nvPicPr>
        <p:blipFill>
          <a:blip r:embed="rId3"/>
          <a:stretch/>
        </p:blipFill>
        <p:spPr>
          <a:xfrm>
            <a:off x="7083360" y="1517760"/>
            <a:ext cx="1774800" cy="1670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tmpF43-26"/>
          <p:cNvPicPr/>
          <p:nvPr/>
        </p:nvPicPr>
        <p:blipFill>
          <a:blip r:embed="rId4"/>
          <a:stretch/>
        </p:blipFill>
        <p:spPr>
          <a:xfrm>
            <a:off x="2127240" y="4340160"/>
            <a:ext cx="1311120" cy="1176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tmpF43-27"/>
          <p:cNvPicPr/>
          <p:nvPr/>
        </p:nvPicPr>
        <p:blipFill>
          <a:blip r:embed="rId5"/>
          <a:stretch/>
        </p:blipFill>
        <p:spPr>
          <a:xfrm>
            <a:off x="5559480" y="3803760"/>
            <a:ext cx="1079280" cy="12128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0" descr="баб лет1.jpg"/>
          <p:cNvPicPr/>
          <p:nvPr/>
        </p:nvPicPr>
        <p:blipFill>
          <a:blip r:embed="rId6"/>
          <a:stretch/>
        </p:blipFill>
        <p:spPr>
          <a:xfrm>
            <a:off x="4114800" y="1909800"/>
            <a:ext cx="1371600" cy="8827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1" descr="баб лет1.jpg"/>
          <p:cNvPicPr/>
          <p:nvPr/>
        </p:nvPicPr>
        <p:blipFill>
          <a:blip r:embed="rId7"/>
          <a:stretch/>
        </p:blipFill>
        <p:spPr>
          <a:xfrm>
            <a:off x="-228600" y="285768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ловообразова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89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mic Sans MS"/>
              </a:rPr>
              <a:t>Пищи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324480" y="1219320"/>
            <a:ext cx="281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mic Sans MS"/>
              </a:rPr>
              <a:t>Крякае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8" name="Picture 8" descr="images (1)"/>
          <p:cNvPicPr/>
          <p:nvPr/>
        </p:nvPicPr>
        <p:blipFill>
          <a:blip r:embed="rId1"/>
          <a:stretch/>
        </p:blipFill>
        <p:spPr>
          <a:xfrm>
            <a:off x="603360" y="2736720"/>
            <a:ext cx="1158840" cy="1202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ц и у"/>
          <p:cNvPicPr/>
          <p:nvPr/>
        </p:nvPicPr>
        <p:blipFill>
          <a:blip r:embed="rId2"/>
          <a:stretch/>
        </p:blipFill>
        <p:spPr>
          <a:xfrm>
            <a:off x="7345440" y="2816280"/>
            <a:ext cx="1109520" cy="11523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1"/>
          <p:cNvSpPr/>
          <p:nvPr/>
        </p:nvSpPr>
        <p:spPr>
          <a:xfrm>
            <a:off x="3124080" y="1676520"/>
            <a:ext cx="1143000" cy="685800"/>
          </a:xfrm>
          <a:prstGeom prst="cloudCallout">
            <a:avLst>
              <a:gd name="adj1" fmla="val -14356"/>
              <a:gd name="adj2" fmla="val 27337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и-п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AutoShape 13"/>
          <p:cNvSpPr/>
          <p:nvPr/>
        </p:nvSpPr>
        <p:spPr>
          <a:xfrm flipH="1" flipV="1">
            <a:off x="5714280" y="1675800"/>
            <a:ext cx="1066680" cy="609480"/>
          </a:xfrm>
          <a:prstGeom prst="cloudCallout">
            <a:avLst>
              <a:gd name="adj1" fmla="val -52888"/>
              <a:gd name="adj2" fmla="val -110027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Кря-кр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AutoShape 14"/>
          <p:cNvSpPr/>
          <p:nvPr/>
        </p:nvSpPr>
        <p:spPr>
          <a:xfrm>
            <a:off x="3505320" y="2895480"/>
            <a:ext cx="380880" cy="1067040"/>
          </a:xfrm>
          <a:custGeom>
            <a:avLst/>
            <a:gdLst>
              <a:gd name="textAreaLeft" fmla="*/ 50760 w 380880"/>
              <a:gd name="textAreaRight" fmla="*/ 330120 w 380880"/>
              <a:gd name="textAreaTop" fmla="*/ 212760 h 1067040"/>
              <a:gd name="textAreaBottom" fmla="*/ 7822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7" stAng="-5400000" swAng="5400000"/>
                <a:lnTo>
                  <a:pt x="21600" y="11528"/>
                </a:lnTo>
                <a:arcTo wR="21600" hR="8617" stAng="0" swAng="2906977"/>
                <a:lnTo>
                  <a:pt x="7200" y="21107"/>
                </a:lnTo>
                <a:lnTo>
                  <a:pt x="0" y="18689"/>
                </a:lnTo>
                <a:lnTo>
                  <a:pt x="7200" y="15284"/>
                </a:lnTo>
                <a:lnTo>
                  <a:pt x="7200" y="16740"/>
                </a:lnTo>
                <a:arcTo wR="21600" hR="8617" stAng="2906977" swAng="-2672315"/>
                <a:lnTo>
                  <a:pt x="21290" y="10072"/>
                </a:lnTo>
                <a:arcTo wR="21600" hR="8617" stAng="-234662" swAng="-5165338"/>
                <a:close/>
              </a:path>
              <a:path fill="darkenLess" w="21600" h="21600">
                <a:moveTo>
                  <a:pt x="0" y="0"/>
                </a:moveTo>
                <a:arcTo wR="21600" hR="8617" stAng="-5400000" swAng="5400000"/>
                <a:lnTo>
                  <a:pt x="21600" y="11528"/>
                </a:lnTo>
                <a:arcTo wR="21600" hR="8617" stAng="0" swAng="-234662"/>
                <a:lnTo>
                  <a:pt x="21290" y="10072"/>
                </a:lnTo>
                <a:arcTo wR="21600" hR="8617" stAng="-234662" swAng="-5165338"/>
                <a:close/>
              </a:path>
            </a:pathLst>
          </a:cu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4952880" y="3352680"/>
            <a:ext cx="533520" cy="990720"/>
          </a:xfrm>
          <a:custGeom>
            <a:avLst/>
            <a:gdLst>
              <a:gd name="textAreaLeft" fmla="*/ 71280 w 533520"/>
              <a:gd name="textAreaRight" fmla="*/ 462240 w 533520"/>
              <a:gd name="textAreaTop" fmla="*/ 178200 h 990720"/>
              <a:gd name="textAreaBottom" fmla="*/ 7200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69" stAng="-5400000" swAng="-5400000"/>
                <a:lnTo>
                  <a:pt x="0" y="11811"/>
                </a:lnTo>
                <a:arcTo wR="21600" hR="7769" stAng="10800000" swAng="-2729399"/>
                <a:lnTo>
                  <a:pt x="14400" y="21156"/>
                </a:lnTo>
                <a:lnTo>
                  <a:pt x="21600" y="17558"/>
                </a:lnTo>
                <a:lnTo>
                  <a:pt x="14400" y="13072"/>
                </a:lnTo>
                <a:lnTo>
                  <a:pt x="14400" y="15093"/>
                </a:lnTo>
                <a:arcTo wR="21600" hR="7769" stAng="8070601" swAng="2397314"/>
                <a:lnTo>
                  <a:pt x="744" y="9790"/>
                </a:lnTo>
                <a:arcTo wR="21600" hR="7769" stAng="-10467914" swAng="5067914"/>
                <a:close/>
              </a:path>
              <a:path fill="darkenLess" w="21600" h="21600">
                <a:moveTo>
                  <a:pt x="21600" y="0"/>
                </a:moveTo>
                <a:arcTo wR="21600" hR="7769" stAng="-5400000" swAng="-5400000"/>
                <a:lnTo>
                  <a:pt x="0" y="7769"/>
                </a:lnTo>
                <a:arcTo wR="21600" hR="7769" stAng="10800000" swAng="-332086"/>
                <a:lnTo>
                  <a:pt x="744" y="9790"/>
                </a:lnTo>
                <a:arcTo wR="21600" hR="7769" stAng="-10467914" swAng="5067914"/>
                <a:close/>
              </a:path>
            </a:pathLst>
          </a:cu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4" name="Utka-Kryakane.mp3" descr=""/>
          <p:cNvPicPr/>
          <p:nvPr/>
        </p:nvPicPr>
        <p:blipFill>
          <a:blip r:embed="rId3"/>
          <a:stretch/>
        </p:blipFill>
        <p:spPr>
          <a:xfrm>
            <a:off x="701028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5" name="zvuki-Cyplyata(muzofon.com).mp3" descr=""/>
          <p:cNvPicPr/>
          <p:nvPr/>
        </p:nvPicPr>
        <p:blipFill>
          <a:blip r:embed="rId4"/>
          <a:stretch/>
        </p:blipFill>
        <p:spPr>
          <a:xfrm>
            <a:off x="19810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8" descr="баб6"/>
          <p:cNvPicPr/>
          <p:nvPr/>
        </p:nvPicPr>
        <p:blipFill>
          <a:blip r:embed="rId5"/>
          <a:stretch/>
        </p:blipFill>
        <p:spPr>
          <a:xfrm rot="21025800">
            <a:off x="762120" y="2895480"/>
            <a:ext cx="1428480" cy="571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9" descr="баб6"/>
          <p:cNvPicPr/>
          <p:nvPr/>
        </p:nvPicPr>
        <p:blipFill>
          <a:blip r:embed="rId6"/>
          <a:stretch/>
        </p:blipFill>
        <p:spPr>
          <a:xfrm rot="888000">
            <a:off x="7086600" y="2971800"/>
            <a:ext cx="1428840" cy="571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87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59533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Поиграем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Цыплята клюют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зер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Утята плаваю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1" name="Picture 4" descr="клюют"/>
          <p:cNvPicPr/>
          <p:nvPr/>
        </p:nvPicPr>
        <p:blipFill>
          <a:blip r:embed="rId1"/>
          <a:stretch/>
        </p:blipFill>
        <p:spPr>
          <a:xfrm>
            <a:off x="1646280" y="1901880"/>
            <a:ext cx="1365120" cy="1152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плав"/>
          <p:cNvPicPr/>
          <p:nvPr/>
        </p:nvPicPr>
        <p:blipFill>
          <a:blip r:embed="rId2"/>
          <a:stretch/>
        </p:blipFill>
        <p:spPr>
          <a:xfrm>
            <a:off x="7083360" y="1901880"/>
            <a:ext cx="1609920" cy="1017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Аппликация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000066"/>
                </a:solidFill>
                <a:latin typeface="Comic Sans MS"/>
              </a:rPr>
              <a:t>Утята и цыплята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5" name="Рисунок 3" descr="Фото0125.jpg"/>
          <p:cNvPicPr/>
          <p:nvPr/>
        </p:nvPicPr>
        <p:blipFill>
          <a:blip r:embed="rId1"/>
          <a:stretch/>
        </p:blipFill>
        <p:spPr>
          <a:xfrm>
            <a:off x="3121200" y="3803760"/>
            <a:ext cx="1304640" cy="981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Фото0127.jpg"/>
          <p:cNvPicPr/>
          <p:nvPr/>
        </p:nvPicPr>
        <p:blipFill>
          <a:blip r:embed="rId2"/>
          <a:stretch/>
        </p:blipFill>
        <p:spPr>
          <a:xfrm>
            <a:off x="6924600" y="3328920"/>
            <a:ext cx="744480" cy="9255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Фото0128.jpg"/>
          <p:cNvPicPr/>
          <p:nvPr/>
        </p:nvPicPr>
        <p:blipFill>
          <a:blip r:embed="rId3"/>
          <a:stretch/>
        </p:blipFill>
        <p:spPr>
          <a:xfrm>
            <a:off x="792000" y="3621240"/>
            <a:ext cx="1170000" cy="14508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6" descr="баб лет1.jpg"/>
          <p:cNvPicPr/>
          <p:nvPr/>
        </p:nvPicPr>
        <p:blipFill>
          <a:blip r:embed="rId4"/>
          <a:stretch/>
        </p:blipFill>
        <p:spPr>
          <a:xfrm>
            <a:off x="3505320" y="-228600"/>
            <a:ext cx="5333760" cy="40006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баб лет1.jpg"/>
          <p:cNvPicPr/>
          <p:nvPr/>
        </p:nvPicPr>
        <p:blipFill>
          <a:blip r:embed="rId5"/>
          <a:stretch/>
        </p:blipFill>
        <p:spPr>
          <a:xfrm>
            <a:off x="609480" y="8380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Прямоугольник 1" descr=""/>
          <p:cNvPicPr/>
          <p:nvPr/>
        </p:nvPicPr>
        <p:blipFill>
          <a:blip r:embed="rId1"/>
          <a:stretch/>
        </p:blipFill>
        <p:spPr>
          <a:xfrm>
            <a:off x="2444760" y="2816280"/>
            <a:ext cx="57913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5-10-17T05:49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