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84288476958634"/>
          <c:y val="0.0397191011235955"/>
          <c:w val="0.474505919532098"/>
          <c:h val="0.8916292134831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формирование словаря</c:v>
                </c:pt>
              </c:strCache>
            </c:strRef>
          </c:tx>
          <c:spPr>
            <a:solidFill>
              <a:srgbClr val="3891a7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799" spc="-1" strike="noStrike">
                    <a:solidFill>
                      <a:srgbClr val="000000"/>
                    </a:solidFill>
                    <a:latin typeface="Gill Sans MT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2012г./2013г. Начало учебного года</c:v>
                </c:pt>
                <c:pt idx="1">
                  <c:v>2013г./2014г. Конец учебного года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0.53</c:v>
                </c:pt>
                <c:pt idx="1">
                  <c:v>0.8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грамматический строй речи</c:v>
                </c:pt>
              </c:strCache>
            </c:strRef>
          </c:tx>
          <c:spPr>
            <a:solidFill>
              <a:srgbClr val="feb80a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799" spc="-1" strike="noStrike">
                    <a:solidFill>
                      <a:srgbClr val="000000"/>
                    </a:solidFill>
                    <a:latin typeface="Gill Sans MT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2012г./2013г. Начало учебного года</c:v>
                </c:pt>
                <c:pt idx="1">
                  <c:v>2013г./2014г. Конец учебного года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0.29</c:v>
                </c:pt>
                <c:pt idx="1">
                  <c:v>0.49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связная речь</c:v>
                </c:pt>
              </c:strCache>
            </c:strRef>
          </c:tx>
          <c:spPr>
            <a:solidFill>
              <a:srgbClr val="c32d2e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799" spc="-1" strike="noStrike">
                    <a:solidFill>
                      <a:srgbClr val="000000"/>
                    </a:solidFill>
                    <a:latin typeface="Gill Sans MT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2012г./2013г. Начало учебного года</c:v>
                </c:pt>
                <c:pt idx="1">
                  <c:v>2013г./2014г. Конец учебного года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0.38</c:v>
                </c:pt>
                <c:pt idx="1">
                  <c:v>0.68</c:v>
                </c:pt>
              </c:numCache>
            </c:numRef>
          </c:val>
        </c:ser>
        <c:gapWidth val="150"/>
        <c:overlap val="0"/>
        <c:axId val="94560802"/>
        <c:axId val="30139839"/>
      </c:barChart>
      <c:catAx>
        <c:axId val="9456080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799" spc="-1" strike="noStrike">
                <a:solidFill>
                  <a:srgbClr val="000000"/>
                </a:solidFill>
                <a:latin typeface="Gill Sans MT"/>
              </a:defRPr>
            </a:pPr>
          </a:p>
        </c:txPr>
        <c:crossAx val="30139839"/>
        <c:crosses val="autoZero"/>
        <c:auto val="1"/>
        <c:lblAlgn val="ctr"/>
        <c:lblOffset val="100"/>
        <c:noMultiLvlLbl val="0"/>
      </c:catAx>
      <c:valAx>
        <c:axId val="30139839"/>
        <c:scaling>
          <c:orientation val="minMax"/>
        </c:scaling>
        <c:delete val="0"/>
        <c:axPos val="l"/>
        <c:majorGridlines>
          <c:spPr>
            <a:ln w="9360">
              <a:solidFill>
                <a:srgbClr val="8b8b8b"/>
              </a:solidFill>
              <a:round/>
            </a:ln>
          </c:spPr>
        </c:majorGridlines>
        <c:numFmt formatCode="0%" sourceLinked="0"/>
        <c:majorTickMark val="out"/>
        <c:minorTickMark val="none"/>
        <c:tickLblPos val="nextTo"/>
        <c:spPr>
          <a:ln w="936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799" spc="-1" strike="noStrike">
                <a:solidFill>
                  <a:srgbClr val="000000"/>
                </a:solidFill>
                <a:latin typeface="Gill Sans MT"/>
              </a:defRPr>
            </a:pPr>
          </a:p>
        </c:txPr>
        <c:crossAx val="94560802"/>
        <c:crosses val="autoZero"/>
        <c:crossBetween val="between"/>
      </c:valAx>
      <c:spPr>
        <a:noFill/>
        <a:ln w="25560">
          <a:noFill/>
        </a:ln>
      </c:spPr>
    </c:plotArea>
    <c:legend>
      <c:legendPos val="r"/>
      <c:layout>
        <c:manualLayout>
          <c:xMode val="edge"/>
          <c:yMode val="edge"/>
          <c:x val="0.527783724549383"/>
          <c:y val="0.201363203736334"/>
          <c:w val="0.395675429078132"/>
          <c:h val="0.440703352828257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799" spc="-1" strike="noStrike">
              <a:solidFill>
                <a:srgbClr val="000000"/>
              </a:solidFill>
              <a:latin typeface="Gill Sans MT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0D7C-6034-4B83-A698-47C6361F9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D5CA-949D-4BEA-B83B-ADD7A064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9648-2198-4EF6-AF38-671BED8BD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C838-2149-4A08-AFCA-A4061424D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E894-B582-4346-A04E-1AC24DA3F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DF4A-4CC0-4D4C-ADAC-7062CC59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431B-214B-4B52-BAE3-7B40A914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D27A-6908-4C76-A447-DE153B05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DD04-5925-42F7-8DD5-4EAF43DE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62A6-CD10-40FB-AAC4-AFAB1909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1C43-7278-4834-A0D5-164775B8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89C4-E879-4812-A561-E9D84E8B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F932-DFC9-4D64-8065-DA9B01D3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D134-04CC-453A-810B-7BD0B468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F02E-A8A6-4A3F-9195-D1CB66B0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D2A6-45C4-4E80-8B29-1E40228D5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7D46-C347-4B7F-AF09-C068B157A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C687D-2218-4AB7-95DE-EE1E3EFC4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06F92-B48C-4E6A-9ECE-B7B46E79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9A035-4FDB-41AE-BECE-A8B0C186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07C64-DA16-4152-8554-C908BBE0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4C492-B794-443F-9F04-83FD27AA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E3DB-3711-40BD-A428-BD44B819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95E9F-DA1C-45D5-9EEE-F963C457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1C93C-4837-4864-B1EA-B4B52AF1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99FEB-E763-4A11-9B74-73EBDAE4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D66AD-98E3-4AA6-98E1-552BA29E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66908-5B3B-4F30-8422-C145A0CE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0CB89-758E-44C5-83B4-AC6BC1007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D4A21-AED8-4926-9E05-48AFB2446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29779-3862-43C2-AAF7-ED7F3BB68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0721F-545C-4BA2-844A-17EBF3D2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76F5D-CAB5-441D-981E-2A35645A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A6AA-6D9A-458E-B173-96A7BDE5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818C1-F37F-45D5-9AAB-DE2EED94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D17F7-B73F-4EAF-B986-25D3E2BE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3ECB0-7DD1-44A6-B0E8-94CE1F3B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C874D-57D1-4DA0-94C4-27B3BEA2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C4C08-7839-4DDD-831E-F079FB56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883DF-A6F8-4439-8A26-D1F94270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82148-1CAB-4669-A1F0-D4E4B2ED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69963-52B2-41C9-8D07-D5863C836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E0910-0970-43F6-9E1D-AB7D69CD9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1479-9B91-445B-B777-153E4C71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D94D-FB9A-4B70-87C4-112CE3FB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B6F3-0BE4-47C8-B118-F04AD080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5F6D-A5D2-4E64-AE7B-3F443147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06AB-E860-451D-BF62-C686184C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000" cy="163800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160" cy="170316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Прямоугольник 11"/>
          <p:cNvSpPr/>
          <p:nvPr/>
        </p:nvSpPr>
        <p:spPr>
          <a:xfrm>
            <a:off x="1012680" y="0"/>
            <a:ext cx="813096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" name="Прямоугольник 14"/>
          <p:cNvSpPr/>
          <p:nvPr/>
        </p:nvSpPr>
        <p:spPr>
          <a:xfrm>
            <a:off x="101448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" name="Овал 3"/>
          <p:cNvSpPr/>
          <p:nvPr/>
        </p:nvSpPr>
        <p:spPr>
          <a:xfrm>
            <a:off x="921600" y="1413720"/>
            <a:ext cx="209880" cy="209880"/>
          </a:xfrm>
          <a:prstGeom prst="ellipse">
            <a:avLst/>
          </a:prstGeom>
          <a:gradFill rotWithShape="0">
            <a:gsLst>
              <a:gs pos="0">
                <a:srgbClr val="daf5fe">
                  <a:alpha val="95294"/>
                </a:srgbClr>
              </a:gs>
              <a:gs pos="100000">
                <a:srgbClr val="00aad4">
                  <a:alpha val="85098"/>
                </a:srgbClr>
              </a:gs>
            </a:gsLst>
            <a:path path="circle">
              <a:fillToRect l="25000" t="12000" r="75000" b="88000"/>
            </a:path>
          </a:gradFill>
          <a:ln cap="rnd" w="2000">
            <a:solidFill>
              <a:srgbClr val="3891a7">
                <a:shade val="90000"/>
                <a:satMod val="110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6" name="Овал 4"/>
          <p:cNvSpPr/>
          <p:nvPr/>
        </p:nvSpPr>
        <p:spPr>
          <a:xfrm>
            <a:off x="1157400" y="1344600"/>
            <a:ext cx="63000" cy="64800"/>
          </a:xfrm>
          <a:prstGeom prst="ellipse">
            <a:avLst/>
          </a:prstGeom>
          <a:noFill/>
          <a:ln cap="rnd" w="12700">
            <a:solidFill>
              <a:srgbClr val="3891a7">
                <a:shade val="75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409B455-339D-48E0-9305-0D459A494BD8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000" cy="163800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160" cy="170316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0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Прямоугольник 11"/>
          <p:cNvSpPr/>
          <p:nvPr/>
        </p:nvSpPr>
        <p:spPr>
          <a:xfrm>
            <a:off x="1012680" y="0"/>
            <a:ext cx="813096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2" name="Прямоугольник 14"/>
          <p:cNvSpPr/>
          <p:nvPr/>
        </p:nvSpPr>
        <p:spPr>
          <a:xfrm>
            <a:off x="101448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916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82EBD78-BF0B-4CE4-A2C6-39FBA55F123A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ирог 6"/>
          <p:cNvSpPr/>
          <p:nvPr/>
        </p:nvSpPr>
        <p:spPr>
          <a:xfrm>
            <a:off x="-816120" y="-816120"/>
            <a:ext cx="1638000" cy="163800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5" name="Овал 7"/>
          <p:cNvSpPr/>
          <p:nvPr/>
        </p:nvSpPr>
        <p:spPr>
          <a:xfrm>
            <a:off x="168120" y="20520"/>
            <a:ext cx="1703160" cy="170316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6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7" name="Прямоугольник 11"/>
          <p:cNvSpPr/>
          <p:nvPr/>
        </p:nvSpPr>
        <p:spPr>
          <a:xfrm>
            <a:off x="1012680" y="0"/>
            <a:ext cx="813096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8" name="Прямоугольник 14"/>
          <p:cNvSpPr/>
          <p:nvPr/>
        </p:nvSpPr>
        <p:spPr>
          <a:xfrm>
            <a:off x="101448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435680" y="1523880"/>
            <a:ext cx="3657240" cy="4663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36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ct val="100000"/>
              </a:lnSpc>
              <a:spcBef>
                <a:spcPts val="36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body"/>
          </p:nvPr>
        </p:nvSpPr>
        <p:spPr>
          <a:xfrm>
            <a:off x="5276160" y="1523880"/>
            <a:ext cx="3657240" cy="4663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36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ct val="100000"/>
              </a:lnSpc>
              <a:spcBef>
                <a:spcPts val="36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7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457882F-9C97-4A00-9CF9-938EBF20F6EC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ирог 6" hidden="1"/>
          <p:cNvSpPr/>
          <p:nvPr/>
        </p:nvSpPr>
        <p:spPr>
          <a:xfrm>
            <a:off x="-816120" y="-816120"/>
            <a:ext cx="1638000" cy="163800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2" name="Овал 7" hidden="1"/>
          <p:cNvSpPr/>
          <p:nvPr/>
        </p:nvSpPr>
        <p:spPr>
          <a:xfrm>
            <a:off x="168120" y="20520"/>
            <a:ext cx="1703160" cy="170316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3" name="Кольцо 10" hidden="1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4" name="Прямоугольник 11" hidden="1"/>
          <p:cNvSpPr/>
          <p:nvPr/>
        </p:nvSpPr>
        <p:spPr>
          <a:xfrm>
            <a:off x="1012680" y="0"/>
            <a:ext cx="813096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5" name="Прямоугольник 14" hidden="1"/>
          <p:cNvSpPr/>
          <p:nvPr/>
        </p:nvSpPr>
        <p:spPr>
          <a:xfrm>
            <a:off x="101448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6" name="Прямоугольник 1"/>
          <p:cNvSpPr/>
          <p:nvPr/>
        </p:nvSpPr>
        <p:spPr>
          <a:xfrm>
            <a:off x="1014480" y="0"/>
            <a:ext cx="812916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7" name="Прямоугольник 2"/>
          <p:cNvSpPr/>
          <p:nvPr/>
        </p:nvSpPr>
        <p:spPr>
          <a:xfrm>
            <a:off x="101448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dt" idx="10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ftr" idx="11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Num" idx="12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F2D4049-454C-4DD0-A442-73CE270A1C58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2080" y="260280"/>
            <a:ext cx="7407000" cy="136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5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Здоровьесберегающая технология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187640" y="1857240"/>
            <a:ext cx="7719480" cy="4739760"/>
          </a:xfrm>
          <a:prstGeom prst="rect">
            <a:avLst/>
          </a:prstGeom>
          <a:noFill/>
          <a:ln w="9360">
            <a:noFill/>
          </a:ln>
        </p:spPr>
        <p:txBody>
          <a:bodyPr numCol="1" spcCol="0" tIns="0" anchor="t">
            <a:normAutofit/>
          </a:bodyPr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36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36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36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36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36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36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3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«СКАЗКОТЕРАПИЯ В ДО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I:\Users\Березовские\Desktop\emelia.jpg"/>
          <p:cNvPicPr/>
          <p:nvPr/>
        </p:nvPicPr>
        <p:blipFill>
          <a:blip r:embed="rId1"/>
          <a:stretch/>
        </p:blipFill>
        <p:spPr>
          <a:xfrm>
            <a:off x="2949480" y="1772640"/>
            <a:ext cx="4366080" cy="3172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C:\Users\Администратор\Desktop\фото для презентации\IMG_2187.JPG"/>
          <p:cNvPicPr/>
          <p:nvPr/>
        </p:nvPicPr>
        <p:blipFill>
          <a:blip r:embed="rId1"/>
          <a:stretch/>
        </p:blipFill>
        <p:spPr>
          <a:xfrm>
            <a:off x="1547640" y="1556640"/>
            <a:ext cx="2894400" cy="4362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C:\Users\Администратор\Desktop\фото для презентации\IMG_2188.JPG"/>
          <p:cNvPicPr/>
          <p:nvPr/>
        </p:nvPicPr>
        <p:blipFill>
          <a:blip r:embed="rId2"/>
          <a:stretch/>
        </p:blipFill>
        <p:spPr>
          <a:xfrm>
            <a:off x="4860000" y="332640"/>
            <a:ext cx="4094280" cy="3070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C:\Users\Администратор\Desktop\фото для презентации\IMG_2190.JPG"/>
          <p:cNvPicPr/>
          <p:nvPr/>
        </p:nvPicPr>
        <p:blipFill>
          <a:blip r:embed="rId3"/>
          <a:stretch/>
        </p:blipFill>
        <p:spPr>
          <a:xfrm>
            <a:off x="4875480" y="3573000"/>
            <a:ext cx="4062960" cy="304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3" descr="C:\Users\Администратор\Desktop\фото для презентации\IMG_0793.JPG"/>
          <p:cNvPicPr/>
          <p:nvPr/>
        </p:nvPicPr>
        <p:blipFill>
          <a:blip r:embed="rId1"/>
          <a:stretch/>
        </p:blipFill>
        <p:spPr>
          <a:xfrm>
            <a:off x="1331640" y="1432440"/>
            <a:ext cx="3065760" cy="45914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C:\Users\Администратор\Desktop\фото для презентации\IMG_0799.JPG"/>
          <p:cNvPicPr/>
          <p:nvPr/>
        </p:nvPicPr>
        <p:blipFill>
          <a:blip r:embed="rId2"/>
          <a:stretch/>
        </p:blipFill>
        <p:spPr>
          <a:xfrm>
            <a:off x="4853160" y="404640"/>
            <a:ext cx="3968280" cy="2976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C:\Users\Администратор\Desktop\фото для презентации\IMG_0803.JPG"/>
          <p:cNvPicPr/>
          <p:nvPr/>
        </p:nvPicPr>
        <p:blipFill>
          <a:blip r:embed="rId3"/>
          <a:stretch/>
        </p:blipFill>
        <p:spPr>
          <a:xfrm>
            <a:off x="4888440" y="3728160"/>
            <a:ext cx="3939840" cy="295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Диаграмма 3"/>
          <p:cNvGraphicFramePr/>
          <p:nvPr/>
        </p:nvGraphicFramePr>
        <p:xfrm>
          <a:off x="1187640" y="116640"/>
          <a:ext cx="7632000" cy="6407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35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казкотерапия –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интегративная деятельность, в которой действия воображаемой ситуации связаны с реальным общением, направленным на активность, самостоятельность, творчество, регулирование ребенком собственных эмоциональных состояний</a:t>
            </a:r>
            <a:r>
              <a:rPr b="0" lang="ru-RU" sz="3200" spc="-1" strike="noStrike">
                <a:solidFill>
                  <a:srgbClr val="002060"/>
                </a:solidFill>
                <a:latin typeface="Gill Sans MT"/>
              </a:rPr>
              <a:t>.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960" y="2997000"/>
            <a:ext cx="7499160" cy="3251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82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казкотерапия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- это процесс поиска смысла, расшифровки знаний о мире и системе взаимоотношений в нем; образования связи между сказочными событиями и поведением в реальной жизни;  активизации ресурсов, потенциала личности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Gill Sans MT"/>
              </a:rPr>
              <a:t>Принципы сказкотерапии: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34960" y="836640"/>
            <a:ext cx="7499160" cy="5411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82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Gill Sans MT"/>
              </a:rPr>
              <a:t>1.</a:t>
            </a:r>
            <a:r>
              <a:rPr b="0" lang="ru-RU" sz="2800" spc="-1" strike="noStrike">
                <a:solidFill>
                  <a:srgbClr val="002060"/>
                </a:solidFill>
                <a:latin typeface="Gill Sans MT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К коррекции необходимо подходить постепенно, начиная с простых упражнений и заканчивая более сложными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82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2.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В процессе работы необходимо создать условия, которые помогут ребенку самореализоваться благодаря полученным знаниям и опыту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82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3.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Необходимым условием качественной работы является также наличие интегративности и непрерывности.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82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03640" y="0"/>
            <a:ext cx="7499160" cy="33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Целью  речевой сказкотерапии: </a:t>
            </a:r>
            <a:br>
              <a:rPr sz="3200"/>
            </a:b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является применение сказок как средства развития связной речи у дошкольников. 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403640" y="1700640"/>
            <a:ext cx="7499160" cy="5400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Задачи речевой сказкотерапии: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- развитие речи ;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- выявление творческих способностей ребенка;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- снижение уровня агрессивности и тревожности;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-  развитие коммуникативных способностей;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- обучение преодолению страхов и трудностей;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- развитие способности к выражению эмоций.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75640" y="274680"/>
            <a:ext cx="7458480" cy="18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риёмы речевой сказкотерапии: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34960" y="2205000"/>
            <a:ext cx="7499160" cy="4043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82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- режиссёрская игра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- словесная игра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- комментирование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- пантомима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- музыкальные и ритмические загадки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-171360"/>
            <a:ext cx="74991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Формы работы со сказкой: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15640" y="980640"/>
            <a:ext cx="7818480" cy="4896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1.Прослушивание сказк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2.Анализ сказк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3.Рассказывание сказк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4.Пересказ сказк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5.Сочинение сказк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6.Рисование сказк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7.Решение сказочных задач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8.Переписывание или перевирание сказк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9.Иллюстрирование сказк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10.Инсценирование сказк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Структура занятия по сказкотерапии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523880"/>
            <a:ext cx="3657240" cy="4663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Ритуал «входа» в сказку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Повторение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Расширение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Закрепление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Интеграция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Резюмирование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Ритуал «выхода» из сказки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0000"/>
                </a:solidFill>
                <a:latin typeface="Gill Sans MT"/>
              </a:rPr>
              <a:t>Формы проведения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Gill Sans MT"/>
              </a:rPr>
              <a:t>занятий по сказкотерапии: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691640" y="1989000"/>
            <a:ext cx="5832000" cy="3816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82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82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НДИВИДУАЛЬНАЯ РАБОТА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82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РАБОТА В ГРУППЕ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0"/>
            <a:ext cx="749916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Драматизации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 rot="10800000">
            <a:off x="1434960" y="6858360"/>
            <a:ext cx="7499160" cy="45360"/>
          </a:xfrm>
          <a:prstGeom prst="rect">
            <a:avLst/>
          </a:prstGeom>
          <a:noFill/>
          <a:ln w="9360">
            <a:noFill/>
          </a:ln>
        </p:spPr>
        <p:txBody>
          <a:bodyPr numCol="1" spcCol="0" tIns="22680" bIns="2268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08" name="Picture 2" descr="C:\Users\Администратор\Desktop\фото для презентации\IMG_2716.JPG"/>
          <p:cNvPicPr/>
          <p:nvPr/>
        </p:nvPicPr>
        <p:blipFill>
          <a:blip r:embed="rId1"/>
          <a:stretch/>
        </p:blipFill>
        <p:spPr>
          <a:xfrm>
            <a:off x="1298520" y="1291320"/>
            <a:ext cx="3777120" cy="2833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C:\Users\Администратор\Desktop\фото для презентации\IMG_2720.JPG"/>
          <p:cNvPicPr/>
          <p:nvPr/>
        </p:nvPicPr>
        <p:blipFill>
          <a:blip r:embed="rId2"/>
          <a:stretch/>
        </p:blipFill>
        <p:spPr>
          <a:xfrm>
            <a:off x="5220000" y="3669480"/>
            <a:ext cx="374400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olstice</Template>
  <TotalTime>1868</TotalTime>
  <Application>LibreOffice/7.4.7.2$Linux_X86_64 LibreOffice_project/40$Build-2</Application>
  <AppVersion>15.0000</AppVersion>
  <Words>201</Words>
  <Paragraphs>5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09:01:20Z</dcterms:created>
  <dc:creator>Березовские</dc:creator>
  <dc:description/>
  <dc:language>en-US</dc:language>
  <cp:lastModifiedBy>Администратор</cp:lastModifiedBy>
  <dcterms:modified xsi:type="dcterms:W3CDTF">2015-10-17T16:40:55Z</dcterms:modified>
  <cp:revision>76</cp:revision>
  <dc:subject/>
  <dc:title>Сказкотерапия в работе с дошкольника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2</vt:r8>
  </property>
</Properties>
</file>