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84288476958634"/>
          <c:y val="0.0397191011235955"/>
          <c:w val="0.474505919532098"/>
          <c:h val="0.8916292134831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формирование словаря</c:v>
                </c:pt>
              </c:strCache>
            </c:strRef>
          </c:tx>
          <c:spPr>
            <a:solidFill>
              <a:srgbClr val="3891a7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799" spc="-1" strike="noStrike">
                    <a:solidFill>
                      <a:srgbClr val="000000"/>
                    </a:solidFill>
                    <a:latin typeface="Gill Sans MT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2012г./2013г. Начало учебного года</c:v>
                </c:pt>
                <c:pt idx="1">
                  <c:v>2013г./2014г. Конец учебного год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53</c:v>
                </c:pt>
                <c:pt idx="1">
                  <c:v>0.8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грамматический строй речи</c:v>
                </c:pt>
              </c:strCache>
            </c:strRef>
          </c:tx>
          <c:spPr>
            <a:solidFill>
              <a:srgbClr val="feb80a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799" spc="-1" strike="noStrike">
                    <a:solidFill>
                      <a:srgbClr val="000000"/>
                    </a:solidFill>
                    <a:latin typeface="Gill Sans MT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2012г./2013г. Начало учебного года</c:v>
                </c:pt>
                <c:pt idx="1">
                  <c:v>2013г./2014г. Конец учебного года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0.29</c:v>
                </c:pt>
                <c:pt idx="1">
                  <c:v>0.49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вязная речь</c:v>
                </c:pt>
              </c:strCache>
            </c:strRef>
          </c:tx>
          <c:spPr>
            <a:solidFill>
              <a:srgbClr val="c32d2e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799" spc="-1" strike="noStrike">
                    <a:solidFill>
                      <a:srgbClr val="000000"/>
                    </a:solidFill>
                    <a:latin typeface="Gill Sans MT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2012г./2013г. Начало учебного года</c:v>
                </c:pt>
                <c:pt idx="1">
                  <c:v>2013г./2014г. Конец учебного года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0.38</c:v>
                </c:pt>
                <c:pt idx="1">
                  <c:v>0.68</c:v>
                </c:pt>
              </c:numCache>
            </c:numRef>
          </c:val>
        </c:ser>
        <c:gapWidth val="150"/>
        <c:overlap val="0"/>
        <c:axId val="99522145"/>
        <c:axId val="2394518"/>
      </c:barChart>
      <c:catAx>
        <c:axId val="9952214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799" spc="-1" strike="noStrike">
                <a:solidFill>
                  <a:srgbClr val="000000"/>
                </a:solidFill>
                <a:latin typeface="Gill Sans MT"/>
              </a:defRPr>
            </a:pPr>
          </a:p>
        </c:txPr>
        <c:crossAx val="2394518"/>
        <c:crosses val="autoZero"/>
        <c:auto val="1"/>
        <c:lblAlgn val="ctr"/>
        <c:lblOffset val="100"/>
        <c:noMultiLvlLbl val="0"/>
      </c:catAx>
      <c:valAx>
        <c:axId val="2394518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numFmt formatCode="0%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799" spc="-1" strike="noStrike">
                <a:solidFill>
                  <a:srgbClr val="000000"/>
                </a:solidFill>
                <a:latin typeface="Gill Sans MT"/>
              </a:defRPr>
            </a:pPr>
          </a:p>
        </c:txPr>
        <c:crossAx val="99522145"/>
        <c:crosses val="autoZero"/>
        <c:crossBetween val="between"/>
      </c:valAx>
      <c:spPr>
        <a:noFill/>
        <a:ln w="25560">
          <a:noFill/>
        </a:ln>
      </c:spPr>
    </c:plotArea>
    <c:legend>
      <c:legendPos val="r"/>
      <c:layout>
        <c:manualLayout>
          <c:xMode val="edge"/>
          <c:yMode val="edge"/>
          <c:x val="0.527783724549383"/>
          <c:y val="0.201363203736334"/>
          <c:w val="0.395675429078132"/>
          <c:h val="0.440703352828257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799" spc="-1" strike="noStrike">
              <a:solidFill>
                <a:srgbClr val="000000"/>
              </a:solidFill>
              <a:latin typeface="Gill Sans MT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1FEA-00FF-4FEE-BFAC-5799B0B0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4D1-2F6B-4433-AAEE-A8F66CD4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6BC-540B-4A1C-8409-3EC3795E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A320-0DFE-4D0E-ABD1-BF730839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B6A1-B82E-402B-8C47-2B49E5A3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E8CF-F8DF-4F6E-9E39-0FF49B94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4B60-13F4-4896-9835-8F5C927D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F039-5DEB-456D-8DE2-4FC009BA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CF5C-738A-4F48-93B3-35754DC1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2CC1-6722-4BE6-9B92-799DB8A0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6665-1C70-4300-94F7-AF7F7789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0E88-F25E-4991-A9F3-9D9FB1EB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5588-516F-437D-B1F6-E5D2E99D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8C48-3FB9-4337-B1B1-25792CB5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45F2-BA46-4BF7-8E1F-7C42DF6D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0902-1E71-4D9C-AE4A-58432714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1495-AC9A-41BC-A4E6-AF24226A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75A35-79C6-407F-9DD9-D7243FD8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5B7E6-2909-4565-A83B-22CE35FF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169D2-1413-4286-AAA5-0B44AA06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44966-0D5F-4412-BBB4-DEC0B825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4218A-7004-4A0B-9FE1-57491CAB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0D5-BF5E-4CB0-83F9-FCAE1358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07F42-C958-44DC-ACF3-FDCBCEA9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F7B6D-F6AA-4F41-A140-B77BB0F0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5D33B-E535-4057-A3B3-D1550BA5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1F88-75D9-497C-8BDF-011C7D63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8A56D-562C-4261-B897-47AF9530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50B2D-CEC8-46B9-9268-3362E200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BAA6E-CCBD-4556-A9E4-D642C01E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09733-4218-4425-A08C-51670883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AFCA1-17A7-4406-A461-BD8471E3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6A331-E292-4E7D-9087-2E558054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4A8-6349-4E4C-89B0-6910F1A4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C2025-6027-4AB8-8DD9-CAAEF4D9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DFC16-138A-4D3F-A8D2-FCDBF79A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A4590-38B8-4BEA-BA3F-F5A51DDC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673A8-09EC-406D-A448-008FD253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3AAD2-9307-411D-88D5-A90C00EF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B6D8D-002A-4957-9690-0A3BC9F6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9D7F2-311C-4346-96E8-1AE99DD3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C2695-6010-4ECB-BECF-BC15DFCB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4DF1E-CC27-44AF-96F0-52445D74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8DE-DB46-47E7-AF5B-B47E66B9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DF0-596E-457A-B10C-AD9339DA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F608-8EC4-49B9-9E4B-FD3D6D47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84A-3671-4464-92E7-40A02881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32B2-A6AF-434D-A43F-24CD9A95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Овал 3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6" name="Овал 4"/>
          <p:cNvSpPr/>
          <p:nvPr/>
        </p:nvSpPr>
        <p:spPr>
          <a:xfrm>
            <a:off x="1157400" y="1344600"/>
            <a:ext cx="63000" cy="6480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23317E4-16DA-4383-9751-6F2F61C70F83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482748A-FA31-4037-B235-BF66D1BFEFFF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5276160" y="1523880"/>
            <a:ext cx="3657240" cy="466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7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702278B-E6DB-4227-B017-9883EBE55265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ирог 6" hidden="1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2" name="Овал 7" hidden="1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3" name="Кольцо 10" hidden="1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4" name="Прямоугольник 11" hidden="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5" name="Прямоугольник 14" hidden="1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1014480" y="0"/>
            <a:ext cx="81291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dt" idx="10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ftr" idx="11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12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3481325-E875-4568-A4CC-EEEA20B66236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2080" y="260280"/>
            <a:ext cx="7407000" cy="136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доровьесберегающая технологи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187640" y="1857240"/>
            <a:ext cx="7719480" cy="4739760"/>
          </a:xfrm>
          <a:prstGeom prst="rect">
            <a:avLst/>
          </a:prstGeom>
          <a:noFill/>
          <a:ln w="9360">
            <a:noFill/>
          </a:ln>
        </p:spPr>
        <p:txBody>
          <a:bodyPr numCol="1" spcCol="0" tIns="0" anchor="t">
            <a:norm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СКАЗКОТЕРАПИЯ В ДО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I:\Users\Березовские\Desktop\emelia.jpg"/>
          <p:cNvPicPr/>
          <p:nvPr/>
        </p:nvPicPr>
        <p:blipFill>
          <a:blip r:embed="rId1"/>
          <a:stretch/>
        </p:blipFill>
        <p:spPr>
          <a:xfrm>
            <a:off x="2949480" y="1772640"/>
            <a:ext cx="4366080" cy="3172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Users\Администратор\Desktop\фото для презентации\IMG_2187.JPG"/>
          <p:cNvPicPr/>
          <p:nvPr/>
        </p:nvPicPr>
        <p:blipFill>
          <a:blip r:embed="rId1"/>
          <a:stretch/>
        </p:blipFill>
        <p:spPr>
          <a:xfrm>
            <a:off x="1547640" y="1556640"/>
            <a:ext cx="2894400" cy="436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C:\Users\Администратор\Desktop\фото для презентации\IMG_2188.JPG"/>
          <p:cNvPicPr/>
          <p:nvPr/>
        </p:nvPicPr>
        <p:blipFill>
          <a:blip r:embed="rId2"/>
          <a:stretch/>
        </p:blipFill>
        <p:spPr>
          <a:xfrm>
            <a:off x="4860000" y="332640"/>
            <a:ext cx="4094280" cy="3070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C:\Users\Администратор\Desktop\фото для презентации\IMG_2190.JPG"/>
          <p:cNvPicPr/>
          <p:nvPr/>
        </p:nvPicPr>
        <p:blipFill>
          <a:blip r:embed="rId3"/>
          <a:stretch/>
        </p:blipFill>
        <p:spPr>
          <a:xfrm>
            <a:off x="4875480" y="3573000"/>
            <a:ext cx="4062960" cy="304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C:\Users\Администратор\Desktop\фото для презентации\IMG_0793.JPG"/>
          <p:cNvPicPr/>
          <p:nvPr/>
        </p:nvPicPr>
        <p:blipFill>
          <a:blip r:embed="rId1"/>
          <a:stretch/>
        </p:blipFill>
        <p:spPr>
          <a:xfrm>
            <a:off x="1331640" y="1432440"/>
            <a:ext cx="3065760" cy="4591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C:\Users\Администратор\Desktop\фото для презентации\IMG_0799.JPG"/>
          <p:cNvPicPr/>
          <p:nvPr/>
        </p:nvPicPr>
        <p:blipFill>
          <a:blip r:embed="rId2"/>
          <a:stretch/>
        </p:blipFill>
        <p:spPr>
          <a:xfrm>
            <a:off x="4853160" y="404640"/>
            <a:ext cx="3968280" cy="2976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C:\Users\Администратор\Desktop\фото для презентации\IMG_0803.JPG"/>
          <p:cNvPicPr/>
          <p:nvPr/>
        </p:nvPicPr>
        <p:blipFill>
          <a:blip r:embed="rId3"/>
          <a:stretch/>
        </p:blipFill>
        <p:spPr>
          <a:xfrm>
            <a:off x="4888440" y="3728160"/>
            <a:ext cx="3939840" cy="295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Диаграмма 3"/>
          <p:cNvGraphicFramePr/>
          <p:nvPr/>
        </p:nvGraphicFramePr>
        <p:xfrm>
          <a:off x="1187640" y="116640"/>
          <a:ext cx="7632000" cy="6407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казкотерапия –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интегративная деятельность, в которой действия воображаемой ситуации связаны с реальным общением, направленным на активность, самостоятельность, творчество, регулирование ребенком собственных эмоциональных состояний</a:t>
            </a:r>
            <a:r>
              <a:rPr b="0" lang="ru-RU" sz="3200" spc="-1" strike="noStrike">
                <a:solidFill>
                  <a:srgbClr val="002060"/>
                </a:solidFill>
                <a:latin typeface="Gill Sans MT"/>
              </a:rPr>
              <a:t>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2997000"/>
            <a:ext cx="7499160" cy="3251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казкотерапия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- это процесс поиска смысла, расшифровки знаний о мире и системе взаимоотношений в нем; образования связи между сказочными событиями и поведением в реальной жизни;  активизации ресурсов, потенциала личности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Gill Sans MT"/>
              </a:rPr>
              <a:t>Принципы сказкотерапии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4960" y="836640"/>
            <a:ext cx="7499160" cy="5411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Gill Sans MT"/>
              </a:rPr>
              <a:t>1.</a:t>
            </a:r>
            <a:r>
              <a:rPr b="0" lang="ru-RU" sz="2800" spc="-1" strike="noStrike">
                <a:solidFill>
                  <a:srgbClr val="002060"/>
                </a:solidFill>
                <a:latin typeface="Gill Sans MT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К коррекции необходимо подходить постепенно, начиная с простых упражнений и заканчивая более сложными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В процессе работы необходимо создать условия, которые помогут ребенку самореализоваться благодаря полученным знаниям и опыту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Необходимым условием качественной работы является также наличие интегративности и непрерывности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03640" y="0"/>
            <a:ext cx="7499160" cy="33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Целью  речевой сказкотерапии: </a:t>
            </a:r>
            <a:br>
              <a:rPr sz="32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является применение сказок как средства развития связной речи у дошкольников. 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03640" y="1700640"/>
            <a:ext cx="7499160" cy="54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адачи речевой сказкотерапии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- развитие речи ;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- выявление творческих способностей ребенка;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- снижение уровня агрессивности и тревожности;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-  развитие коммуникативных способностей;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- обучение преодолению страхов и трудностей;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- развитие способности к выражению эмоций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75640" y="274680"/>
            <a:ext cx="7458480" cy="18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ёмы речевой сказкотерапии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4960" y="2205000"/>
            <a:ext cx="7499160" cy="4043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- режиссёрская игра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- словесная игра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- комментирование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- пантомима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- музыкальные и ритмические загадки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-171360"/>
            <a:ext cx="7499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Формы работы со сказкой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15640" y="980640"/>
            <a:ext cx="7818480" cy="489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1.Прослушивание сказ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2.Анализ сказ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3.Рассказывание сказ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4.Пересказ сказ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5.Сочинение сказ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6.Рисование сказ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7.Решение сказочных задач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8.Переписывание или перевирание сказ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9.Иллюстрирование сказ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10.Инсценирование сказ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труктура занятия по сказкотерапии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523880"/>
            <a:ext cx="3657240" cy="4663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итуал «входа» в сказку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овторение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асширение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Закрепление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Интеграция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езюмирование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итуал «выхода» из сказк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Gill Sans MT"/>
              </a:rPr>
              <a:t>Формы проведения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Gill Sans MT"/>
              </a:rPr>
              <a:t>занятий по сказкотерапи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91640" y="1989000"/>
            <a:ext cx="5832000" cy="381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ДИВИДУАЛЬНАЯ РАБО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АБОТА В ГРУППЕ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1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раматизации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 rot="10800000">
            <a:off x="1434960" y="6858360"/>
            <a:ext cx="7499160" cy="45360"/>
          </a:xfrm>
          <a:prstGeom prst="rect">
            <a:avLst/>
          </a:prstGeom>
          <a:noFill/>
          <a:ln w="9360">
            <a:noFill/>
          </a:ln>
        </p:spPr>
        <p:txBody>
          <a:bodyPr numCol="1" spcCol="0" tIns="22680" bIns="2268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8" name="Picture 2" descr="C:\Users\Администратор\Desktop\фото для презентации\IMG_2716.JPG"/>
          <p:cNvPicPr/>
          <p:nvPr/>
        </p:nvPicPr>
        <p:blipFill>
          <a:blip r:embed="rId1"/>
          <a:stretch/>
        </p:blipFill>
        <p:spPr>
          <a:xfrm>
            <a:off x="1298520" y="1291320"/>
            <a:ext cx="3777120" cy="2833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Users\Администратор\Desktop\фото для презентации\IMG_2720.JPG"/>
          <p:cNvPicPr/>
          <p:nvPr/>
        </p:nvPicPr>
        <p:blipFill>
          <a:blip r:embed="rId2"/>
          <a:stretch/>
        </p:blipFill>
        <p:spPr>
          <a:xfrm>
            <a:off x="5220000" y="3669480"/>
            <a:ext cx="3744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868</TotalTime>
  <Application>LibreOffice/7.4.7.2$Linux_X86_64 LibreOffice_project/40$Build-2</Application>
  <AppVersion>15.0000</AppVersion>
  <Words>201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01:20Z</dcterms:created>
  <dc:creator>Березовские</dc:creator>
  <dc:description/>
  <dc:language>en-US</dc:language>
  <cp:lastModifiedBy>Администратор</cp:lastModifiedBy>
  <dcterms:modified xsi:type="dcterms:W3CDTF">2015-10-17T16:40:55Z</dcterms:modified>
  <cp:revision>76</cp:revision>
  <dc:subject/>
  <dc:title>Сказкотерапия в работе с дошкольник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