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4.jpeg" ContentType="image/jpeg"/>
  <Override PartName="/ppt/media/image8.png" ContentType="image/png"/>
  <Override PartName="/ppt/media/image6.png" ContentType="image/png"/>
  <Override PartName="/ppt/media/image11.png" ContentType="image/pn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8A8-A05B-44E0-B2D9-C80F7767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202-6B38-46B6-A4DD-13CEB0B0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DC3-CEC8-4D17-98C6-29E1CFFD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84E-AA93-4202-BB40-B1ECAD1C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17FD-30CF-401F-A832-FA31908F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A114-CC24-4FD0-8D89-2155A202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6F43-DEB7-4E18-AEA3-55E50BAE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80E-C756-4B30-B519-748D852C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4119-C1BE-42BA-9236-294CF517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969B-EFF7-4552-9BA4-8547E55E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67E5-1CC9-4FB7-87D5-3AFE29AC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DDD-FCE1-4A96-B0BD-F743C8A9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F1C8-0E8E-4569-B4D9-A801111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B0F6-4F5B-4D4E-B601-1A1B64D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483B-E234-4EFA-857A-9B830B52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BB91-C847-42D4-A3C3-84866919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16C1-45BF-4DC1-B95A-779BAAE4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8466-F863-4C0D-95A7-E72D7E4A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EF0C-D5FE-450A-81D5-FACBE10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71C3-10A5-436F-B5DD-6D08D66A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187D-7B45-4D31-B53F-952468F0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14DF-403E-4794-9C41-B1DFF16B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99B-9C6B-4EDB-8C58-8B99531A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72E7-93A1-40EA-B8D3-7AE2B129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BBB2-F5A2-443E-A486-888B2AD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FB76-2487-4CD8-8974-F5B4879B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9612-52E7-4045-A3F5-94E026A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F70A-4A65-4621-B861-7888C71A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5854-C158-4D61-AEEC-F5F73E7E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83D8-92E4-4066-9254-077E3049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8BE-F79B-401E-89A2-0C46E5DE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411-395C-4E30-B81F-600EB33E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4E4-43C4-44CB-AAAB-FF6E0B55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7EB-0275-4610-B143-C6AB7C83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7B6-0389-4857-96D2-E65D120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EAA-E195-4F4A-A7FD-ED12490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99F-B42E-4A2F-9E25-1305D453E832}" type="slidenum"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6B0A-0722-4274-B84B-8B8B6C9ED72B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b13f9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E71C-D407-4FB7-B750-1E785C37777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cs.k12.ny.us/images/bus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068640"/>
            <a:ext cx="790236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ДГОТОВИЛ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ЧИТЕЛЬ АНГЛИЙСКОГО ЯЗЫ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БОУ СОШ №86 Г.КАЗАН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ГИЗЗАТОВА Г.Ф.</a:t>
            </a:r>
            <a:br>
              <a:rPr sz="3200"/>
            </a:br>
            <a:endParaRPr b="0" lang="en-US" sz="3200" spc="-1" strike="noStrike">
              <a:solidFill>
                <a:srgbClr val="b13f9a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763640" y="1916280"/>
            <a:ext cx="5256360" cy="422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25600" y="1700280"/>
            <a:ext cx="5905440" cy="433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6985080" cy="428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302680" cy="49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13f9a"/>
                </a:solidFill>
                <a:latin typeface="Arial"/>
              </a:rPr>
              <a:t>     </a:t>
            </a:r>
            <a:br>
              <a:rPr sz="6500"/>
            </a:br>
            <a:r>
              <a:rPr b="0" lang="en-US" sz="6500" spc="-1" strike="noStrike">
                <a:solidFill>
                  <a:srgbClr val="b13f9a"/>
                </a:solidFill>
                <a:latin typeface="Arial"/>
              </a:rPr>
              <a:t>  </a:t>
            </a:r>
            <a:br>
              <a:rPr sz="6500"/>
            </a:br>
            <a:r>
              <a:rPr b="0" lang="en-US" sz="6500" spc="-1" strike="noStrike">
                <a:solidFill>
                  <a:srgbClr val="b13f9a"/>
                </a:solidFill>
                <a:latin typeface="Arial"/>
              </a:rPr>
              <a:t>        </a:t>
            </a:r>
            <a:r>
              <a:rPr b="0" lang="en-US" sz="5400" spc="-1" strike="noStrike">
                <a:solidFill>
                  <a:srgbClr val="b13f9a"/>
                </a:solidFill>
                <a:latin typeface="Arial"/>
              </a:rPr>
              <a:t>LET’S CHECK!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CK                BUS             CA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LL                 CHICK          CHIM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G                DOG             DU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D                     FOX              FIS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EP               PIG               SWEET</a:t>
            </a: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62" name="Picture 22" descr="Микки Маус в разных образах (5 фото)"/>
          <p:cNvPicPr/>
          <p:nvPr/>
        </p:nvPicPr>
        <p:blipFill>
          <a:blip r:embed="rId1"/>
          <a:stretch/>
        </p:blipFill>
        <p:spPr>
          <a:xfrm>
            <a:off x="65991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7720" y="907920"/>
            <a:ext cx="8007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Comic Sans MS"/>
              </a:rPr>
              <a:t>I like a …</a:t>
            </a:r>
            <a:endParaRPr b="1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6100" spc="-1" strike="noStrike">
                <a:solidFill>
                  <a:srgbClr val="000000"/>
                </a:solidFill>
                <a:latin typeface="Comic Sans MS"/>
              </a:rPr>
              <a:t> is…(green/red…)</a:t>
            </a:r>
            <a:endParaRPr b="1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Comic Sans MS"/>
              </a:rPr>
              <a:t>It is…(big/little…)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Картинка 1 из 4028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4653000"/>
            <a:ext cx="4174920" cy="172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i?id=8493451&amp;tov=6"/>
          <p:cNvPicPr/>
          <p:nvPr/>
        </p:nvPicPr>
        <p:blipFill>
          <a:blip r:embed="rId3"/>
          <a:stretch/>
        </p:blipFill>
        <p:spPr>
          <a:xfrm>
            <a:off x="7780320" y="115920"/>
            <a:ext cx="895320" cy="10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HOME TASK:</a:t>
            </a:r>
            <a:endParaRPr b="0" lang="en-US" sz="48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58560" y="162864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дготовиться к словарному диктант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i?id=8493451&amp;tov=6"/>
          <p:cNvPicPr/>
          <p:nvPr/>
        </p:nvPicPr>
        <p:blipFill>
          <a:blip r:embed="rId1"/>
          <a:stretch/>
        </p:blipFill>
        <p:spPr>
          <a:xfrm>
            <a:off x="7667640" y="208080"/>
            <a:ext cx="954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 rot="20528400">
            <a:off x="434880" y="561600"/>
            <a:ext cx="8007480" cy="40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8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ood bye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8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0" name="Picture 8" descr="i?id=9244814&amp;tov=0"/>
          <p:cNvPicPr/>
          <p:nvPr/>
        </p:nvPicPr>
        <p:blipFill>
          <a:blip r:embed="rId1"/>
          <a:stretch/>
        </p:blipFill>
        <p:spPr>
          <a:xfrm>
            <a:off x="4433760" y="4005360"/>
            <a:ext cx="16700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98520" y="549360"/>
            <a:ext cx="8136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c8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e learn by playing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c8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1" name="Picture 11" descr="bestgif"/>
          <p:cNvPicPr/>
          <p:nvPr/>
        </p:nvPicPr>
        <p:blipFill>
          <a:blip r:embed="rId1"/>
          <a:stretch/>
        </p:blipFill>
        <p:spPr>
          <a:xfrm>
            <a:off x="2411280" y="3649680"/>
            <a:ext cx="4032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52120"/>
            <a:ext cx="7848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[ t ] -   tent, ten, litt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[ h ] - hat, hook, he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[æ] - map, black, sa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5881680"/>
            <a:ext cx="874800" cy="74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413000"/>
            <a:ext cx="8002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A fat Pat had a fat cat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7" descr="i?id=8493451&amp;tov=6"/>
          <p:cNvPicPr/>
          <p:nvPr/>
        </p:nvPicPr>
        <p:blipFill>
          <a:blip r:embed="rId1"/>
          <a:stretch/>
        </p:blipFill>
        <p:spPr>
          <a:xfrm>
            <a:off x="324000" y="11160"/>
            <a:ext cx="107316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" descr=""/>
          <p:cNvPicPr/>
          <p:nvPr/>
        </p:nvPicPr>
        <p:blipFill>
          <a:blip r:embed="rId2"/>
          <a:stretch/>
        </p:blipFill>
        <p:spPr>
          <a:xfrm>
            <a:off x="2556000" y="3762360"/>
            <a:ext cx="4032000" cy="2533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56160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b13f9a"/>
                </a:solidFill>
                <a:latin typeface="Comic Sans MS"/>
              </a:rPr>
              <a:t>  </a:t>
            </a:r>
            <a:br>
              <a:rPr sz="4900"/>
            </a:br>
            <a:r>
              <a:rPr b="1" lang="en-US" sz="4900" spc="-1" strike="noStrike">
                <a:solidFill>
                  <a:srgbClr val="b13f9a"/>
                </a:solidFill>
                <a:latin typeface="Comic Sans MS"/>
              </a:rPr>
              <a:t> </a:t>
            </a:r>
            <a:r>
              <a:rPr b="1" lang="en-US" sz="4900" spc="-1" strike="noStrike">
                <a:solidFill>
                  <a:srgbClr val="b13f9a"/>
                </a:solidFill>
                <a:latin typeface="Comic Sans MS"/>
              </a:rPr>
              <a:t>ACT OUT A DIALOGUE:</a:t>
            </a:r>
            <a:br>
              <a:rPr sz="4300"/>
            </a:br>
            <a:endParaRPr b="0" lang="en-US" sz="49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39" name="Picture 7" descr="bestgif"/>
          <p:cNvPicPr/>
          <p:nvPr/>
        </p:nvPicPr>
        <p:blipFill>
          <a:blip r:embed="rId1"/>
          <a:stretch/>
        </p:blipFill>
        <p:spPr>
          <a:xfrm>
            <a:off x="1835280" y="1557360"/>
            <a:ext cx="532764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urry up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679840" cy="439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611280" y="763560"/>
            <a:ext cx="95076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500" spc="-1" strike="noStrike">
                <a:solidFill>
                  <a:srgbClr val="b13f9a"/>
                </a:solidFill>
                <a:latin typeface="Comic Sans MS"/>
              </a:rPr>
              <a:t>A B C D E F G H I J K L M N O P Q R S T U V W </a:t>
            </a:r>
            <a:br>
              <a:rPr sz="7500"/>
            </a:br>
            <a:r>
              <a:rPr b="1" i="1" lang="en-US" sz="7500" spc="-1" strike="noStrike">
                <a:solidFill>
                  <a:srgbClr val="b13f9a"/>
                </a:solidFill>
                <a:latin typeface="Comic Sans MS"/>
              </a:rPr>
              <a:t>X Y Z</a:t>
            </a:r>
            <a:endParaRPr b="0" lang="en-US" sz="75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45" name="Picture 9" descr="i?id=8493451&amp;tov=6"/>
          <p:cNvPicPr/>
          <p:nvPr/>
        </p:nvPicPr>
        <p:blipFill>
          <a:blip r:embed="rId1"/>
          <a:stretch/>
        </p:blipFill>
        <p:spPr>
          <a:xfrm>
            <a:off x="250920" y="115920"/>
            <a:ext cx="1068120" cy="129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097680" cy="446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01080" cy="459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2:34:39Z</dcterms:created>
  <dc:creator>Admin</dc:creator>
  <dc:description/>
  <dc:language>en-US</dc:language>
  <cp:lastModifiedBy>1</cp:lastModifiedBy>
  <dcterms:modified xsi:type="dcterms:W3CDTF">2014-12-16T22:29:16Z</dcterms:modified>
  <cp:revision>110</cp:revision>
  <dc:subject/>
  <dc:title>Слайд 1</dc:title>
</cp:coreProperties>
</file>