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4.jpeg" ContentType="image/jpeg"/>
  <Override PartName="/ppt/media/image8.png" ContentType="image/png"/>
  <Override PartName="/ppt/media/image6.png" ContentType="image/png"/>
  <Override PartName="/ppt/media/image11.png" ContentType="image/pn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2AA-A11C-4F5F-923E-134F621A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94E-956E-4B9B-A78B-DC0663D5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01F-DB32-4D2A-9F22-CBEE7599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BC0-A3FC-4AA6-B0AE-58CFDCF4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7C87-D767-4A8C-A5CB-480D54BC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F7D8-3754-499D-8C43-C18A9BC8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3347-1962-4797-B5A3-9F94A603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0661-CD8B-46E8-8C13-81D588BC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3814-E660-4FA5-BD86-671F1F39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B452-6D0C-4CD0-9793-BAAA3D1B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CED6-3F3E-481A-BE4F-6DFE6925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342-F863-45DA-BE21-FB756753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80D9-0907-45C4-961A-201E8B03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C3C7-99EF-46C2-8DB0-2BFD519F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E842-1DF6-4E23-BF86-E1D9B16E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602A-DC75-4F9B-B1F3-680CA6FF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B619-AE66-4866-AFC1-74519447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1E69B-2D0F-49F2-B3DA-A24B9945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3609B-6B1F-4689-89FD-E3B1E5C7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2583-79AE-4F86-9E94-D81F12A2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E07A-5F29-436C-8406-B49B4CF6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95D2-4F5A-4420-8014-C563FB6E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D0B-FE45-4628-A40C-1F227A55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4AD8C-A201-4E7C-9A91-453BAAA9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9C7BD-C2A4-4792-ADDD-522B510C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1E72-7AE5-4098-96A0-916F1A00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BCE8-6565-40A0-80B2-F0451CBE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F674A-B6AD-4BFE-B334-C024E426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88E20-77A2-46E5-8F65-C01F7CB8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382F-BD40-4252-A736-1FAA14E9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803-1FB0-4B5B-B5E5-02C3FFF0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94D-4910-4DE9-80EC-D261ED80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E10-362B-4AF2-BAEF-0C48379D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1D6-753A-4B71-BBA6-BAA42B41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39A-A8A8-4578-BAF6-545FFA3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26D-8CF6-4E10-9D23-A8996F8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6D55-8358-4798-95EB-FA8B90B5E710}" type="slidenum"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3BB5-F949-45C3-9FC7-2F35CFFA3883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712E-93A7-4D88-820F-7AAEF0E677E1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cs.k12.ny.us/images/bus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068640"/>
            <a:ext cx="790236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ДГОТОВИЛ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УЧИТЕЛЬ АНГЛИЙСКОГО ЯЗЫ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БОУ СОШ №86 Г.КАЗАН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ГИЗЗАТОВА Г.Ф.</a:t>
            </a:r>
            <a:br>
              <a:rPr sz="3200"/>
            </a:br>
            <a:endParaRPr b="0" lang="en-US" sz="3200" spc="-1" strike="noStrike">
              <a:solidFill>
                <a:srgbClr val="b13f9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763640" y="1916280"/>
            <a:ext cx="5256360" cy="422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425600" y="1700280"/>
            <a:ext cx="5905440" cy="433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6985080" cy="428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302680" cy="49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13f9a"/>
                </a:solidFill>
                <a:latin typeface="Arial"/>
              </a:rPr>
              <a:t>     </a:t>
            </a:r>
            <a:br>
              <a:rPr sz="6500"/>
            </a:br>
            <a:r>
              <a:rPr b="0" lang="en-US" sz="6500" spc="-1" strike="noStrike">
                <a:solidFill>
                  <a:srgbClr val="b13f9a"/>
                </a:solidFill>
                <a:latin typeface="Arial"/>
              </a:rPr>
              <a:t>  </a:t>
            </a:r>
            <a:br>
              <a:rPr sz="6500"/>
            </a:br>
            <a:r>
              <a:rPr b="0" lang="en-US" sz="6500" spc="-1" strike="noStrike">
                <a:solidFill>
                  <a:srgbClr val="b13f9a"/>
                </a:solidFill>
                <a:latin typeface="Arial"/>
              </a:rPr>
              <a:t>        </a:t>
            </a:r>
            <a:r>
              <a:rPr b="0" lang="en-US" sz="5400" spc="-1" strike="noStrike">
                <a:solidFill>
                  <a:srgbClr val="b13f9a"/>
                </a:solidFill>
                <a:latin typeface="Arial"/>
              </a:rPr>
              <a:t>LET’S CHECK!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CK                BUS             CA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LL                 CHICK          CHIM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G                DOG             DUC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D                     FOX              FIS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EP               PIG               SWEET</a:t>
            </a:r>
            <a:br>
              <a:rPr sz="5400"/>
            </a:br>
            <a:br>
              <a:rPr sz="5400"/>
            </a:b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62" name="Picture 22" descr="Микки Маус в разных образах (5 фото)"/>
          <p:cNvPicPr/>
          <p:nvPr/>
        </p:nvPicPr>
        <p:blipFill>
          <a:blip r:embed="rId1"/>
          <a:stretch/>
        </p:blipFill>
        <p:spPr>
          <a:xfrm>
            <a:off x="65991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7720" y="907920"/>
            <a:ext cx="80074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Comic Sans MS"/>
              </a:rPr>
              <a:t>I like a …</a:t>
            </a:r>
            <a:endParaRPr b="1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6100" spc="-1" strike="noStrike">
                <a:solidFill>
                  <a:srgbClr val="000000"/>
                </a:solidFill>
                <a:latin typeface="Comic Sans MS"/>
              </a:rPr>
              <a:t> is…(green/red…)</a:t>
            </a:r>
            <a:endParaRPr b="1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Comic Sans MS"/>
              </a:rPr>
              <a:t>It is…(big/little…)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Картинка 1 из 4028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4653000"/>
            <a:ext cx="4174920" cy="172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i?id=8493451&amp;tov=6"/>
          <p:cNvPicPr/>
          <p:nvPr/>
        </p:nvPicPr>
        <p:blipFill>
          <a:blip r:embed="rId3"/>
          <a:stretch/>
        </p:blipFill>
        <p:spPr>
          <a:xfrm>
            <a:off x="7780320" y="115920"/>
            <a:ext cx="895320" cy="10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HOME TASK:</a:t>
            </a:r>
            <a:endParaRPr b="0" lang="en-US" sz="48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58560" y="162864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дготовиться к словарному диктант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i?id=8493451&amp;tov=6"/>
          <p:cNvPicPr/>
          <p:nvPr/>
        </p:nvPicPr>
        <p:blipFill>
          <a:blip r:embed="rId1"/>
          <a:stretch/>
        </p:blipFill>
        <p:spPr>
          <a:xfrm>
            <a:off x="7667640" y="208080"/>
            <a:ext cx="954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 rot="20528400">
            <a:off x="434880" y="561600"/>
            <a:ext cx="8007480" cy="40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8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ood bye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8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0" name="Picture 8" descr="i?id=9244814&amp;tov=0"/>
          <p:cNvPicPr/>
          <p:nvPr/>
        </p:nvPicPr>
        <p:blipFill>
          <a:blip r:embed="rId1"/>
          <a:stretch/>
        </p:blipFill>
        <p:spPr>
          <a:xfrm>
            <a:off x="4433760" y="4005360"/>
            <a:ext cx="16700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98520" y="549360"/>
            <a:ext cx="81360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c8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e learn by playing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c8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1" name="Picture 11" descr="bestgif"/>
          <p:cNvPicPr/>
          <p:nvPr/>
        </p:nvPicPr>
        <p:blipFill>
          <a:blip r:embed="rId1"/>
          <a:stretch/>
        </p:blipFill>
        <p:spPr>
          <a:xfrm>
            <a:off x="2411280" y="3649680"/>
            <a:ext cx="4032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1752120"/>
            <a:ext cx="7848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[ t ] -   tent, ten, litt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[ h ] - hat, hook, he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[æ] - map, black, sa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5881680"/>
            <a:ext cx="874800" cy="74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413000"/>
            <a:ext cx="8002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A fat Pat had a fat cat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7" descr="i?id=8493451&amp;tov=6"/>
          <p:cNvPicPr/>
          <p:nvPr/>
        </p:nvPicPr>
        <p:blipFill>
          <a:blip r:embed="rId1"/>
          <a:stretch/>
        </p:blipFill>
        <p:spPr>
          <a:xfrm>
            <a:off x="324000" y="11160"/>
            <a:ext cx="1073160" cy="16556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" descr=""/>
          <p:cNvPicPr/>
          <p:nvPr/>
        </p:nvPicPr>
        <p:blipFill>
          <a:blip r:embed="rId2"/>
          <a:stretch/>
        </p:blipFill>
        <p:spPr>
          <a:xfrm>
            <a:off x="2556000" y="3762360"/>
            <a:ext cx="4032000" cy="2533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56160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b13f9a"/>
                </a:solidFill>
                <a:latin typeface="Comic Sans MS"/>
              </a:rPr>
              <a:t>  </a:t>
            </a:r>
            <a:br>
              <a:rPr sz="4900"/>
            </a:br>
            <a:r>
              <a:rPr b="1" lang="en-US" sz="4900" spc="-1" strike="noStrike">
                <a:solidFill>
                  <a:srgbClr val="b13f9a"/>
                </a:solidFill>
                <a:latin typeface="Comic Sans MS"/>
              </a:rPr>
              <a:t> </a:t>
            </a:r>
            <a:r>
              <a:rPr b="1" lang="en-US" sz="4900" spc="-1" strike="noStrike">
                <a:solidFill>
                  <a:srgbClr val="b13f9a"/>
                </a:solidFill>
                <a:latin typeface="Comic Sans MS"/>
              </a:rPr>
              <a:t>ACT OUT A DIALOGUE:</a:t>
            </a:r>
            <a:br>
              <a:rPr sz="4300"/>
            </a:br>
            <a:endParaRPr b="0" lang="en-US" sz="49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39" name="Picture 7" descr="bestgif"/>
          <p:cNvPicPr/>
          <p:nvPr/>
        </p:nvPicPr>
        <p:blipFill>
          <a:blip r:embed="rId1"/>
          <a:stretch/>
        </p:blipFill>
        <p:spPr>
          <a:xfrm>
            <a:off x="1835280" y="1557360"/>
            <a:ext cx="532764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urry up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679840" cy="4398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611280" y="763560"/>
            <a:ext cx="950760" cy="11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500" spc="-1" strike="noStrike">
                <a:solidFill>
                  <a:srgbClr val="b13f9a"/>
                </a:solidFill>
                <a:latin typeface="Comic Sans MS"/>
              </a:rPr>
              <a:t>A B C D E F G H I J K L M N O P Q R S T U V W </a:t>
            </a:r>
            <a:br>
              <a:rPr sz="7500"/>
            </a:br>
            <a:r>
              <a:rPr b="1" i="1" lang="en-US" sz="7500" spc="-1" strike="noStrike">
                <a:solidFill>
                  <a:srgbClr val="b13f9a"/>
                </a:solidFill>
                <a:latin typeface="Comic Sans MS"/>
              </a:rPr>
              <a:t>X Y Z</a:t>
            </a:r>
            <a:endParaRPr b="0" lang="en-US" sz="75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45" name="Picture 9" descr="i?id=8493451&amp;tov=6"/>
          <p:cNvPicPr/>
          <p:nvPr/>
        </p:nvPicPr>
        <p:blipFill>
          <a:blip r:embed="rId1"/>
          <a:stretch/>
        </p:blipFill>
        <p:spPr>
          <a:xfrm>
            <a:off x="250920" y="115920"/>
            <a:ext cx="1068120" cy="129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097680" cy="446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01080" cy="459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2:34:39Z</dcterms:created>
  <dc:creator>Admin</dc:creator>
  <dc:description/>
  <dc:language>en-US</dc:language>
  <cp:lastModifiedBy>1</cp:lastModifiedBy>
  <dcterms:modified xsi:type="dcterms:W3CDTF">2014-12-16T22:29:16Z</dcterms:modified>
  <cp:revision>110</cp:revision>
  <dc:subject/>
  <dc:title>Слайд 1</dc:title>
</cp:coreProperties>
</file>