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B756-5CD6-4FC0-B236-4671CE4F5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B69A-2959-47F3-95E8-005C5BB9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D5AE7-1948-4923-9DED-60AE97BB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BBBB7-A447-47B6-A4F3-524602AD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B7931-5896-41BE-8FCC-A714E87E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B0633-B558-496A-89F5-2FCDB707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B8114-BAA6-45E7-A7A1-163A8582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F82556-DBA8-47CC-B3F2-D7457F03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05E3D-F24C-4116-BCD0-8AF002B8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D0C3F-0167-41D6-B1AB-C3BD09FE2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D104A-B788-403D-B8A3-B0CE22886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9FEE-30FD-4500-9CFF-3A79E09CE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B437-22E6-4994-8C3E-1B47E603B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70B9-199D-4A71-9E2D-807185E8C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14BC-09AA-4B3C-A65A-957FC269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170F-7FFD-4B9D-AAB3-05188205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55D4-F926-461F-9FC5-E8823788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748E-6678-4EAF-8F8A-DCE2F3AF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E92E-6CBD-4056-9B3D-B31AF03C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A7E9-8332-446A-9C3A-7B684494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D329-8AAE-4954-B8A6-DFA95EBA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011B-913C-4A2D-A571-B8BD8882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AA45-CFD1-4C62-B965-0BFFC2E1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F351-2D08-4FB3-9BB8-4FA96486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14B8-3B57-4A5A-988C-51A564AFC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F5BC-DA81-4ADE-AD5A-7300B7B4E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D0816-9C98-4752-B240-C673F6189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4952C-5A0B-4F1E-9248-961B1366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CE83A-717B-4C42-9ADB-EF534037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9DEE9-1CB3-4C55-8967-5B0B991C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9ABA5-DA0A-42A2-9C1B-FE0A24B7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0CFC-1DDE-4944-9276-DE3E5FB4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A2F5C-5BBE-4CC0-AAD3-D2CB87CF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C79E0-01C9-45D6-B4FB-36C7F3D7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65B1A-D071-442D-A94E-F5CEB52E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86923-5062-4892-967D-C9BA7BAB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46952-4A6B-439F-BDB5-CA024383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743E9-8A01-44C4-9FB5-31C18248F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D408D-572E-48EC-9956-4CC70DF9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9EC89-7CD4-4030-B997-BF2E83348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B6F5E-2146-4FE4-B969-DFE83D72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DF980-1BB7-465C-ADE2-E1C3746B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276F-0682-46DD-B517-A285AF3C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C3EFF-1507-416D-BEBB-8DDDC444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E2FF8-93F7-4487-9DEA-109262B3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1E6DD-8587-49FB-B37E-B5356936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94767-E3AE-44F9-AE96-2E01BD98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F2841-E824-4FD0-92A5-26B3644C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3FACA-7DF0-496C-854C-9EC987E0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B81FB-2614-449A-BC36-3F77937E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679B7-8090-4E8E-8F6F-5FF3BEBF0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F20B7-F2C5-42E0-9056-91810E24C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02493-3F09-47AB-890F-09C9DD889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B2A7-DEBC-46B9-A56F-D20AC882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991F0-74AF-4CFF-A50F-261E9726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7DD8B-84A2-43B7-AFEF-233F370A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83EAE-71D6-4D6E-AB68-D6B2E151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A0DF1-D245-4209-9407-3F1C4DFF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FA739-2D59-4A06-9F9E-2136D5B9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3ED53-C8A8-4350-A0E3-61F4E669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004F7-557C-47EF-8277-6ADE89C4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28938-6A36-4576-BF52-73F36332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4A457-4023-4358-865D-CFF8B32C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2EDC3-7156-45DC-90D9-36B28BF88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84A4-E11E-4A20-AA84-6B86A49E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52622-D71F-459F-B833-6A3D2C016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7171B-1127-46FE-9A17-410FA8C8A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E7C1F-6439-4057-AE8A-55118C41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BBF5B-9FC0-44C1-BC56-362CF3B4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DD630-1AF8-4791-BA6C-7DD33CD6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7BE78-5746-4012-A6FD-28BBBB8B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5DAF8-65D8-415D-8785-DDAAA92F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B66A6-2131-4738-8BC7-8BFE8EBE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7C47B-5A56-49E6-AFCD-9D89F73B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C99D5-7480-44E4-BC80-D0206A7B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3712-1ABF-4A85-9AA4-230022EF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2C21C-BF9D-417F-94EF-1ACC13F8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4EF42-9A59-40B4-B9FD-8739FBDD8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197A8-5EEA-4648-89CC-ADBD952D7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07607-177F-4AD9-9836-BDAEBAF4C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011EE-D435-4C40-80B3-6D44EDD5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F848F-BFBF-4ABB-B13A-5FA10893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5B198-D399-45E0-97EB-E79D9A37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27822-8876-434A-9CB9-12CFE392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926BD-4C82-48DC-BCA4-95B7E9B5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56EA9-152E-4632-89B3-18BB643D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AA0F-34E2-4BD2-8BD0-A60D8D96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5AE77-196B-4E7B-BA4F-2451BE6C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C4C65-5BA7-40C2-98AE-4AB5FD15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9DAAF-9AE9-4CD3-A206-ABE47594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4179A-402E-40E5-A986-6AA5C59CF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00E92-CA70-4DE1-86D1-95E9B8F6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0CFEF-38E5-43DC-B2DC-589074CA5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14619-B850-403F-B2A8-A48D623B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8C041-C84A-4A6D-8250-13410E1E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5E3D7-FD2D-4617-A071-1D189BE8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11483-57A2-4B10-83EB-A7EF3E29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EBF9-D827-4E8B-A481-2E897FFD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5D543-FB70-4EC4-A51A-32550FF8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435C1-EA7B-4DE9-A4DF-7A817CA6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515E6-8A8E-4701-806C-A2EE74F4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0D737-B228-4FE9-9D6E-E3339541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66257-5BBC-464B-8436-40B55B9B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045E0-9492-4D9B-8D8D-27AF307DC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D8C60-2441-4BBB-92B4-9392A6C7D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5C52D-E33A-411D-B62E-A6206BF4C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7EC71-59E8-4BF7-9103-9FF61E81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5AB2F3-7064-401F-9CC2-B7FB7249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E56A-0268-46BC-A056-18B95ED5602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0CE1-160C-4F00-B17C-D93304DE660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7128-6CB2-40E4-9033-D3F44BC0775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A2D2-3D46-4245-92B0-E78A6544D35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A8D6-A088-45BE-8D6F-A96629CFF1D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8C73-E31A-40E0-A835-F518BEC4C20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1029-860C-42D2-920E-54550FCC63A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1A08-6BA8-41A0-A1C6-794E782DE8F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E2CA-4A20-469D-90F5-59074B1AFB1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6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6" descr=""/>
          <p:cNvPicPr/>
          <p:nvPr/>
        </p:nvPicPr>
        <p:blipFill>
          <a:blip r:embed="rId1"/>
          <a:stretch/>
        </p:blipFill>
        <p:spPr>
          <a:xfrm>
            <a:off x="0" y="334800"/>
            <a:ext cx="7772400" cy="210996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611280" y="2637000"/>
            <a:ext cx="6750000" cy="3744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«ВАЗА ДЛЯ ФРУКТОВ»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В ТЕХНИКЕ  ПАПЬЕ-МАШЕ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Выполнили: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ченики 10 класс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Шестакова Людмила и Герасимов Артё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Руководитель :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Частикова Наталья Михайловна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КОГОКУ ОШИ г. Белая Холуница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15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арые газеты, альбомные листы -  ничего не стоят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15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ричневая гуашь -            20 руб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15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лей ПВА -                          30 руб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15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оскутки капроновой ткани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ичего не стоят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15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криловый лак -                 20 руб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15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щие затраты  на приобретение материалов -70 руб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ак как  вся работа производилась днём, затрат электроэнергии не  было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Rectangle 2" descr=""/>
          <p:cNvPicPr/>
          <p:nvPr/>
        </p:nvPicPr>
        <p:blipFill>
          <a:blip r:embed="rId1"/>
          <a:stretch/>
        </p:blipFill>
        <p:spPr>
          <a:xfrm>
            <a:off x="457200" y="208080"/>
            <a:ext cx="8229600" cy="12128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2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7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2" dur="5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7" dur="5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2" dur="500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7" dur="500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2" dur="500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8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263520" y="3645000"/>
            <a:ext cx="7386480" cy="24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Изготовление изделия проходило в несколько  этапов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2" name="Rectangle 2" descr=""/>
          <p:cNvPicPr/>
          <p:nvPr/>
        </p:nvPicPr>
        <p:blipFill>
          <a:blip r:embed="rId1"/>
          <a:stretch/>
        </p:blipFill>
        <p:spPr>
          <a:xfrm>
            <a:off x="219240" y="225360"/>
            <a:ext cx="7480080" cy="25052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3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684360" y="1699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15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и обоснование проблемы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15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возникновения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15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концепции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15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, материалы и приспособления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15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чёт затрат на изготовление напольной вазы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15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еская карта изготовления вазы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a2bf"/>
                </a:solidFill>
                <a:latin typeface="Times New Roman"/>
                <a:ea typeface="Times New Roman"/>
              </a:rPr>
              <a:t>7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а и внешняя оценка изделия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0" dur="500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" dur="500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6840" y="148104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lnSpc>
                <a:spcPct val="105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вас есть желание сделать ваш дом неповторимым? Я думаю, на этот вопрос нет однозначного ответа многие скажут, что для этого нужны немалые средства.  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5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о – то стремится купить красивую посуду, кто-то новый гарнитур. Иногда сидишь и думаешь: чего – то не хватает в этой комнате. Что бы такое необычное сделать?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5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уроках технологии я уже изготавливала вазу для цветов из пластилина и ниток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5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Rectangle 2" descr=""/>
          <p:cNvPicPr/>
          <p:nvPr/>
        </p:nvPicPr>
        <p:blipFill>
          <a:blip r:embed="rId1"/>
          <a:stretch/>
        </p:blipFill>
        <p:spPr>
          <a:xfrm>
            <a:off x="457200" y="201600"/>
            <a:ext cx="8229600" cy="1023840"/>
          </a:xfrm>
          <a:prstGeom prst="rect">
            <a:avLst/>
          </a:prstGeom>
          <a:ln w="0">
            <a:noFill/>
          </a:ln>
        </p:spPr>
      </p:pic>
      <p:pic>
        <p:nvPicPr>
          <p:cNvPr id="423" name="Рисунок 1" descr=""/>
          <p:cNvPicPr/>
          <p:nvPr/>
        </p:nvPicPr>
        <p:blipFill>
          <a:blip r:embed="rId2"/>
          <a:stretch/>
        </p:blipFill>
        <p:spPr>
          <a:xfrm>
            <a:off x="4859280" y="843120"/>
            <a:ext cx="3889440" cy="58323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6840" y="1481040"/>
            <a:ext cx="29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ак же делала вазу, украшенную  бумажными жгутам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26" name="Рисунок 3" descr=""/>
          <p:cNvPicPr/>
          <p:nvPr/>
        </p:nvPicPr>
        <p:blipFill>
          <a:blip r:embed="rId1"/>
          <a:stretch/>
        </p:blipFill>
        <p:spPr>
          <a:xfrm>
            <a:off x="3924360" y="228600"/>
            <a:ext cx="4295880" cy="6445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219240" y="225360"/>
            <a:ext cx="7480080" cy="114624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764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за  для фруктов получилась  такой, как планировалась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 вещь  будет  радовать  глаз и поднимать  настроени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е очень приятно, что это я сама сделала  своими  рукам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е было очень интересно работать в этой технике – эта работа очень воспитывает   усидчивость  и прививает  аккуратность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думаю, что следующее моё изделие в этой технике- посуда с различной народной росписью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7"/>
          <a:stretch/>
        </p:blipFill>
        <p:spPr>
          <a:xfrm>
            <a:off x="7667280" y="1557000"/>
            <a:ext cx="90360" cy="449748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539640" y="1341000"/>
            <a:ext cx="7561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02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Как указывает БСЭ: " Папье-маше (франц. papier mâché), буквально - жёваная бумага), легко поддающаяся формовке масса, получаемая из волокнистых материалов (бумага, картон и др.), обычно с добавлением клеящих веществ, крахмала, гипса и т. д. Из папье-маше  изготовляются игрушки, учебные пособия, муляжи, театральная бутафория, ларцы, шкатулки,  вазы, украшаемые часто росписью, лакировкой, тиснением "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С точки зрения сегодняшней классификации, папье-маше это конструкционный композитный материал и его можно рассматривать, например,  как  одного из предшественников  древесноволокнистых плит. Подобно  ДВП, папье-маше состоит из волокон целлюлозы и небольшого количества клея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Папье-маше изобрели в начале 16 века  во Франции и использовали первоначально для изготовления кукол. Огромный интерес публики к импортным  китайским и японским  лакированным декоративным изделиям стал примерно в 70-х годах 17 века толчком  к развитию производства в Европе  изделий из папье-маше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Из папье-маше изготавливался очень широкий ассортимент изделий : табакерки, шкатулки, игрушки, маски, подносы, архитектурную  лепнину для стен и потолков, подсвечники, рамы для зеркал, декоративные панели для стен, дверей, карет, а так же  разнообразные изделия  мебели, включая кровати и гардеробы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Папье-маше в России  стало популярно, вероятно, еще в  эпоху Петра I, который сделал государственной политикой коллекционирование предметов искусств и поддержку ремесел . Но промышленное производство художественных изделий из папье-маше (лаковой миниатюры)  возникло  только в 19 веке ( Федоскино Палех, Мстера и Холуй). К этому же времени относится   расцвет производства изделий из папьемаше   в самых разных странах. Например,  во времена королевы Виктории, на британских островах существовало около  25  компаний по выпуску таких изделий. Наиболее известные мастера этого периода Jennings и Bettridge из Бирмингема, которые имели собственные магазины в Лондоне и Нью-Йорке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609480" y="274680"/>
            <a:ext cx="6943680" cy="852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4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9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00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Два века назад московский купец Петр Иванович Коробов, изучивший технологию немецких лаков, изготовляющихся фабрикой Иоганна Штобвассера в городе Брауншвейге, основал в 1795 году в селе Даниловке (часть современного села Федоскино) небольшую фабрику. Местные крестьяне с помощью вывезенных из Германии мастеров быстро освоили технологию изготовления папье-маше, материала, из которого и поныне создают лаковые шкатулки, украшаемые красочной миниатюрой. Поначалу зародившееся в России лаковое производство выпускало лакированные козырьки для военных головных уборов, потом – круглые табакерки, модные в начале XIX век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В 1818 году Федоскинская фабрика перешла к зятю Коробова Петру Васильевичу Лукутину (1784-1863), затем к сыну Александру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Техника изготовления папье-маше отличает русские лаки самим материалом от более древних – японских и китайских лаков с основой на дереве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Нарезанные ленты картона смазываются мучным клейстером и навиваются на деревянные или металлические болванки нужных форм: шкатулки, ларцы, коробочки для мелочей, чайницы и прочие изделия. После прессования заготовку снимают и пропитывают льняным маслом, сушат в специальных шкафах при температуре до 100˚С. Потом приделывают крышку и приделывают донышко. После чего изделие обрабатывается стамесками, наждаками с целью достижения нужного контура формы, шпаклюется и просушивается. После шлифовки накладывается черный лак в несколько слоев. Внутренняя поверхность коробки окрашивается в красный цвет и покрывается бесцветным лаком. Прежде чем приступить к миниатюре черная поверхность пемзуется, отчего она становиться матовой. На нее наноситься рисунок путем перевода или прочерчивания, и начинается сложный процесс живописи. Традиционно в Федоскине пишут масляными красками, соответственно применяя метод реалистической живописи, воспринятый от традиции искусства XVIII-XIX веков.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3" name="Rectangle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448840" cy="1170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115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боре изделия я учитывала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15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моего мастерства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15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для меня такого издели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15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раты на приобретение материалов и инструментов для работы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15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времени, необходимое для выполнения издели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178920" y="1481040"/>
            <a:ext cx="525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lnSpc>
                <a:spcPct val="95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ля работы мне понадобились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5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тарые газеты,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5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тарые изрисованные альбомные листы,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5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исть для рисования №5,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5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исть для клея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5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уашь коричневого цвета 20 мл,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5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00г    клея   ПВА,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5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0,1 л бесцветного   акрилового  лака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5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лоскутки капроновой ткани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6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7" name="Rectangle 2" descr=""/>
          <p:cNvPicPr/>
          <p:nvPr/>
        </p:nvPicPr>
        <p:blipFill>
          <a:blip r:embed="rId1"/>
          <a:stretch/>
        </p:blipFill>
        <p:spPr>
          <a:xfrm>
            <a:off x="609480" y="201600"/>
            <a:ext cx="8229600" cy="14079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" descr=""/>
          <p:cNvPicPr/>
          <p:nvPr/>
        </p:nvPicPr>
        <p:blipFill>
          <a:blip r:embed="rId2"/>
          <a:stretch/>
        </p:blipFill>
        <p:spPr>
          <a:xfrm>
            <a:off x="5000760" y="2997360"/>
            <a:ext cx="4016160" cy="3016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1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7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3" dur="500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1" dur="500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7" dur="500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3" dur="500"/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6:19:32Z</dcterms:created>
  <dc:creator>User</dc:creator>
  <dc:description/>
  <dc:language>en-US</dc:language>
  <cp:lastModifiedBy>комп</cp:lastModifiedBy>
  <dcterms:modified xsi:type="dcterms:W3CDTF">2015-10-17T13:23:16Z</dcterms:modified>
  <cp:revision>41</cp:revision>
  <dc:subject/>
  <dc:title>Слайд 1</dc:title>
</cp:coreProperties>
</file>