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982-91A0-4078-AA7D-337CAC0B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752-57EF-48E6-BF13-E9FBC0FE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F4104-A3D3-4783-85B0-D9F04A6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4235B-4941-4C23-82D8-74466D0A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FA63D-986B-47BA-AAE1-C04B96FB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FB641-6724-45F2-95B3-97305A90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91B8F-C926-4850-9B1A-55E308F6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281E1-CFC3-498B-8360-EC3EAFB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FA45B-3E45-453E-937B-D6FA6330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F26D4-4F88-40AD-B294-DCC7A396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A263-3AE2-4B8E-ADD7-A6488796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0CA-5121-498C-8990-3C45A9A1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715-FF43-49DC-A8FC-1A271F41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5F4F-84CD-43C0-BD93-B37B4CB1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5F0C-BC7D-459A-9DDC-9BE5D9C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1F49-8243-4FDD-857D-B42465B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1FA6-DEBA-4B0A-8783-C2B1EAF9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0CC7-4683-49D4-A80B-20301CC7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0B05-0812-4816-9D2A-2989856F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C651-4211-4DC0-A3B9-F12325D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2B2-2702-41F3-9BAB-4AA11B83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4639-D99E-4C58-BBBE-1BCA374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6D8D-52D9-4399-9E32-C73FF01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1193-2671-4EAA-B408-CAEF1089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2776-557C-4E02-85F7-4812CF52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4746-EA94-46B4-874C-15B63298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D4DA-3FF2-47CF-BF96-60BBF0B4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54D8-900D-4C4C-A66D-5CA35A5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2F2B-C5DD-49B3-A1AF-DDC37F6C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269B-2660-4DCB-B7CD-7444841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318A-9D74-46A8-A045-6062E53B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4B1-36D1-457D-B35F-574A96C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84C8-5948-45A5-BA3E-BC9628BB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7BDA-F036-47AD-A702-409AEACB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C803-C6CB-4BF9-A334-E0F9FF2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8C7B-F06E-497D-A937-82678C9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0539-20B7-4950-BFFD-0E783E6D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9786-7E84-465C-952C-8518C1AF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83F8-C439-47FD-931F-1E73902C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F3E7-246B-48BA-A9BB-3F690DA6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D3C0-C5A2-4DD1-974A-C7FBC8C1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1DDC-7770-4E25-8BC1-7B975A6B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76B-F568-4B9A-81D6-81A38E48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B8AF-AC8B-4DF7-9533-8BF8CCAE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66D7-2B3A-4744-A6C2-45C7361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7102-5296-4604-A0CA-20C11ECA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A5E4-28E0-4371-A8CC-FAE4681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F0DBE-2A8D-43DA-BE14-2469438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FA36-ACB6-4D39-A019-3614A210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5686-E9BA-48BC-81AA-7AF6FE22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C5A4-4444-46FD-93E3-74870DC0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93C3-1B89-4837-826E-EB71BCF0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EFAF1-1D68-4A63-8572-7A10E31B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659-9CDC-44C8-B51B-D5CA2B5F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5C66C-9533-40BC-94C1-14BCC820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4FBD5-9492-4E80-9FAF-78BBD875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633F6-DB80-4415-8149-EC0BBF1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12E3-7C88-4C9D-BBB9-74E861A8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ECE6-BD85-4CF8-A641-005EBDC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4DE4-0D31-4899-8781-ACD951C8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3A36-F726-461C-BED2-AB5BE9E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716C-04E3-4248-BA10-23B7A39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5B7F-A77C-45CD-8A26-F982FCD5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60C32-7944-4F07-98E2-C5C7DB81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F83-1C74-4748-A405-A4706F11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AB5D6-C6AF-409A-B820-FD52CD75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D1EBE-7DBD-4CF2-BF01-029A5A33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9CE57-9D26-4BD0-8319-B5EC1F91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E29D5-99E6-48EB-956E-8C2DE361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0C274-AE6E-488F-B091-C8E2BBFC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CF0AC-FB1B-4E8A-A357-F6D7942D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0A29-66D9-44A4-ADE7-909EED6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2D170-70EA-460C-B7C1-4C4F88A7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41DB-9392-41F7-8F72-37CA98D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0D3B4-1ACB-4FD2-909E-AF9D7F7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87F-03E3-4ACE-AA83-7119E1C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BC41-B9D0-4D0E-998D-80AA9A93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10477-2F8C-4715-A7EA-90DFDB1E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A468-3718-4BFA-9DC1-DE68C28E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D57D7-F931-4D46-B5B6-515AEFEC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CE89-BEFB-4EC5-93CE-194DFD35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A735F-9D81-4468-9A85-41006D7A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DE39A-1642-47EB-B800-10659D1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3E52E-15D1-4A92-9432-0FB15F6B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3D512-9ACC-483D-866A-FBAF802A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E500-55F2-4A4F-A0C6-F24278C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98C-61A6-4B6D-9977-E30079C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73A1-16F4-43E5-8661-A9C04F2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075A7-3A9C-42DC-A152-2DFDF77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CDE21-F3D2-4570-B4C6-5235DA43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5E37-AB11-4CBC-8883-4E5DC022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27C3B-DDFB-4C8F-B20A-73B0F862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1B727-51DC-4E08-AA1D-FA7C367C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81F94-84B9-4169-ACE1-77BDF33C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B7B38-5847-4630-AC88-2D05192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C31F-7010-4579-8849-CD90AC76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338F1-A740-49C4-9C9F-5204596C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2BA-709A-448F-B59D-7C55D300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BF6C7-E755-4A31-8B02-1E5B878D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92110-31A6-4443-BACB-872518F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B7B39-97D0-4A43-8D1B-62E7F597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5D3A-217B-488E-A2C9-B44CF392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6229B-642D-44AB-9368-21FE115B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A99A-C046-4EDC-A87F-0C45894B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EC919-E663-4C96-B41B-06BA9697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86BC1-BF1A-4118-BC04-DCF54A76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8BF48-2037-4DC6-88FC-130D429A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73972-0212-4660-807E-A8EA54BE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4241-C5D1-4901-80AE-F5A022668A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0761-F22F-4712-8973-DEC6467DDA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FF9-DCC5-43E6-8493-2DEC05C2DD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49E-526B-4B8F-AAD2-8A12CE09BC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0F41-2881-48D0-985C-885CF32365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FCA-C3B9-44DC-828B-05EB860002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036F-D525-4524-AA02-BF0AEE5C2D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1E9C-71EF-4160-A226-6FA5477053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4228-1BD3-45F7-9C98-93A6F7A085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6" descr=""/>
          <p:cNvPicPr/>
          <p:nvPr/>
        </p:nvPicPr>
        <p:blipFill>
          <a:blip r:embed="rId1"/>
          <a:stretch/>
        </p:blipFill>
        <p:spPr>
          <a:xfrm>
            <a:off x="0" y="334800"/>
            <a:ext cx="7772400" cy="21099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11280" y="2637000"/>
            <a:ext cx="6750000" cy="374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«ВАЗА ДЛЯ ФРУКТОВ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ТЕХНИКЕ  ПАПЬЕ-МАШ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ыполнили: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ники 10 кла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Шестакова Людмила и Герасимов Артё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уководитель :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астикова Наталья Михайловн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ОГОКУ ОШИ г. Белая Холуниц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ые газеты, альбомные листы -  ничего не стоя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ичневая гуашь -            2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ей ПВА -                          3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скутки капроновой ткани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чего не стоя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риловый лак -                 2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щие затраты  на приобретение материалов -70 ру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 как  вся работа производилась днём, затрат электроэнергии не  бы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212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63520" y="3645000"/>
            <a:ext cx="738648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зготовление изделия проходило в несколько  этапов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19240" y="225360"/>
            <a:ext cx="7480080" cy="2505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684360" y="169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и обоснование проблем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концепци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, материалы и приспособле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затрат на изготовление напольной ваз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я ваз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Times New Roman"/>
                <a:ea typeface="Times New Roman"/>
              </a:rPr>
              <a:t>7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и внешняя оценка изделия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148104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есть желание сделать ваш дом неповторимым? Я думаю, на этот вопрос нет однозначного ответа многие скажут, что для этого нужны немалые средства. 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– то стремится купить красивую посуду, кто-то новый гарнитур. Иногда сидишь и думаешь: чего – то не хватает в этой комнате. Что бы такое необычное сделать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роках технологии я уже изготавливала вазу для цветов из пластилина и ниток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229600" cy="10238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" descr=""/>
          <p:cNvPicPr/>
          <p:nvPr/>
        </p:nvPicPr>
        <p:blipFill>
          <a:blip r:embed="rId2"/>
          <a:stretch/>
        </p:blipFill>
        <p:spPr>
          <a:xfrm>
            <a:off x="4859280" y="843120"/>
            <a:ext cx="3889440" cy="5832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6840" y="148104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 же делала вазу, украшенную  бумажными жгутам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6" name="Рисунок 3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4295880" cy="644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19240" y="225360"/>
            <a:ext cx="7480080" cy="11462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764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за  для фруктов получилась  такой, как планировалас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вещь  будет  радовать  глаз и поднимать  настрое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очень приятно, что это я сама сделала  своими  рук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было очень интересно работать в этой технике – эта работа очень воспитывает   усидчивость  и прививает  аккуратнос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думаю, что следующее моё изделие в этой технике- посуда с различной народной роспис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7"/>
          <a:stretch/>
        </p:blipFill>
        <p:spPr>
          <a:xfrm>
            <a:off x="7667280" y="1557000"/>
            <a:ext cx="90360" cy="44974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39640" y="134100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указывает БСЭ: " Папье-маше (франц. papier mâché), буквально - жёваная бумага), легко поддающаяся формовке масса, получаемая из волокнистых материалов (бумага, картон и др.), обычно с добавлением клеящих веществ, крахмала, гипса и т. д. Из папье-маше  изготовляются игрушки, учебные пособия, муляжи, театральная бутафория, ларцы, шкатулки,  вазы, украшаемые часто росписью, лакировкой, тиснением "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 точки зрения сегодняшней классификации, папье-маше это конструкционный композитный материал и его можно рассматривать, например,  как  одного из предшественников  древесноволокнистых плит. Подобно  ДВП, папье-маше состоит из волокон целлюлозы и небольшого количества кле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апье-маше изобрели в начале 16 века  во Франции и использовали первоначально для изготовления кукол. Огромный интерес публики к импортным  китайским и японским  лакированным декоративным изделиям стал примерно в 70-х годах 17 века толчком  к развитию производства в Европе  изделий из папье-маш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Из папье-маше изготавливался очень широкий ассортимент изделий : табакерки, шкатулки, игрушки, маски, подносы, архитектурную  лепнину для стен и потолков, подсвечники, рамы для зеркал, декоративные панели для стен, дверей, карет, а так же  разнообразные изделия  мебели, включая кровати и гардеробы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апье-маше в России  стало популярно, вероятно, еще в  эпоху Петра I, который сделал государственной политикой коллекционирование предметов искусств и поддержку ремесел . Но промышленное производство художественных изделий из папье-маше (лаковой миниатюры)  возникло  только в 19 веке ( Федоскино Палех, Мстера и Холуй). К этому же времени относится   расцвет производства изделий из папьемаше   в самых разных странах. Например,  во времена королевы Виктории, на британских островах существовало около  25  компаний по выпуску таких изделий. Наиболее известные мастера этого периода Jennings и Bettridge из Бирмингема, которые имели собственные магазины в Лондоне и Нью-Йорке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609480" y="274680"/>
            <a:ext cx="6943680" cy="8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0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Два века назад московский купец Петр Иванович Коробов, изучивший технологию немецких лаков, изготовляющихся фабрикой Иоганна Штобвассера в городе Брауншвейге, основал в 1795 году в селе Даниловке (часть современного села Федоскино) небольшую фабрику. Местные крестьяне с помощью вывезенных из Германии мастеров быстро освоили технологию изготовления папье-маше, материала, из которого и поныне создают лаковые шкатулки, украшаемые красочной миниатюрой. Поначалу зародившееся в России лаковое производство выпускало лакированные козырьки для военных головных уборов, потом – круглые табакерки, модные в начале XIX ве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 1818 году Федоскинская фабрика перешла к зятю Коробова Петру Васильевичу Лукутину (1784-1863), затем к сыну Александру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Техника изготовления папье-маше отличает русские лаки самим материалом от более древних – японских и китайских лаков с основой на дерев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Нарезанные ленты картона смазываются мучным клейстером и навиваются на деревянные или металлические болванки нужных форм: шкатулки, ларцы, коробочки для мелочей, чайницы и прочие изделия. После прессования заготовку снимают и пропитывают льняным маслом, сушат в специальных шкафах при температуре до 100˚С. Потом приделывают крышку и приделывают донышко. После чего изделие обрабатывается стамесками, наждаками с целью достижения нужного контура формы, шпаклюется и просушивается. После шлифовки накладывается черный лак в несколько слоев. Внутренняя поверхность коробки окрашивается в красный цвет и покрывается бесцветным лаком. Прежде чем приступить к миниатюре черная поверхность пемзуется, отчего она становиться матовой. На нее наноситься рисунок путем перевода или прочерчивания, и начинается сложный процесс живописи. Традиционно в Федоскине пишут масляными красками, соответственно применяя метод реалистической живописи, воспринятый от традиции искусства XVIII-XIX веков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изделия я учитыва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моего мастер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для меня такого издел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на приобретение материалов и инструментов для работ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ремени, необходимое для выполнения издел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78920" y="1481040"/>
            <a:ext cx="52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работы мне понадобилис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ые газеты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ые изрисованные альбомные листы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исть для рисования №5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исть для кле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уашь коричневого цвета 20 мл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0г    клея   ПВА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,1 л бесцветного   акрилового  ла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скутки капронов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609480" y="20160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5000760" y="2997360"/>
            <a:ext cx="4016160" cy="301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19:32Z</dcterms:created>
  <dc:creator>User</dc:creator>
  <dc:description/>
  <dc:language>en-US</dc:language>
  <cp:lastModifiedBy>комп</cp:lastModifiedBy>
  <dcterms:modified xsi:type="dcterms:W3CDTF">2015-10-17T13:23:16Z</dcterms:modified>
  <cp:revision>41</cp:revision>
  <dc:subject/>
  <dc:title>Слайд 1</dc:title>
</cp:coreProperties>
</file>