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634-D57F-49EB-AF72-8DE1487B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19D-857C-4F9F-9ADC-045B5685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DFCFC-70CE-4B98-BCD2-FA329755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D17F2-671C-4F08-889E-97241A91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1853E-5AC4-466F-A08A-3AECECA7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A6C9A-F577-48C4-A2E2-D49D1852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16391-1030-4D5E-807E-DD3567D0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9A96F-1542-4EAE-9489-209C5DA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6C209-C65A-412D-865D-06E05A8F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201CF-C300-4741-AF2B-A74A2FD1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4A76A-09B8-46A0-88E8-5A7CD0D6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A97-F2DD-44B6-A539-DA62F64C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DC2-7462-4220-8B4E-CCE02A3C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D068-13B9-4C88-98D0-F3CBC55F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B839-FF57-4315-B265-F91A2F12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9589-CE1B-4099-ADA9-8D42DA47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127F-1575-424B-B156-9F6D8AC2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7E1F-BFEB-463C-8E95-7832C0BF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45E3-E450-485A-B9DF-A0013350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5865-324C-4C3D-95DE-C7F97783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F71-2A0E-4445-8207-2C369AEF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5245-98C6-49A5-BE9A-1F5E6C3C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AA17-7BA7-43F9-9BF6-9289A288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7A33-2710-4403-A583-64A357F5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5ADD-4C11-465B-9C56-39533518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BAA0-3DF7-4A08-86F3-8A4F99D2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4D30-C3EA-4E00-B775-9FAF302B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A763-4712-487E-B5FF-462B7FA6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379F-40A5-4A72-9E1B-FCD1E61F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886D-5D68-4318-9ECA-50C1B854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3BEB1-1E2C-413F-AE18-A1B0531A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9A3-A8E3-4A68-8A8D-85CAC58A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4051-DDC9-4225-B84F-27F9C2BF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B36B-C61F-4ADD-B4DD-2BAE47B2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C75B7-F6A6-456E-BBA7-BE6B5210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C86E0-518A-4B25-B622-884DC73B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C29B-9B3B-4F0D-9C5B-6C9F6DA9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1ACD-9586-44C6-8D20-D84CCF2D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DC6B-9BC9-45EF-A2EF-9BD1B066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03E4C-CE4B-451E-9B5A-98985D4E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0CAAB-D7CB-481D-AA29-1C871FD7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857E-31EC-44EA-9D31-EC9162FA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61A-2012-47C6-B724-F8C8F708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B47A-AA13-451D-94CA-19C05116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9BFF-018C-4E82-87B9-C90A28F2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488B2-0397-43E2-8E81-B1E63E49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ADE6-897F-4A05-BAF9-E5F4F678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140F1-9C54-4BCD-B109-21B615D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DF908-1D34-4DD4-AC38-5CE24A8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B8E35-FABD-42BA-84C5-407CA4AF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85108-7712-4731-B268-EEC915F9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33E8-B7BD-4C48-941D-FCA4B2C4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C6016-6C57-401E-92B4-E96E653C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96F-605E-4DE0-AAAE-F11C8C57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E6329-9910-4226-9154-57AD0FB6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C2C3F-E806-4730-975C-7CBB9EEF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99544-2C12-4008-88C0-EBD4F8B4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2F15D-193B-4885-AA35-CAEBCB47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1588-26CF-4A49-9138-3C3A33A2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992B2-C8B0-421F-A459-2CE342A9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E11CD-5C39-4A18-839B-15B1DB0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94905-4F79-41FD-BBC8-9CCD1FE2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C0DBF-3690-4526-AF1A-EDD8E6A6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FF406-1F90-463C-9C7B-BFE5601D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608-3A2F-486B-BAA4-4EFC768F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6628C-BB0E-48FD-A3D9-A37B77A5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33694-D3D0-4135-8259-8D11E3B9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68967-4584-4758-A8B2-DCE34821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92210-D35E-42C3-8C85-09D41400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336A1-957E-4038-82F6-870EF029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2F92C-3E53-4AA6-9486-DE4819B2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AD72D-B42C-475E-B8FA-AE96781A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F1E56-15B0-41F0-A864-8B39C48C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5EE03-BA60-45BC-B362-B0A85200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59EFB-03DE-4CA1-967E-2F4EDC66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F42-5DCA-43C6-9E84-29F2C73D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EED0F-13A4-4BAC-95C2-1B423E6D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8E00C-901B-497A-973C-5A21CAEB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FDC9D-C02E-4EFA-92FC-B2B8682E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23149-046F-457B-80D7-3A6DC325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A29B5-BE43-4399-8FA7-0E544FFD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590AD-F7FA-4F36-8012-F20738A8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ABD6F-95CE-44B1-9FF3-A03D83E4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37C90-EB1F-4FE2-9CD3-21B0FE61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6E280-769E-4FF5-83A5-EF5929AF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AD3C4-7D06-45AC-B538-18778D64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ECC-9CF8-49C1-B13C-68DD2494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484E0-D29B-479F-8347-AD5A6BF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737CB-0298-4A16-B528-EBB743DB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78598-3FA9-45AA-97FB-4AF54A8B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8C9F8-D0D9-43F1-B086-74AF2C83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5A9B9-5AA3-41A4-A56D-7FE9AE81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32FBD-500D-47B1-B78A-45F9D202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41EF2-60F5-46A5-B1A6-EE619CD1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90805-553F-4F85-82CE-D8A37A84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80528-138B-4F06-B520-B707BB8B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FC747-B171-452D-949C-4DAF4F1F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BBE-87D9-4A5A-89F4-60C7E2F3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D196-FB8E-4A74-81FC-72396C7A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6BD05-5E3F-4A7E-AF32-E0DD714C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F0B09-0F57-4E13-B7C7-F8C80569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A9ADB-5324-432D-AA14-37ECE3E5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F75C8-27F8-4ECF-AB94-F3D68E79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23D22-B479-4552-A87E-CA6498CF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47BE-1153-4DE9-8982-415D62C8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4CEE2-EFF3-4E2B-B8E8-4EB8EC39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85D05-D387-4D3E-8499-F0D6CB19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A466A-FFC5-4DF2-9257-0D406DB0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1C12-B939-46C0-87A6-9E5CE215A1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2DD7-AAD2-4A81-9CBB-765E92274F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D0B4-5104-46D3-96C9-6C7A879AE3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FE3A-5400-44D3-A257-2AF618513E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BC0C-3E7B-47D5-BD5D-3C6345B3C8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7B51-D921-43FE-9387-717723D065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D48A-19DE-4908-A8B6-E94A2FC45D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DFCD-9B33-4486-95CF-BCECB7915C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9C7-637D-4BA0-8AD5-681B9B5607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6" descr=""/>
          <p:cNvPicPr/>
          <p:nvPr/>
        </p:nvPicPr>
        <p:blipFill>
          <a:blip r:embed="rId1"/>
          <a:stretch/>
        </p:blipFill>
        <p:spPr>
          <a:xfrm>
            <a:off x="219240" y="225360"/>
            <a:ext cx="7480080" cy="12384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228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арежьте или нарвите газету кусочками. Обмакните их в воду и гладко наложите на форм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3564000" y="1844280"/>
            <a:ext cx="4230720" cy="2879640"/>
          </a:xfrm>
          <a:prstGeom prst="rect">
            <a:avLst/>
          </a:prstGeom>
          <a:ln w="0">
            <a:noFill/>
          </a:ln>
        </p:spPr>
      </p:pic>
      <p:pic>
        <p:nvPicPr>
          <p:cNvPr id="420" name="Картинка 1" descr=""/>
          <p:cNvPicPr/>
          <p:nvPr/>
        </p:nvPicPr>
        <p:blipFill>
          <a:blip r:embed="rId3"/>
          <a:stretch/>
        </p:blipFill>
        <p:spPr>
          <a:xfrm>
            <a:off x="3348000" y="1197000"/>
            <a:ext cx="5568840" cy="41767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Для последующих слоёв кусочки бумаги обмакиваем в кле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опеременно, меняя кусочки газеты и кусочки альбомных листов, наносим ещё 7 слоёв. Каждый слой необходимо тщательно разглаживать руками, чтобы не было складок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36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1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020000" cy="526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аза должна полностью просохнут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ысохшее изделие снимаем с формы и обклеиваем белой бумаго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981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расим вазу  коричневой гуашью, смешанную с клеем ПВА. Необходимо нанести  2 сло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19:32Z</dcterms:created>
  <dc:creator>User</dc:creator>
  <dc:description/>
  <dc:language>en-US</dc:language>
  <cp:lastModifiedBy>комп</cp:lastModifiedBy>
  <dcterms:modified xsi:type="dcterms:W3CDTF">2015-10-17T13:27:40Z</dcterms:modified>
  <cp:revision>40</cp:revision>
  <dc:subject/>
  <dc:title>Слайд 1</dc:title>
</cp:coreProperties>
</file>