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A2E-257B-4C12-97C3-1ED86425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2E1-EA51-496D-A49D-61B828D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46026-A0A6-43D0-BDE7-D0FA1ADB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5460A-26BC-40CA-B539-3086DC9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7BB4C-E2E9-48DD-96BE-10E27708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6658-0F41-4299-9740-E88663A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3846-E757-4E11-A02C-3BB62809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6F214-A1CD-4620-BD6E-17D046C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7BED7-6561-4EC0-B96C-E643F86B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F6F9-896F-493E-A26C-DADB0238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9F4FB-E0BC-4A55-B2E5-1BBDA975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C99-6B97-40E7-A51D-D6AF4D1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668-124E-4541-807A-A267DF29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A3C1-7F04-43D1-89EB-466A41C8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8BE9-0EB1-4DDC-80B4-A3908A35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FB36-CF57-4B05-AF7D-3779E1EE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461A-1762-47F6-BD27-BF2E78E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2CC6-2D5F-4119-AFB2-F5A3766E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269-F83A-4992-A269-ED4298F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C7B5-0028-430A-975C-D8F5F57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64C-EE84-441A-93AA-8E4F32E3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D85A-7C48-4057-B7EA-1EC90D7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FAC-BE49-4F7F-AF45-4A9D058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B5D-032B-4A4C-8877-A2712A80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5474-C010-4F2B-86E0-AE1F494C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8055-1E48-4D72-9EF7-68060967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80BE-E8FC-4A7E-94DB-B6E6285E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DEA5-C1C9-410C-9ACD-EA90DAA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8BB2-D2AF-479F-B035-116EDD7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4DB8-9FEF-41B7-9FFA-223395E7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7EB1-DA29-476B-B521-2963140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969-9977-4FA5-9295-B88E71D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2D08-25CF-40D7-A663-DB0E096C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59EE-1CCB-4769-A6B1-FA983AB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791F-EF65-4A5B-92D4-592A9D3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5C71-5052-4237-932F-4AB8599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5922-892C-4911-9FE0-5DFE910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6DC9-10D2-499F-99C4-9185E7C8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E9EF-84FE-4509-8AB2-084448A9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C2DC-0566-4622-BC3C-715E2F8E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22FC-E05B-4465-B33A-3A1DE1C9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D65F-F37D-44C6-99C2-E74DF92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63E-5A22-4C48-9500-51F1C189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5121-C226-46F0-B80B-FC2A4B5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C861-336A-49B0-BCAC-48603A2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04D9-6187-45FC-A84D-E1F984B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87ED-6FBB-4E5C-A1AD-1FA649D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276B-1714-4FDA-A99E-B8C66C2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E782-F48E-4188-8ECE-CA51729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5953-E76C-4CF1-917E-FA82BD8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F28B-59E3-436E-8C5A-C537C45B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07E0-9F64-4759-949C-08ED354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34F2-2164-4A78-AA8E-588C7576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157-9BC7-4B0B-B4D8-1C53D32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7511-DBA6-4510-9605-C3FC333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D292D-2B27-40B7-8889-30007EE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7BA8-AFD5-4B07-AE55-D1A31F9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03C5-BFD8-4F10-A970-BB97589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BE46-1ED4-430F-9C69-A2E8A49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5763-070A-4CA3-AB04-DE1B519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A5AB-3F64-42D5-884B-219FC55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665D-11F3-477C-A4B3-EA0EDF1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6DAC-8325-44A1-B41F-2114A536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C121-D239-4143-86F4-1260BDFD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C31-1943-4041-A074-3695453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1E42-6DE2-48E8-9FD2-D05B56E2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975B-06EB-4BBB-9A64-762A0F0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47CFA-E120-4D27-8ACD-94ED6E83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6E1BD-0FF3-47DD-91DC-7DA86420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1FC88-E629-41E1-8D02-B02147E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1A2A-7193-44B7-9C06-CE6C4C0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0DB7-8C0D-491F-8FD0-54FA494B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D9EE-AEF3-4545-BED2-7BDB31D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E25C-0478-4C1B-BBF5-B5BAE49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82B0-075D-4709-BE86-3447245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5E2-3F66-4095-8CD6-62D3587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4A40-0E8F-4254-BE3E-39A250AD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6CD2-0287-4683-95EF-7913F7FC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7D19-54E8-4434-83E1-5B1398FC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64BF-A5A0-4862-B2CF-C0E1A816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0873-3012-4763-9698-D7B4162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55DF-AC62-4EDF-9F28-3C2AC0C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DA82-3AE0-4667-9DF2-42FDEDD9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F2ADE-CD4D-4648-8CE7-13C7545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FB1A-41A1-4A3B-835D-C8DBDF95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D20A-ADB7-4AE9-8543-5AD654A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8CB-370B-454E-B4B0-89F9CBE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E657-DE3D-4628-8436-CD746CC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040A-E99C-4AA9-899B-5949125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23C8A-23C5-44C7-9A83-D962168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D367-B693-45BE-A475-611F202A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A09F-3B79-4C35-94C4-14F6919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5371-9629-4CFE-A31C-8A057BD2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D823-58F0-4F6B-AFF2-AA15331B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CF09B-3496-44A3-A57C-0DA59AE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E4AE9-9F5D-4C2C-9110-CA62782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6F82-2C55-45CD-B749-38F10874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803-29BA-44DF-B080-F311FF5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D01A-DA7C-4AA1-A253-BE37DD3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92844-EF4E-4C58-8CA7-202FFF4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2C83-8A6D-452F-860A-41B7F4C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67B6-F6C7-43A2-B277-923287F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EC4B-6CA3-4222-83E1-8D956F3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7B76-9401-4312-80AD-4F5D6A2A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783A-E485-4BDA-8D7F-F4FFEB4B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A5D03-92C1-4F8F-AF35-08DAC902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F4D1-EA03-4FDF-84E8-3784A85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F6F82-F9AF-45AD-8FCA-B0D16A9C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2C17-BC86-43F5-9CD0-ED4A5DFC4F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199-DDE1-4971-B9A2-AD2CEB1050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6545-C6A3-4063-B450-AA4D1639C7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9CA-FB32-4BA4-9ACD-3A260ACA87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ED8-877B-4575-9B45-399E5FE9E8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593-D856-4620-9F71-34F89168DC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455-73E6-4973-8D92-6D632EDBBE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B4C-C098-4BF7-BFDB-7938DBAD5B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725A-0BA9-41AA-8C49-4B2FAE5063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6" descr=""/>
          <p:cNvPicPr/>
          <p:nvPr/>
        </p:nvPicPr>
        <p:blipFill>
          <a:blip r:embed="rId1"/>
          <a:stretch/>
        </p:blipFill>
        <p:spPr>
          <a:xfrm>
            <a:off x="219240" y="225360"/>
            <a:ext cx="7480080" cy="1238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228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арежьте или нарвите газету кусочками. Обмакните их в воду и гладко наложите на форм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564000" y="1844280"/>
            <a:ext cx="4230720" cy="2879640"/>
          </a:xfrm>
          <a:prstGeom prst="rect">
            <a:avLst/>
          </a:prstGeom>
          <a:ln w="0">
            <a:noFill/>
          </a:ln>
        </p:spPr>
      </p:pic>
      <p:pic>
        <p:nvPicPr>
          <p:cNvPr id="420" name="Картинка 1" descr=""/>
          <p:cNvPicPr/>
          <p:nvPr/>
        </p:nvPicPr>
        <p:blipFill>
          <a:blip r:embed="rId3"/>
          <a:stretch/>
        </p:blipFill>
        <p:spPr>
          <a:xfrm>
            <a:off x="3348000" y="1197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ля последующих слоёв кусочки бумаги обмакиваем в кле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переменно, меняя кусочки газеты и кусочки альбомных листов, наносим ещё 7 слоёв. Каждый слой необходимо тщательно разглаживать руками, чтобы не было складок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02000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аза должна полностью просохну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сохшее изделие снимаем с формы и обклеиваем белой бумаго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расим вазу  коричневой гуашью, смешанную с клеем ПВА. Необходимо нанести  2 сло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19:32Z</dcterms:created>
  <dc:creator>User</dc:creator>
  <dc:description/>
  <dc:language>en-US</dc:language>
  <cp:lastModifiedBy>комп</cp:lastModifiedBy>
  <dcterms:modified xsi:type="dcterms:W3CDTF">2015-10-17T13:27:40Z</dcterms:modified>
  <cp:revision>40</cp:revision>
  <dc:subject/>
  <dc:title>Слайд 1</dc:title>
</cp:coreProperties>
</file>