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880-0AD4-4A0F-976B-9A64CC12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F5E-C403-46FB-923C-5E92A188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963-A612-4891-8DD9-AE9583E3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B28-5C1E-4519-BF11-C5B85AA4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FA5-6478-4D28-BFF3-210A8A17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66B-16DC-491C-B0FA-1191C13C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F91-A816-4794-AC0F-8CB7B54A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E56-2D3B-4CCA-A171-D2295B70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C98-821A-40AE-A145-99DDF0EE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57E-41DE-4ED7-B61D-ECA5A26D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DD3-4BAC-4BE0-91C2-D71E0F0D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570-B94C-423E-9023-7535E056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2A6F-BED7-476F-9D71-144ED5DD03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539640" y="47628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рок обобще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О братьях наших меньших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os1.i.ua/3/1/5703144_42d4f4cf.jpg"/>
          <p:cNvPicPr/>
          <p:nvPr/>
        </p:nvPicPr>
        <p:blipFill>
          <a:blip r:embed="rId1"/>
          <a:stretch/>
        </p:blipFill>
        <p:spPr>
          <a:xfrm>
            <a:off x="539640" y="1773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img0.reactor.cc/pics/post/%D0%A1%D0%BE%D0%B2%D0%B0-%D0%BA%D1%80%D1%8B%D0%BB%D1%8C%D1%8F-%D0%B6%D0%B8%D0%B2%D0%BD%D0%BE%D1%81%D1%82%D1%8C-1870750.jpeg"/>
          <p:cNvPicPr/>
          <p:nvPr/>
        </p:nvPicPr>
        <p:blipFill>
          <a:blip r:embed="rId2"/>
          <a:stretch/>
        </p:blipFill>
        <p:spPr>
          <a:xfrm>
            <a:off x="5651640" y="1773360"/>
            <a:ext cx="3313080" cy="253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i.pipec.ru/20130710/59161608630070_14.jpg"/>
          <p:cNvPicPr/>
          <p:nvPr/>
        </p:nvPicPr>
        <p:blipFill>
          <a:blip r:embed="rId3"/>
          <a:stretch/>
        </p:blipFill>
        <p:spPr>
          <a:xfrm>
            <a:off x="2700360" y="4292640"/>
            <a:ext cx="33116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66024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работы на уро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 чем писатели заставляли нас задумать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омнить писателей этого разде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чем отличие художественного рассказа от научно-познавательного текс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яснить название разд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1160" y="-62280"/>
            <a:ext cx="91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положите, как стоит расположить части план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12600"/>
            <a:ext cx="795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и прави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выкрикива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перебиваем друг дру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слышим друг дру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мся работать сообщ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http://alchevskpravoslavniy.ru/wp-content/uploads/2013/08/1.png"/>
          <p:cNvPicPr/>
          <p:nvPr/>
        </p:nvPicPr>
        <p:blipFill>
          <a:blip r:embed="rId1"/>
          <a:stretch/>
        </p:blipFill>
        <p:spPr>
          <a:xfrm>
            <a:off x="3780000" y="2781360"/>
            <a:ext cx="50400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baby-scool.ru/media/book/prosa/bianki/img/sova.jpg"/>
          <p:cNvPicPr/>
          <p:nvPr/>
        </p:nvPicPr>
        <p:blipFill>
          <a:blip r:embed="rId1"/>
          <a:stretch/>
        </p:blipFill>
        <p:spPr>
          <a:xfrm>
            <a:off x="1403280" y="1052640"/>
            <a:ext cx="2459160" cy="280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s://m.nkj.ru/upload/iblock/826/826c78ddb1b44d2d85f4063e7da54cde.jpg"/>
          <p:cNvPicPr/>
          <p:nvPr/>
        </p:nvPicPr>
        <p:blipFill>
          <a:blip r:embed="rId2"/>
          <a:stretch/>
        </p:blipFill>
        <p:spPr>
          <a:xfrm>
            <a:off x="6477120" y="4086360"/>
            <a:ext cx="2666880" cy="27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img-fotki.yandex.ru/get/5508/mihtimak.a7/0_7807f_f6f77209_orig.jpg"/>
          <p:cNvPicPr/>
          <p:nvPr/>
        </p:nvPicPr>
        <p:blipFill>
          <a:blip r:embed="rId3"/>
          <a:stretch/>
        </p:blipFill>
        <p:spPr>
          <a:xfrm>
            <a:off x="5580000" y="1052640"/>
            <a:ext cx="3264120" cy="30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images.mreadz.com/25/24571/27.png"/>
          <p:cNvPicPr/>
          <p:nvPr/>
        </p:nvPicPr>
        <p:blipFill>
          <a:blip r:embed="rId4"/>
          <a:stretch/>
        </p:blipFill>
        <p:spPr>
          <a:xfrm>
            <a:off x="611280" y="4076640"/>
            <a:ext cx="4533840" cy="193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684360" y="33336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 автора и название произве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59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ная мысль произведения выражена в  пословиц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468360" y="1576080"/>
            <a:ext cx="82072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Сова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страха глаза вел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Музыкант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брое братство -дороже богат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Ребята и утята»    Дружно-не грузно,а врозь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ть бро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Храбрый утенок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го не пожелаешь себе, т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другому не дел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24000" y="260280"/>
          <a:ext cx="8569080" cy="6013440"/>
        </p:xfrm>
        <a:graphic>
          <a:graphicData uri="http://schemas.openxmlformats.org/drawingml/2006/table">
            <a:tbl>
              <a:tblPr/>
              <a:tblGrid>
                <a:gridCol w="2232000"/>
                <a:gridCol w="1336680"/>
                <a:gridCol w="1654200"/>
                <a:gridCol w="1671480"/>
                <a:gridCol w="1674720"/>
              </a:tblGrid>
              <a:tr h="93672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личия в художественном и научно-познавательном текст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 тек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ая мысль тек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ства выражения основной мыс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шение автора к героям и событи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учно-познавательный 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удожественный 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900000" y="8366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468360" y="148428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clck/jsredir?from=yandex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468360" y="1844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clck/jsredir?from=yandex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539640" y="2205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.pipec.ru/20130710/59161608630070_14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539640" y="2637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aby-scool.ru/media/book/prosa/bianki/img/sova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539640" y="2924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clck/jsredir?from=yandex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611280" y="342900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g-fotki.yandex.ru/get/5508/mihtimak.a7/0_7807f_f6f77209_orig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6T16:42:59Z</dcterms:created>
  <dc:creator>Пользователь</dc:creator>
  <dc:description/>
  <dc:language>en-US</dc:language>
  <cp:lastModifiedBy>Пользователь</cp:lastModifiedBy>
  <dcterms:modified xsi:type="dcterms:W3CDTF">2015-10-16T20:59:33Z</dcterms:modified>
  <cp:revision>13</cp:revision>
  <dc:subject/>
  <dc:title>Слайд 1</dc:title>
</cp:coreProperties>
</file>