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B01-45B8-4473-9B00-8BDD7A83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5B7-1E63-486A-86A5-F34EDA5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B81-1EB3-4F45-A9C2-EFA45AEF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614-61FD-4881-94AE-7B8AF17E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103-D532-4BC8-B3CF-852203F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B97-079F-40FA-9927-4A5C0C15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8CC-678A-4204-BA0B-27F78E4B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2EF-342B-4A09-99CF-79D740D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770-274E-4AE5-842E-90F2435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EC3-0237-4EC4-A336-6D76621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9E0-7429-47B3-A5F0-B0CF29D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37C-7712-43AA-9A3D-DA231EB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3A3-D58A-4DFA-A1D2-38F14025CD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44080" y="333360"/>
            <a:ext cx="67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ставление и решение задач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festival.1september.ru/articles/517651/img2.JPG"/>
          <p:cNvPicPr/>
          <p:nvPr/>
        </p:nvPicPr>
        <p:blipFill>
          <a:blip r:embed="rId1"/>
          <a:stretch/>
        </p:blipFill>
        <p:spPr>
          <a:xfrm>
            <a:off x="0" y="2247840"/>
            <a:ext cx="4433760" cy="461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uchportal.ru/_ld/281/17678373.jpg"/>
          <p:cNvPicPr/>
          <p:nvPr/>
        </p:nvPicPr>
        <p:blipFill>
          <a:blip r:embed="rId2"/>
          <a:stretch/>
        </p:blipFill>
        <p:spPr>
          <a:xfrm>
            <a:off x="4552920" y="1125360"/>
            <a:ext cx="4591080" cy="344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25680" y="5732640"/>
            <a:ext cx="28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зентацию составил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мелева А.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24000" y="1052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festival.1september.ru/articles/517651/img2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95280" y="1557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uchportal.ru/_ld/281/17678373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95280" y="1916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a742.phobos.apple.com/us/r1000/118/Purple/v4/04/ed/16/04ed16d2-46d1-e52c-dfba-1270c13d679f/VTJuxktCXHOQYirV7fAmNg-temp-upload.fhtogclg.1024x1024-65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68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rs232tousbconverters.com/image/55fc71ad81403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468360" y="3213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g.4mama.com.ua/pictures/content/1/1282_slider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68360" y="364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5klass.net/datas/matematika/Slozhenie-i-vychitanie-1-klass/0011-011-Slozhenie-i-vychitanie-1-klass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68360" y="43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lit-yaz.ru/pars_docs/refs/99/98979/98979_html_61e69678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9640" y="4797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cor.edu.27.ru/dlrstore/de815354-756b-4ada-81be-34039114ab05/ur33/z33_4_files/chick_duck.gi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new.stihi.ru/pics/2015/04/01/5477.jpg"/>
          <p:cNvPicPr/>
          <p:nvPr/>
        </p:nvPicPr>
        <p:blipFill>
          <a:blip r:embed="rId1"/>
          <a:stretch/>
        </p:blipFill>
        <p:spPr>
          <a:xfrm>
            <a:off x="0" y="98100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202920" y="260280"/>
            <a:ext cx="276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тный сч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944680" y="1197000"/>
            <a:ext cx="319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 козлен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пасете ребят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считать буде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 поряд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720160" y="508464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 ряд от 10 до 15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 ряд от 15 до 20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 ряд от 20 до 10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720" y="0"/>
            <a:ext cx="57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ажите быстрей без подсказ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е число в названии сказ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new.stihi.ru/pics/2015/04/01/5477.jpg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333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480" y="2205000"/>
            <a:ext cx="581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ольше 7 ,но меньше 9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Меньше 7,но больше 5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За числом 8 следует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Какое число больше 3 на 1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Какое число меньше 9 на 1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Назовите соседей числа 5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742.phobos.apple.com/us/r1000/118/Purple/v4/04/ed/16/04ed16d2-46d1-e52c-dfba-1270c13d679f/VTJuxktCXHOQYirV7fAmNg-temp-upload.fhtogclg.1024x1024-65.jpg"/>
          <p:cNvPicPr/>
          <p:nvPr/>
        </p:nvPicPr>
        <p:blipFill>
          <a:blip r:embed="rId1"/>
          <a:stretch/>
        </p:blipFill>
        <p:spPr>
          <a:xfrm>
            <a:off x="0" y="0"/>
            <a:ext cx="2484360" cy="429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005280" y="189000"/>
            <a:ext cx="55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Чтоб вернуть козлят в до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ужно знать состав числ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http://rs232tousbconverters.com/image/55fc71ad81403.jpg"/>
          <p:cNvPicPr/>
          <p:nvPr/>
        </p:nvPicPr>
        <p:blipFill>
          <a:blip r:embed="rId2"/>
          <a:stretch/>
        </p:blipFill>
        <p:spPr>
          <a:xfrm>
            <a:off x="1962000" y="1447920"/>
            <a:ext cx="718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1360" y="189000"/>
            <a:ext cx="84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Каких сказочных героев вы успели запомнит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http://img.4mama.com.ua/pictures/content/1/1282_slider.jpg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5klass.net/datas/matematika/Slozhenie-i-vychitanie-1-klass/0011-011-Slozhenie-i-vychitanie-1-klass.jpg"/>
          <p:cNvPicPr/>
          <p:nvPr/>
        </p:nvPicPr>
        <p:blipFill>
          <a:blip r:embed="rId2"/>
          <a:stretch/>
        </p:blipFill>
        <p:spPr>
          <a:xfrm>
            <a:off x="6300720" y="981000"/>
            <a:ext cx="232560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lit-yaz.ru/pars_docs/refs/99/98979/98979_html_61e69678.jpg"/>
          <p:cNvPicPr/>
          <p:nvPr/>
        </p:nvPicPr>
        <p:blipFill>
          <a:blip r:embed="rId3"/>
          <a:stretch/>
        </p:blipFill>
        <p:spPr>
          <a:xfrm>
            <a:off x="3419640" y="836640"/>
            <a:ext cx="2089080" cy="235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rpp.nashaucheba.ru/pars_docs/refs/117/116992/img8.jpg"/>
          <p:cNvPicPr/>
          <p:nvPr/>
        </p:nvPicPr>
        <p:blipFill>
          <a:blip r:embed="rId4"/>
          <a:stretch/>
        </p:blipFill>
        <p:spPr>
          <a:xfrm>
            <a:off x="250920" y="4221000"/>
            <a:ext cx="268920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ieshua-mashiah.com/wp-content/uploads/2014/07/Vinni-Puh-001.jpg"/>
          <p:cNvPicPr/>
          <p:nvPr/>
        </p:nvPicPr>
        <p:blipFill>
          <a:blip r:embed="rId5"/>
          <a:stretch/>
        </p:blipFill>
        <p:spPr>
          <a:xfrm>
            <a:off x="2987640" y="3500280"/>
            <a:ext cx="269244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c.pics.livejournal.com/s_i_v/75539274/1637956/1637956_original.jpg"/>
          <p:cNvPicPr/>
          <p:nvPr/>
        </p:nvPicPr>
        <p:blipFill>
          <a:blip r:embed="rId6"/>
          <a:stretch/>
        </p:blipFill>
        <p:spPr>
          <a:xfrm>
            <a:off x="5940360" y="4149720"/>
            <a:ext cx="2976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300480" y="189000"/>
            <a:ext cx="48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бы волка обхитри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дачи нужно нам реши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50ds.ru/img/_3MO0Y264L.jpg"/>
          <p:cNvPicPr/>
          <p:nvPr/>
        </p:nvPicPr>
        <p:blipFill>
          <a:blip r:embed="rId1"/>
          <a:stretch/>
        </p:blipFill>
        <p:spPr>
          <a:xfrm>
            <a:off x="611280" y="1341360"/>
            <a:ext cx="8192880" cy="489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a742.phobos.apple.com/us/r1000/118/Purple/v4/04/ed/16/04ed16d2-46d1-e52c-dfba-1270c13d679f/VTJuxktCXHOQYirV7fAmNg-temp-upload.fhtogclg.1024x1024-65.jpg"/>
          <p:cNvPicPr/>
          <p:nvPr/>
        </p:nvPicPr>
        <p:blipFill>
          <a:blip r:embed="rId2"/>
          <a:stretch/>
        </p:blipFill>
        <p:spPr>
          <a:xfrm>
            <a:off x="6372360" y="2133720"/>
            <a:ext cx="2484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43160" y="333360"/>
            <a:ext cx="61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ьте задачу по иллюстр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cor.edu.27.ru/dlrstore/de815354-756b-4ada-81be-34039114ab05/ur33/z33_4_files/chick_duck.gif"/>
          <p:cNvPicPr/>
          <p:nvPr/>
        </p:nvPicPr>
        <p:blipFill>
          <a:blip r:embed="rId1"/>
          <a:stretch/>
        </p:blipFill>
        <p:spPr>
          <a:xfrm>
            <a:off x="0" y="1700280"/>
            <a:ext cx="8572680" cy="3571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486880" y="530064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+2=6(пт.)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37200" y="189000"/>
            <a:ext cx="76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ставьте задачу по иллюстраци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http://122012.imgbb.ru/user/90/906201/1/fdced02266447ddce61ccb66a1b0774d.jpg"/>
          <p:cNvPicPr/>
          <p:nvPr/>
        </p:nvPicPr>
        <p:blipFill>
          <a:blip r:embed="rId1"/>
          <a:stretch/>
        </p:blipFill>
        <p:spPr>
          <a:xfrm>
            <a:off x="250920" y="1125360"/>
            <a:ext cx="5567400" cy="556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5952600" y="1844640"/>
            <a:ext cx="21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-3=6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23520" y="328464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+3=9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ожно ли по этим иллюстрациям составить задачи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Объясни отве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tr.lideone.com/cache/images/g/3/3dd99ddc99dd9c6cfc9ead37693d5010.jpg"/>
          <p:cNvPicPr/>
          <p:nvPr/>
        </p:nvPicPr>
        <p:blipFill>
          <a:blip r:embed="rId1"/>
          <a:stretch/>
        </p:blipFill>
        <p:spPr>
          <a:xfrm>
            <a:off x="0" y="1844640"/>
            <a:ext cx="3780000" cy="30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nadom.pl.ua/published/publicdata/USER1010SHOP/attachments/SC/products_pictures/apelsin-1kg-1_enl.jpg"/>
          <p:cNvPicPr/>
          <p:nvPr/>
        </p:nvPicPr>
        <p:blipFill>
          <a:blip r:embed="rId2"/>
          <a:stretch/>
        </p:blipFill>
        <p:spPr>
          <a:xfrm>
            <a:off x="4402080" y="3618000"/>
            <a:ext cx="4741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9:41:47Z</dcterms:created>
  <dc:creator>Пользователь</dc:creator>
  <dc:description/>
  <dc:language>en-US</dc:language>
  <cp:lastModifiedBy>Пользователь</cp:lastModifiedBy>
  <dcterms:modified xsi:type="dcterms:W3CDTF">2015-10-17T11:14:30Z</dcterms:modified>
  <cp:revision>10</cp:revision>
  <dc:subject/>
  <dc:title>Слайд 1</dc:title>
</cp:coreProperties>
</file>