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855492824203767"/>
          <c:y val="0.0852532833020638"/>
          <c:w val="0.759212170839978"/>
          <c:h val="0.681050656660413"/>
        </c:manualLayout>
      </c:layout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Не знаю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занимаешься ли ты спортом?</c:v>
                </c:pt>
                <c:pt idx="1">
                  <c:v>хочешь достичь результатов в спорте?</c:v>
                </c:pt>
                <c:pt idx="2">
                  <c:v>делаешь зарядку?</c:v>
                </c:pt>
                <c:pt idx="3">
                  <c:v>делают зарядку родители?</c:v>
                </c:pt>
                <c:pt idx="4">
                  <c:v>нравится урок физкультуры?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</c:v>
                </c:pt>
                <c:pt idx="1">
                  <c:v>0</c:v>
                </c:pt>
                <c:pt idx="2">
                  <c:v>2</c:v>
                </c:pt>
                <c:pt idx="3">
                  <c:v>1</c:v>
                </c:pt>
                <c:pt idx="4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Нет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занимаешься ли ты спортом?</c:v>
                </c:pt>
                <c:pt idx="1">
                  <c:v>хочешь достичь результатов в спорте?</c:v>
                </c:pt>
                <c:pt idx="2">
                  <c:v>делаешь зарядку?</c:v>
                </c:pt>
                <c:pt idx="3">
                  <c:v>делают зарядку родители?</c:v>
                </c:pt>
                <c:pt idx="4">
                  <c:v>нравится урок физкультуры?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3</c:v>
                </c:pt>
                <c:pt idx="1">
                  <c:v>0</c:v>
                </c:pt>
                <c:pt idx="2">
                  <c:v>9</c:v>
                </c:pt>
                <c:pt idx="3">
                  <c:v>8</c:v>
                </c:pt>
                <c:pt idx="4">
                  <c:v>1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Да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занимаешься ли ты спортом?</c:v>
                </c:pt>
                <c:pt idx="1">
                  <c:v>хочешь достичь результатов в спорте?</c:v>
                </c:pt>
                <c:pt idx="2">
                  <c:v>делаешь зарядку?</c:v>
                </c:pt>
                <c:pt idx="3">
                  <c:v>делают зарядку родители?</c:v>
                </c:pt>
                <c:pt idx="4">
                  <c:v>нравится урок физкультуры?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5"/>
                <c:pt idx="0">
                  <c:v>12</c:v>
                </c:pt>
                <c:pt idx="1">
                  <c:v>15</c:v>
                </c:pt>
                <c:pt idx="2">
                  <c:v>4</c:v>
                </c:pt>
                <c:pt idx="3">
                  <c:v>6</c:v>
                </c:pt>
                <c:pt idx="4">
                  <c:v>14</c:v>
                </c:pt>
              </c:numCache>
            </c:numRef>
          </c:val>
        </c:ser>
        <c:gapWidth val="150"/>
        <c:overlap val="100"/>
        <c:axId val="18970134"/>
        <c:axId val="19528363"/>
      </c:barChart>
      <c:catAx>
        <c:axId val="1897013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d0d0d"/>
                </a:solidFill>
                <a:latin typeface="Times New Roman"/>
              </a:defRPr>
            </a:pPr>
          </a:p>
        </c:txPr>
        <c:crossAx val="19528363"/>
        <c:crosses val="autoZero"/>
        <c:auto val="1"/>
        <c:lblAlgn val="ctr"/>
        <c:lblOffset val="100"/>
        <c:noMultiLvlLbl val="0"/>
      </c:catAx>
      <c:valAx>
        <c:axId val="19528363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8970134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625984251968504"/>
          <c:y val="0.0253045334672862"/>
          <c:w val="0.788031496062992"/>
          <c:h val="0.791159110887856"/>
        </c:manualLayout>
      </c:layout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Не знаю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Вы пример для ребенка в занятиях спортом?</c:v>
                </c:pt>
                <c:pt idx="1">
                  <c:v>Поддерживаете увлечения спортом ребенка?</c:v>
                </c:pt>
                <c:pt idx="2">
                  <c:v>Ребенок должен заниматься спортом профессионально?</c:v>
                </c:pt>
                <c:pt idx="3">
                  <c:v>Уроки физкультуры важны?</c:v>
                </c:pt>
                <c:pt idx="4">
                  <c:v>Нравится ли ороганизация уроков физкультуры?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Нет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Вы пример для ребенка в занятиях спортом?</c:v>
                </c:pt>
                <c:pt idx="1">
                  <c:v>Поддерживаете увлечения спортом ребенка?</c:v>
                </c:pt>
                <c:pt idx="2">
                  <c:v>Ребенок должен заниматься спортом профессионально?</c:v>
                </c:pt>
                <c:pt idx="3">
                  <c:v>Уроки физкультуры важны?</c:v>
                </c:pt>
                <c:pt idx="4">
                  <c:v>Нравится ли ороганизация уроков физкультуры?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6</c:v>
                </c:pt>
                <c:pt idx="1">
                  <c:v>0</c:v>
                </c:pt>
                <c:pt idx="2">
                  <c:v>12</c:v>
                </c:pt>
                <c:pt idx="3">
                  <c:v>0</c:v>
                </c:pt>
                <c:pt idx="4">
                  <c:v>3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Да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Вы пример для ребенка в занятиях спортом?</c:v>
                </c:pt>
                <c:pt idx="1">
                  <c:v>Поддерживаете увлечения спортом ребенка?</c:v>
                </c:pt>
                <c:pt idx="2">
                  <c:v>Ребенок должен заниматься спортом профессионально?</c:v>
                </c:pt>
                <c:pt idx="3">
                  <c:v>Уроки физкультуры важны?</c:v>
                </c:pt>
                <c:pt idx="4">
                  <c:v>Нравится ли ороганизация уроков физкультуры?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5"/>
                <c:pt idx="0">
                  <c:v>8</c:v>
                </c:pt>
                <c:pt idx="1">
                  <c:v>14</c:v>
                </c:pt>
                <c:pt idx="2">
                  <c:v>2</c:v>
                </c:pt>
                <c:pt idx="3">
                  <c:v>14</c:v>
                </c:pt>
                <c:pt idx="4">
                  <c:v>11</c:v>
                </c:pt>
              </c:numCache>
            </c:numRef>
          </c:val>
        </c:ser>
        <c:gapWidth val="150"/>
        <c:overlap val="100"/>
        <c:axId val="16919306"/>
        <c:axId val="68033622"/>
      </c:barChart>
      <c:catAx>
        <c:axId val="1691930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68033622"/>
        <c:crosses val="autoZero"/>
        <c:auto val="1"/>
        <c:lblAlgn val="ctr"/>
        <c:lblOffset val="100"/>
        <c:noMultiLvlLbl val="0"/>
      </c:catAx>
      <c:valAx>
        <c:axId val="6803362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919306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846034667541558"/>
          <c:y val="0.401837978279708"/>
          <c:w val="0.144517060367455"/>
          <c:h val="0.176387728020517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D4A-CDB7-4FC4-AA16-350A0D15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511-524B-410C-8DCE-1EF57A01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A92-5D53-4077-982B-A2DC928E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C69-35E1-41E8-A2E0-655CC3D5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3A3B-DFFF-4BF5-AC64-C0B199CD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9B79-CECD-4F34-BAF7-7F86499D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A437-4886-44CD-B3C2-635C9447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2E76-3BCB-428B-96D9-BC959983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EEF7-91B2-4A34-809C-53A0B0DB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6B7F-442E-47A8-ACD6-E0B31E26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2374-ADD3-4D03-8167-59BE13E5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670-5719-41D2-86CE-54BB980C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4DC7-4837-49D4-8A42-5802A330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0BFD-C9BE-42BE-8D46-783C5CB5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BD43-61F9-4F1D-A2FF-92D8EC7C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C3C6-16F2-4BAA-9A2A-EE883D4C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08B1-6C93-4977-B51D-3E3E38EE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D51-1AB9-4266-B002-69BC5E61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68A-2D5A-4202-BC36-E2B13496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ED2A-F8B9-4D13-81B7-CE7BABC1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F5A-A881-4456-B66B-3C0D92A8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593-9452-4AD2-B3FF-9FB84F48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A3B-32CB-414F-9019-414E8726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8C6-C659-4FFF-84F0-DAEEBA07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270FC3-409A-4FB5-AD7B-724D540A345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A571C0-1CF6-4F74-9B97-7ED5F297C1A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4">
                    <a:lumMod val="50000"/>
                  </a:schemeClr>
                </a:solidFill>
                <a:latin typeface="Comic Sans MS"/>
              </a:rPr>
              <a:t>Мне нужны занятия физкультурой?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rcRect l="0" t="0" r="3477" b="52609"/>
          <a:stretch/>
        </p:blipFill>
        <p:spPr>
          <a:xfrm>
            <a:off x="0" y="5383800"/>
            <a:ext cx="3851640" cy="1473840"/>
          </a:xfrm>
          <a:prstGeom prst="rect">
            <a:avLst/>
          </a:prstGeom>
          <a:ln w="9525">
            <a:noFill/>
          </a:ln>
        </p:spPr>
      </p:pic>
      <p:sp>
        <p:nvSpPr>
          <p:cNvPr id="84" name="TextBox 4"/>
          <p:cNvSpPr/>
          <p:nvPr/>
        </p:nvSpPr>
        <p:spPr>
          <a:xfrm>
            <a:off x="2915640" y="1917000"/>
            <a:ext cx="3456000" cy="31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ru-RU" sz="1800" spc="-1" strike="noStrike">
                <a:solidFill>
                  <a:srgbClr val="10243e"/>
                </a:solidFill>
                <a:latin typeface="Comic Sans MS"/>
              </a:rPr>
              <a:t>Презентация</a:t>
            </a:r>
            <a:r>
              <a:rPr b="0" lang="ru-RU" sz="1800" spc="-1" strike="noStrike">
                <a:solidFill>
                  <a:srgbClr val="10243e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ru-RU" sz="1800" spc="-1" strike="noStrike">
                <a:solidFill>
                  <a:srgbClr val="10243e"/>
                </a:solidFill>
                <a:latin typeface="Comic Sans MS"/>
              </a:rPr>
              <a:t>к исследовательско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Comic Sans MS"/>
              </a:rPr>
              <a:t>Подготовила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Comic Sans MS"/>
              </a:rPr>
              <a:t>Паршинцева Анге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Comic Sans MS"/>
              </a:rPr>
              <a:t>Ученица 9 «А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Comic Sans MS"/>
              </a:rPr>
              <a:t>МБОУ «СОШ № 5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Comic Sans MS"/>
              </a:rPr>
              <a:t>Учитель Кравчук О.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rcRect l="54975" t="0" r="0" b="52609"/>
          <a:stretch/>
        </p:blipFill>
        <p:spPr>
          <a:xfrm>
            <a:off x="7452360" y="5383800"/>
            <a:ext cx="1691280" cy="1473840"/>
          </a:xfrm>
          <a:prstGeom prst="rect">
            <a:avLst/>
          </a:prstGeom>
          <a:ln w="9525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rcRect l="3657" t="45813" r="0" b="9341"/>
          <a:stretch/>
        </p:blipFill>
        <p:spPr>
          <a:xfrm>
            <a:off x="3852000" y="5462640"/>
            <a:ext cx="3600000" cy="1395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691236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Для чего мне физкультур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640" y="1628640"/>
            <a:ext cx="5832360" cy="86364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25560">
            <a:solidFill>
              <a:srgbClr val="4f81bd"/>
            </a:solidFill>
            <a:round/>
          </a:ln>
        </p:spPr>
        <p:txBody>
          <a:bodyPr anchor="t">
            <a:normAutofit fontScale="89000"/>
          </a:bodyPr>
          <a:p>
            <a:pPr marL="494640" indent="-49464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Calibri"/>
              <a:buAutoNum type="arabicPeriod"/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Получение большого объема знаний и информаци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23640" y="1052640"/>
            <a:ext cx="8136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600" spc="-1" strike="noStrike">
                <a:solidFill>
                  <a:srgbClr val="c00000"/>
                </a:solidFill>
                <a:latin typeface="Comic Sans MS"/>
              </a:rPr>
              <a:t>На школьника и его здоровье влияю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041880" y="1772640"/>
            <a:ext cx="3101760" cy="18540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683640" y="2637000"/>
            <a:ext cx="2426760" cy="201600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  <p:sp>
        <p:nvSpPr>
          <p:cNvPr id="92" name="Содержимое 2"/>
          <p:cNvSpPr/>
          <p:nvPr/>
        </p:nvSpPr>
        <p:spPr>
          <a:xfrm>
            <a:off x="3311280" y="3645000"/>
            <a:ext cx="5580720" cy="863640"/>
          </a:xfrm>
          <a:prstGeom prst="wedgeRoundRectCallout">
            <a:avLst>
              <a:gd name="adj1" fmla="val -59550"/>
              <a:gd name="adj2" fmla="val 30118"/>
              <a:gd name="adj3" fmla="val 16667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normAutofit fontScale="90000"/>
          </a:bodyPr>
          <a:p>
            <a:pPr marL="500040" indent="-500040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2. </a:t>
            </a:r>
            <a:r>
              <a:rPr b="0" lang="ru-RU" sz="2800" spc="-1" strike="noStrike">
                <a:solidFill>
                  <a:srgbClr val="10243e"/>
                </a:solidFill>
                <a:latin typeface="Comic Sans MS"/>
              </a:rPr>
              <a:t>Нервное напряжение,  Отрицательные эмо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0040" indent="-50004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одержимое 2"/>
          <p:cNvSpPr/>
          <p:nvPr/>
        </p:nvSpPr>
        <p:spPr>
          <a:xfrm>
            <a:off x="467640" y="5373360"/>
            <a:ext cx="5256360" cy="863640"/>
          </a:xfrm>
          <a:prstGeom prst="wedgeRoundRectCallout">
            <a:avLst>
              <a:gd name="adj1" fmla="val 60508"/>
              <a:gd name="adj2" fmla="val 7219"/>
              <a:gd name="adj3" fmla="val 16667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normAutofit/>
          </a:bodyPr>
          <a:p>
            <a:pPr marL="514440" indent="-514440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3. </a:t>
            </a:r>
            <a:r>
              <a:rPr b="0" lang="ru-RU" sz="2800" spc="-1" strike="noStrike">
                <a:solidFill>
                  <a:srgbClr val="10243e"/>
                </a:solidFill>
                <a:latin typeface="Comic Sans MS"/>
              </a:rPr>
              <a:t>Неправильное 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6372360" y="4581000"/>
            <a:ext cx="2566800" cy="1869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-1476720" y="4653000"/>
            <a:ext cx="46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4860000" y="5157360"/>
            <a:ext cx="3996720" cy="1007640"/>
          </a:xfrm>
          <a:prstGeom prst="wedgeRoundRectCallout">
            <a:avLst>
              <a:gd name="adj1" fmla="val -69221"/>
              <a:gd name="adj2" fmla="val -7353"/>
              <a:gd name="adj3" fmla="val 16667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normAutofit fontScale="26000"/>
          </a:bodyPr>
          <a:p>
            <a:pPr marL="534960" indent="-534960">
              <a:lnSpc>
                <a:spcPct val="100000"/>
              </a:lnSpc>
              <a:tabLst>
                <a:tab algn="l" pos="0"/>
              </a:tabLst>
            </a:pPr>
            <a:r>
              <a:rPr b="0" lang="ru-RU" sz="8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6.  Гиподинамия- «малоподвижность»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323640" y="2997000"/>
            <a:ext cx="4896360" cy="719640"/>
          </a:xfrm>
          <a:prstGeom prst="wedgeRoundRectCallout">
            <a:avLst>
              <a:gd name="adj1" fmla="val 60508"/>
              <a:gd name="adj2" fmla="val 7219"/>
              <a:gd name="adj3" fmla="val 16667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normAutofit/>
          </a:bodyPr>
          <a:p>
            <a:pPr marL="514440" indent="-514440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5. Вредные привы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одержимое 2"/>
          <p:cNvSpPr/>
          <p:nvPr/>
        </p:nvSpPr>
        <p:spPr>
          <a:xfrm>
            <a:off x="4500000" y="548640"/>
            <a:ext cx="4320000" cy="935640"/>
          </a:xfrm>
          <a:prstGeom prst="wedgeRoundRectCallout">
            <a:avLst>
              <a:gd name="adj1" fmla="val -71067"/>
              <a:gd name="adj2" fmla="val -24007"/>
              <a:gd name="adj3" fmla="val 16667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normAutofit fontScale="99000"/>
          </a:bodyPr>
          <a:p>
            <a:pPr marL="550080" indent="-550080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4. Нарушения режима учебы и отды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0080" indent="-55008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683640" y="260640"/>
            <a:ext cx="2736000" cy="2232000"/>
          </a:xfrm>
          <a:prstGeom prst="rect">
            <a:avLst/>
          </a:prstGeom>
          <a:ln w="9525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5724000" y="2061000"/>
            <a:ext cx="3024000" cy="2304000"/>
          </a:xfrm>
          <a:prstGeom prst="rect">
            <a:avLst/>
          </a:prstGeom>
          <a:ln w="9525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rcRect l="0" t="0" r="0" b="17954"/>
          <a:stretch/>
        </p:blipFill>
        <p:spPr>
          <a:xfrm>
            <a:off x="611640" y="4005000"/>
            <a:ext cx="3528000" cy="2428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5640" y="274680"/>
            <a:ext cx="7210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Если мы не занимаемся физкультурой, то…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91640" y="1196640"/>
            <a:ext cx="756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Самые распространенные болезни школьни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179640" y="1989000"/>
            <a:ext cx="2520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Плохое з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3573000"/>
            <a:ext cx="3030120" cy="2484000"/>
          </a:xfrm>
          <a:prstGeom prst="rect">
            <a:avLst/>
          </a:prstGeom>
          <a:ln w="9525">
            <a:noFill/>
          </a:ln>
        </p:spPr>
      </p:pic>
      <p:sp>
        <p:nvSpPr>
          <p:cNvPr id="106" name="TextBox 7"/>
          <p:cNvSpPr/>
          <p:nvPr/>
        </p:nvSpPr>
        <p:spPr>
          <a:xfrm>
            <a:off x="2915640" y="1989000"/>
            <a:ext cx="2952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Болезни желу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816" t="11811" r="-1096" b="7866"/>
          <a:stretch/>
        </p:blipFill>
        <p:spPr>
          <a:xfrm>
            <a:off x="3204000" y="3285000"/>
            <a:ext cx="2664000" cy="2808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8" name="Picture 5" descr=""/>
          <p:cNvPicPr/>
          <p:nvPr/>
        </p:nvPicPr>
        <p:blipFill>
          <a:blip r:embed="rId3"/>
          <a:srcRect l="0" t="0" r="0" b="5128"/>
          <a:stretch/>
        </p:blipFill>
        <p:spPr>
          <a:xfrm>
            <a:off x="5868000" y="3357000"/>
            <a:ext cx="3275640" cy="2880000"/>
          </a:xfrm>
          <a:prstGeom prst="rect">
            <a:avLst/>
          </a:prstGeom>
          <a:ln w="9525">
            <a:noFill/>
          </a:ln>
        </p:spPr>
      </p:pic>
      <p:sp>
        <p:nvSpPr>
          <p:cNvPr id="109" name="TextBox 10"/>
          <p:cNvSpPr/>
          <p:nvPr/>
        </p:nvSpPr>
        <p:spPr>
          <a:xfrm>
            <a:off x="6444360" y="1845000"/>
            <a:ext cx="230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Искривление позвоноч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11"/>
          <p:cNvSpPr/>
          <p:nvPr/>
        </p:nvSpPr>
        <p:spPr>
          <a:xfrm>
            <a:off x="971640" y="2637000"/>
            <a:ext cx="43164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Стрелка вниз 12"/>
          <p:cNvSpPr/>
          <p:nvPr/>
        </p:nvSpPr>
        <p:spPr>
          <a:xfrm>
            <a:off x="4068000" y="2637000"/>
            <a:ext cx="43164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Стрелка вниз 13"/>
          <p:cNvSpPr/>
          <p:nvPr/>
        </p:nvSpPr>
        <p:spPr>
          <a:xfrm>
            <a:off x="7452360" y="2709000"/>
            <a:ext cx="43164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56640"/>
            <a:ext cx="82292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Школьни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11640" y="-136080"/>
            <a:ext cx="814680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400" spc="-1" strike="noStrike">
                <a:solidFill>
                  <a:srgbClr val="17375e"/>
                </a:solidFill>
                <a:latin typeface="Comic Sans MS"/>
              </a:rPr>
              <a:t>Результаты исследования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Диаграмма 4"/>
          <p:cNvGraphicFramePr/>
          <p:nvPr/>
        </p:nvGraphicFramePr>
        <p:xfrm>
          <a:off x="467640" y="2061000"/>
          <a:ext cx="8352720" cy="4796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11840" cy="2143800"/>
          </a:xfrm>
          <a:prstGeom prst="rect">
            <a:avLst/>
          </a:prstGeom>
          <a:ln w="9525">
            <a:noFill/>
          </a:ln>
        </p:spPr>
      </p:pic>
      <p:sp>
        <p:nvSpPr>
          <p:cNvPr id="117" name="TextBox 7"/>
          <p:cNvSpPr/>
          <p:nvPr/>
        </p:nvSpPr>
        <p:spPr>
          <a:xfrm>
            <a:off x="1331640" y="836640"/>
            <a:ext cx="756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Я провела исследование в классе – Отношение к занятиям физкультурой и спортом у моих одноклассников и их род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Родител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Диаграмма 3"/>
          <p:cNvGraphicFramePr/>
          <p:nvPr/>
        </p:nvGraphicFramePr>
        <p:xfrm>
          <a:off x="0" y="1124640"/>
          <a:ext cx="9143640" cy="5733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988000" y="332640"/>
            <a:ext cx="569844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omic Sans MS"/>
              </a:rPr>
              <a:t>Правило: Все дети должны постоянно заниматься спорт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67640" y="2925000"/>
            <a:ext cx="8136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Вывод: Главная цель занятий физкультурой – это здоровье и нормальное развитие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23640" y="4509000"/>
            <a:ext cx="6120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Физкультура для детей – это верный друг и добрый спут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943720" cy="2979000"/>
          </a:xfrm>
          <a:prstGeom prst="rect">
            <a:avLst/>
          </a:prstGeom>
          <a:ln w="9525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6156000" y="4149000"/>
            <a:ext cx="2987640" cy="2708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</TotalTime>
  <Application>LibreOffice/7.4.7.2$Linux_X86_64 LibreOffice_project/40$Build-2</Application>
  <AppVersion>15.0000</AppVersion>
  <Words>153</Words>
  <Paragraphs>30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6:20:54Z</dcterms:created>
  <dc:creator>Марина</dc:creator>
  <dc:description/>
  <dc:language>en-US</dc:language>
  <cp:lastModifiedBy>Марина</cp:lastModifiedBy>
  <dcterms:modified xsi:type="dcterms:W3CDTF">2015-10-17T11:03:47Z</dcterms:modified>
  <cp:revision>40</cp:revision>
  <dc:subject/>
  <dc:title>Мне нужны занятия физкультурой?!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