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55492824203767"/>
          <c:y val="0.0852532833020638"/>
          <c:w val="0.759212170839978"/>
          <c:h val="0.681050656660413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е знаю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1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3</c:v>
                </c:pt>
                <c:pt idx="1">
                  <c:v>0</c:v>
                </c:pt>
                <c:pt idx="2">
                  <c:v>9</c:v>
                </c:pt>
                <c:pt idx="3">
                  <c:v>8</c:v>
                </c:pt>
                <c:pt idx="4">
                  <c:v>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занимаешься ли ты спортом?</c:v>
                </c:pt>
                <c:pt idx="1">
                  <c:v>хочешь достичь результатов в спорте?</c:v>
                </c:pt>
                <c:pt idx="2">
                  <c:v>делаешь зарядку?</c:v>
                </c:pt>
                <c:pt idx="3">
                  <c:v>делают зарядку родители?</c:v>
                </c:pt>
                <c:pt idx="4">
                  <c:v>нравится урок физкультуры?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12</c:v>
                </c:pt>
                <c:pt idx="1">
                  <c:v>15</c:v>
                </c:pt>
                <c:pt idx="2">
                  <c:v>4</c:v>
                </c:pt>
                <c:pt idx="3">
                  <c:v>6</c:v>
                </c:pt>
                <c:pt idx="4">
                  <c:v>14</c:v>
                </c:pt>
              </c:numCache>
            </c:numRef>
          </c:val>
        </c:ser>
        <c:gapWidth val="150"/>
        <c:overlap val="100"/>
        <c:axId val="62953602"/>
        <c:axId val="52050027"/>
      </c:barChart>
      <c:catAx>
        <c:axId val="629536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d0d0d"/>
                </a:solidFill>
                <a:latin typeface="Times New Roman"/>
              </a:defRPr>
            </a:pPr>
          </a:p>
        </c:txPr>
        <c:crossAx val="52050027"/>
        <c:crosses val="autoZero"/>
        <c:auto val="1"/>
        <c:lblAlgn val="ctr"/>
        <c:lblOffset val="100"/>
        <c:noMultiLvlLbl val="0"/>
      </c:catAx>
      <c:valAx>
        <c:axId val="5205002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953602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25984251968504"/>
          <c:y val="0.0253045334672862"/>
          <c:w val="0.788031496062992"/>
          <c:h val="0.791159110887856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е знаю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</c:v>
                </c:pt>
                <c:pt idx="1">
                  <c:v>0</c:v>
                </c:pt>
                <c:pt idx="2">
                  <c:v>12</c:v>
                </c:pt>
                <c:pt idx="3">
                  <c:v>0</c:v>
                </c:pt>
                <c:pt idx="4">
                  <c:v>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а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Вы пример для ребенка в занятиях спортом?</c:v>
                </c:pt>
                <c:pt idx="1">
                  <c:v>Поддерживаете увлечения спортом ребенка?</c:v>
                </c:pt>
                <c:pt idx="2">
                  <c:v>Ребенок должен заниматься спортом профессионально?</c:v>
                </c:pt>
                <c:pt idx="3">
                  <c:v>Уроки физкультуры важны?</c:v>
                </c:pt>
                <c:pt idx="4">
                  <c:v>Нравится ли ороганизация уроков физкультуры?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8</c:v>
                </c:pt>
                <c:pt idx="1">
                  <c:v>14</c:v>
                </c:pt>
                <c:pt idx="2">
                  <c:v>2</c:v>
                </c:pt>
                <c:pt idx="3">
                  <c:v>14</c:v>
                </c:pt>
                <c:pt idx="4">
                  <c:v>11</c:v>
                </c:pt>
              </c:numCache>
            </c:numRef>
          </c:val>
        </c:ser>
        <c:gapWidth val="150"/>
        <c:overlap val="100"/>
        <c:axId val="8990436"/>
        <c:axId val="91196293"/>
      </c:barChart>
      <c:catAx>
        <c:axId val="899043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91196293"/>
        <c:crosses val="autoZero"/>
        <c:auto val="1"/>
        <c:lblAlgn val="ctr"/>
        <c:lblOffset val="100"/>
        <c:noMultiLvlLbl val="0"/>
      </c:catAx>
      <c:valAx>
        <c:axId val="9119629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90436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46034667541558"/>
          <c:y val="0.401837978279708"/>
          <c:w val="0.144517060367455"/>
          <c:h val="0.17638772802051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287-815C-484F-8243-615FD3F8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391-41EB-46E5-B1E9-BFA7C6D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325-07A4-414E-A521-A562971F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6F3-7473-4460-8621-6EA5522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5BE0-84EB-4D75-82F1-677CBCAA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0ADE-6DD1-48F3-8CC0-73605ECE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1D2-9A34-4B52-B931-2754423D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91D-67CE-4B01-AA04-56C21C5D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F44E-FC75-48F8-A6AD-8A15BF7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D0F-0F56-47BC-8850-DB718D6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B1D-379D-498F-A339-A8EC7057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9EB-5294-4406-AB05-0F20AB3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282-853F-4CE0-88FF-825CC26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D4FA-46D4-47A6-822D-3175D6E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F6C-68E8-4E5B-8631-B36A616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6E43-E148-4B3F-BDCA-8B130116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6BDD-E1A9-4D7D-9909-07E6A16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FB4-D31A-42B3-973E-ED9C945D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1C7-0974-4812-ABF7-1276CA1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353-4064-4D91-99BF-D7597B1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502-B68B-41F5-A27F-B91855A4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7A3-071D-475B-B260-6DE5294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72A-2AA1-4DD0-874D-FEAD5F08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08F-258B-4BF2-B939-D40033E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772176-954F-4223-BED8-60F9AF6F68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22B680-FFFE-4A30-8F27-9A996F14A6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omic Sans MS"/>
              </a:rPr>
              <a:t>Мне нужны занятия физкультурой?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rcRect l="0" t="0" r="3477" b="52609"/>
          <a:stretch/>
        </p:blipFill>
        <p:spPr>
          <a:xfrm>
            <a:off x="0" y="5383800"/>
            <a:ext cx="3851640" cy="14738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4"/>
          <p:cNvSpPr/>
          <p:nvPr/>
        </p:nvSpPr>
        <p:spPr>
          <a:xfrm>
            <a:off x="2915640" y="1917000"/>
            <a:ext cx="345600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Comic Sans MS"/>
              </a:rPr>
              <a:t>Презентация</a:t>
            </a:r>
            <a:r>
              <a:rPr b="0" lang="ru-RU" sz="1800" spc="-1" strike="noStrike">
                <a:solidFill>
                  <a:srgbClr val="10243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Comic Sans MS"/>
              </a:rPr>
              <a:t>к исследовательск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Подготовила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Паршинцева Анг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Ученица 9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МБОУ «СОШ № 5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Comic Sans MS"/>
              </a:rPr>
              <a:t>Учитель Кравчук О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rcRect l="54975" t="0" r="0" b="52609"/>
          <a:stretch/>
        </p:blipFill>
        <p:spPr>
          <a:xfrm>
            <a:off x="7452360" y="5383800"/>
            <a:ext cx="1691280" cy="147384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rcRect l="3657" t="45813" r="0" b="9341"/>
          <a:stretch/>
        </p:blipFill>
        <p:spPr>
          <a:xfrm>
            <a:off x="3852000" y="5462640"/>
            <a:ext cx="3600000" cy="139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691236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Для чего мне физкуль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5832360" cy="8636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25560">
            <a:solidFill>
              <a:srgbClr val="4f81bd"/>
            </a:solidFill>
            <a:round/>
          </a:ln>
        </p:spPr>
        <p:txBody>
          <a:bodyPr anchor="t">
            <a:normAutofit fontScale="89000"/>
          </a:bodyPr>
          <a:p>
            <a:pPr marL="494640" indent="-4946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Calibri"/>
              <a:buAutoNum type="arabicPeriod"/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олучение большого объема знаний и информ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23640" y="1052640"/>
            <a:ext cx="8136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На школьника и его здоровье влияю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41880" y="1772640"/>
            <a:ext cx="3101760" cy="1854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3640" y="2637000"/>
            <a:ext cx="2426760" cy="2016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92" name="Содержимое 2"/>
          <p:cNvSpPr/>
          <p:nvPr/>
        </p:nvSpPr>
        <p:spPr>
          <a:xfrm>
            <a:off x="3311280" y="3645000"/>
            <a:ext cx="5580720" cy="863640"/>
          </a:xfrm>
          <a:prstGeom prst="wedgeRoundRectCallout">
            <a:avLst>
              <a:gd name="adj1" fmla="val -59550"/>
              <a:gd name="adj2" fmla="val 30118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90000"/>
          </a:bodyPr>
          <a:p>
            <a:pPr marL="500040" indent="-5000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2. </a:t>
            </a:r>
            <a:r>
              <a:rPr b="0" lang="ru-RU" sz="2800" spc="-1" strike="noStrike">
                <a:solidFill>
                  <a:srgbClr val="10243e"/>
                </a:solidFill>
                <a:latin typeface="Comic Sans MS"/>
              </a:rPr>
              <a:t>Нервное напряжение, 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0040" indent="-5000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67640" y="5373360"/>
            <a:ext cx="5256360" cy="863640"/>
          </a:xfrm>
          <a:prstGeom prst="wedgeRoundRectCallout">
            <a:avLst>
              <a:gd name="adj1" fmla="val 60508"/>
              <a:gd name="adj2" fmla="val 7219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3. </a:t>
            </a:r>
            <a:r>
              <a:rPr b="0" lang="ru-RU" sz="2800" spc="-1" strike="noStrike">
                <a:solidFill>
                  <a:srgbClr val="10243e"/>
                </a:solidFill>
                <a:latin typeface="Comic Sans MS"/>
              </a:rPr>
              <a:t>Неправи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372360" y="4581000"/>
            <a:ext cx="2566800" cy="186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-1476720" y="4653000"/>
            <a:ext cx="46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4860000" y="5157360"/>
            <a:ext cx="3996720" cy="1007640"/>
          </a:xfrm>
          <a:prstGeom prst="wedgeRoundRectCallout">
            <a:avLst>
              <a:gd name="adj1" fmla="val -69221"/>
              <a:gd name="adj2" fmla="val -7353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26000"/>
          </a:bodyPr>
          <a:p>
            <a:pPr marL="534960" indent="-534960">
              <a:lnSpc>
                <a:spcPct val="100000"/>
              </a:lnSpc>
              <a:tabLst>
                <a:tab algn="l" pos="0"/>
              </a:tabLst>
            </a:pPr>
            <a:r>
              <a:rPr b="0" lang="ru-RU" sz="8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6.  Гиподинамия- «малоподвижность»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323640" y="2997000"/>
            <a:ext cx="4896360" cy="719640"/>
          </a:xfrm>
          <a:prstGeom prst="wedgeRoundRectCallout">
            <a:avLst>
              <a:gd name="adj1" fmla="val 60508"/>
              <a:gd name="adj2" fmla="val 7219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5. 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4500000" y="548640"/>
            <a:ext cx="4320000" cy="935640"/>
          </a:xfrm>
          <a:prstGeom prst="wedgeRoundRectCallout">
            <a:avLst>
              <a:gd name="adj1" fmla="val -71067"/>
              <a:gd name="adj2" fmla="val -24007"/>
              <a:gd name="adj3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normAutofit fontScale="99000"/>
          </a:bodyPr>
          <a:p>
            <a:pPr marL="550080" indent="-550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4. Нарушения режима учебы и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0080" indent="-55008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83640" y="260640"/>
            <a:ext cx="2736000" cy="223200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724000" y="2061000"/>
            <a:ext cx="3024000" cy="230400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0" t="0" r="0" b="17954"/>
          <a:stretch/>
        </p:blipFill>
        <p:spPr>
          <a:xfrm>
            <a:off x="611640" y="4005000"/>
            <a:ext cx="3528000" cy="242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5640" y="274680"/>
            <a:ext cx="7210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Если мы не занимаемся физкультурой, то…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91640" y="1196640"/>
            <a:ext cx="756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амые распространенные болезни школь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79640" y="1989000"/>
            <a:ext cx="252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Плохое 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3573000"/>
            <a:ext cx="3030120" cy="2484000"/>
          </a:xfrm>
          <a:prstGeom prst="rect">
            <a:avLst/>
          </a:prstGeom>
          <a:ln w="9525">
            <a:noFill/>
          </a:ln>
        </p:spPr>
      </p:pic>
      <p:sp>
        <p:nvSpPr>
          <p:cNvPr id="106" name="TextBox 7"/>
          <p:cNvSpPr/>
          <p:nvPr/>
        </p:nvSpPr>
        <p:spPr>
          <a:xfrm>
            <a:off x="2915640" y="1989000"/>
            <a:ext cx="295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Болезни желу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816" t="11811" r="-1096" b="7866"/>
          <a:stretch/>
        </p:blipFill>
        <p:spPr>
          <a:xfrm>
            <a:off x="3204000" y="3285000"/>
            <a:ext cx="2664000" cy="280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Picture 5" descr=""/>
          <p:cNvPicPr/>
          <p:nvPr/>
        </p:nvPicPr>
        <p:blipFill>
          <a:blip r:embed="rId3"/>
          <a:srcRect l="0" t="0" r="0" b="5128"/>
          <a:stretch/>
        </p:blipFill>
        <p:spPr>
          <a:xfrm>
            <a:off x="5868000" y="3357000"/>
            <a:ext cx="3275640" cy="288000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10"/>
          <p:cNvSpPr/>
          <p:nvPr/>
        </p:nvSpPr>
        <p:spPr>
          <a:xfrm>
            <a:off x="6444360" y="184500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Искривление позвон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1"/>
          <p:cNvSpPr/>
          <p:nvPr/>
        </p:nvSpPr>
        <p:spPr>
          <a:xfrm>
            <a:off x="971640" y="2637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Стрелка вниз 12"/>
          <p:cNvSpPr/>
          <p:nvPr/>
        </p:nvSpPr>
        <p:spPr>
          <a:xfrm>
            <a:off x="4068000" y="2637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Стрелка вниз 13"/>
          <p:cNvSpPr/>
          <p:nvPr/>
        </p:nvSpPr>
        <p:spPr>
          <a:xfrm>
            <a:off x="7452360" y="2709000"/>
            <a:ext cx="43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Школьни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11640" y="-136080"/>
            <a:ext cx="814680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400" spc="-1" strike="noStrike">
                <a:solidFill>
                  <a:srgbClr val="17375e"/>
                </a:solidFill>
                <a:latin typeface="Comic Sans MS"/>
              </a:rPr>
              <a:t>Результаты исследования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Диаграмма 4"/>
          <p:cNvGraphicFramePr/>
          <p:nvPr/>
        </p:nvGraphicFramePr>
        <p:xfrm>
          <a:off x="467640" y="2061000"/>
          <a:ext cx="8352720" cy="4796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11840" cy="214380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7"/>
          <p:cNvSpPr/>
          <p:nvPr/>
        </p:nvSpPr>
        <p:spPr>
          <a:xfrm>
            <a:off x="1331640" y="836640"/>
            <a:ext cx="756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Я провела исследование в классе – Отношение к занятиям физкультурой и спортом у моих одноклассников и их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Родит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Диаграмма 3"/>
          <p:cNvGraphicFramePr/>
          <p:nvPr/>
        </p:nvGraphicFramePr>
        <p:xfrm>
          <a:off x="0" y="1124640"/>
          <a:ext cx="9143640" cy="5733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988000" y="332640"/>
            <a:ext cx="56984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omic Sans MS"/>
              </a:rPr>
              <a:t>Правило: Все дети должны постоянно заниматься спорт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67640" y="2925000"/>
            <a:ext cx="813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Вывод: Главная цель занятий физкультурой – это здоровье и нормальное развити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23640" y="4509000"/>
            <a:ext cx="6120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изкультура для детей – это верный друг и добрый спу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43720" cy="29790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156000" y="4149000"/>
            <a:ext cx="2987640" cy="2708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  <Words>153</Words>
  <Paragraphs>30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20:54Z</dcterms:created>
  <dc:creator>Марина</dc:creator>
  <dc:description/>
  <dc:language>en-US</dc:language>
  <cp:lastModifiedBy>Марина</cp:lastModifiedBy>
  <dcterms:modified xsi:type="dcterms:W3CDTF">2015-10-17T11:03:47Z</dcterms:modified>
  <cp:revision>40</cp:revision>
  <dc:subject/>
  <dc:title>Мне нужны занятия физкультурой?!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