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90170"/>
        <c:axId val="97711267"/>
      </c:barChart>
      <c:catAx>
        <c:axId val="99890170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11267"/>
        <c:crosses val="autoZero"/>
        <c:auto val="1"/>
        <c:lblAlgn val="ctr"/>
        <c:lblOffset val="100"/>
        <c:noMultiLvlLbl val="0"/>
      </c:catAx>
      <c:valAx>
        <c:axId val="97711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38F-BC7B-4E8D-8A9F-D004D473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643-87FE-44C3-9B6D-0AED5F9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46A-CFA4-4521-AE7B-AC05540C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5AB-7D8C-4BA9-8FF4-341576D3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1BD-1D26-416C-B820-E87688D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25F-EBAF-4E76-8D25-2A1819D2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5AF-9C10-4AFB-9605-4CD02818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94A-E78C-4787-83B3-80FDC21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69F-6110-48B7-9280-07840B7B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CE3-5FE8-4DB0-B102-E2BF76B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887-F031-48C3-B05D-8DB1F8A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66F-0504-441A-B7DA-0E72133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63844-C949-44BF-99C1-2C7B3EC61F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8520" y="761760"/>
            <a:ext cx="68263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ированный урок математики и краеве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45120" y="5605560"/>
            <a:ext cx="3571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37120" y="6024600"/>
            <a:ext cx="59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ушкина Вера Михайл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МОУ Ураль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9480" y="1398600"/>
            <a:ext cx="8018280" cy="230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Кизильскому району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1440" y="4095720"/>
            <a:ext cx="6032520" cy="1271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ированный урок 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и и краеведения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6 класс)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ра Синий шихан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(Синий камен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6200" y="1636560"/>
            <a:ext cx="730404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84360"/>
            <a:ext cx="914076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ма по математик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Решение задач по теме «Нахождение дроби от числа и числа по его дроб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1960" y="3859200"/>
            <a:ext cx="82389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ма по краеведению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Кизильский район Челябинской обла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-4752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3280" y="1763640"/>
          <a:ext cx="4451400" cy="512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18120" y="366480"/>
            <a:ext cx="4603680" cy="67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плюев Иван Иван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губернатор Оренбургской губернии. И.И. Неплюевым были основаны крепости и редуты вдоль реки Яик (с 1774г. река Урал) новой военной линии, разграничивая земли России от степей кочующих киргиз-кайсаков. В том числе при слиянии рек Большой Кизил и Яик поставлена крепость Кизиль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60000">
            <a:off x="421920" y="917640"/>
            <a:ext cx="455616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-369720"/>
            <a:ext cx="907236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33800" y="1763640"/>
            <a:ext cx="37414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изильск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амая южная точка Челябин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46040"/>
            <a:ext cx="58341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а Кизильского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1440" y="1679400"/>
            <a:ext cx="556416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684000"/>
            <a:ext cx="91407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районе проживает 24,4 тыс.человек, 28 национальностей: 66,5% русских, казахи - 17%, башкиры – 11%, татары - 2,2%, украинцы 0,7%, белорусы 1.1%, мордва, чуваши, немцы и д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3463560"/>
            <a:ext cx="90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человек каждой национальности проживает в райо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ус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66,5% - 0,6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665=16226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зах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7% - 0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17 = 4148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ашки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1% - 0,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11 = 2684 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5080" y="207720"/>
            <a:ext cx="90723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лощадь Кизильского муниципального района составляет 441 тыс.г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Сельскохозяйственные угодья составляют 90% всей площади, в том числе пашня – 65%, 20% - пастбища, а остальное – сенокосы. Найти площадь сенок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3463560"/>
            <a:ext cx="9072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41000 х 0,9 = 396900(га) – площадь с\х угод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65 = 257985 (га) – площадь паш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2 = 79380 (га) – площадь пастб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– 257985 – 79380 = 59535 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пособ:   441000 х 0,9 = 396900(га) – площадь с\х уго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% - 65% - 20% = 15% - сенок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15 = 59535 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59535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ело Кизиль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9480" y="1398600"/>
            <a:ext cx="8373960" cy="556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2160" y="1239840"/>
            <a:ext cx="8570880" cy="642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716120"/>
            <a:ext cx="10080720" cy="514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57120" y="1230480"/>
            <a:ext cx="9366480" cy="599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880" y="1187280"/>
            <a:ext cx="9367920" cy="637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15880" y="1201680"/>
            <a:ext cx="9286920" cy="635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1239840"/>
            <a:ext cx="10080720" cy="604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1239840"/>
            <a:ext cx="10080720" cy="59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ора Ч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3400" y="1306440"/>
            <a:ext cx="8336160" cy="625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7120" y="1319040"/>
            <a:ext cx="9450360" cy="6240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1239840"/>
            <a:ext cx="10080720" cy="631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18:00Z</dcterms:created>
  <dc:creator/>
  <dc:description/>
  <dc:language>en-US</dc:language>
  <cp:lastModifiedBy/>
  <cp:revision>1</cp:revision>
  <dc:subject/>
  <dc:title/>
</cp:coreProperties>
</file>