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07626"/>
        <c:axId val="58779403"/>
      </c:barChart>
      <c:catAx>
        <c:axId val="57007626"/>
        <c:scaling>
          <c:orientation val="minMax"/>
        </c:scaling>
        <c:delete val="0"/>
        <c:axPos val="b"/>
        <c:numFmt formatCode="[$-419]dd/mm/yyyy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79403"/>
        <c:crosses val="autoZero"/>
        <c:auto val="1"/>
        <c:lblAlgn val="ctr"/>
        <c:lblOffset val="100"/>
        <c:noMultiLvlLbl val="0"/>
      </c:catAx>
      <c:valAx>
        <c:axId val="587794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076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211-5F71-4BE8-86DC-DD2F481C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E0B-089E-4072-9505-0632CD88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7ED-8DEB-431C-A6BE-7D1F2D42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315-96BF-4E14-9F35-595E96EE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352-A76E-4D8E-9A16-E44F82DB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859-4E8E-4EAD-9B74-265C8283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12E-B250-4351-A45C-C1A1163F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87B3-EA94-41E6-9D0D-CBC28026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4E9B-ADD5-424D-8B8C-7AE2C0A1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DE1-8EE8-46BF-8533-AB56BA89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29F-D590-462D-935D-3E841EE5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0BE-E206-42E8-8C0A-A8ADE0CA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307B8-0983-42ED-B409-4586C423367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38520" y="761760"/>
            <a:ext cx="682632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грированный урок математики и краевед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45120" y="5605560"/>
            <a:ext cx="35715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37120" y="6024600"/>
            <a:ext cx="597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16000" indent="-2127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ушкина Вера Михайл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27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математики МОУ Ураль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27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49480" y="1398600"/>
            <a:ext cx="8018280" cy="2301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ешествие </a:t>
            </a:r>
            <a:endParaRPr b="0" lang="en-US" sz="199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Кизильскому району</a:t>
            </a:r>
            <a:endParaRPr b="0" lang="en-US" sz="199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41440" y="4095720"/>
            <a:ext cx="6032520" cy="1271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грированный урок </a:t>
            </a:r>
            <a:endParaRPr b="0" lang="en-US" sz="199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ки и краеведения</a:t>
            </a:r>
            <a:endParaRPr b="0" lang="en-US" sz="199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99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6 класс)</a:t>
            </a:r>
            <a:endParaRPr b="0" lang="en-US" sz="199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Гора Синий шихан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(Синий камень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46200" y="1636560"/>
            <a:ext cx="7304040" cy="546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684360"/>
            <a:ext cx="9140760" cy="17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Тема по математике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«Решение задач по теме «Нахождение дроби от числа и числа по его дроб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1960" y="3859200"/>
            <a:ext cx="823896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Тема по краеведению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«Кизильский район Челябинской облас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-47520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3280" y="1763640"/>
          <a:ext cx="4451400" cy="5121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18120" y="366480"/>
            <a:ext cx="4603680" cy="67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плюев Иван Иванови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губернатор Оренбургской губернии. И.И. Неплюевым были основаны крепости и редуты вдоль реки Яик (с 1774г. река Урал) новой военной линии, разграничивая земли России от степей кочующих киргиз-кайсаков. В том числе при слиянии рек Большой Кизил и Яик поставлена крепость Кизиль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60000">
            <a:off x="421920" y="917640"/>
            <a:ext cx="4556160" cy="59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-369720"/>
            <a:ext cx="907236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33800" y="1763640"/>
            <a:ext cx="374148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изильско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амая южная точка Челябинской обл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46040"/>
            <a:ext cx="5834160" cy="66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та Кизильского рай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72360" cy="514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41440" y="1679400"/>
            <a:ext cx="5564160" cy="588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6760" y="684000"/>
            <a:ext cx="91407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 районе проживает 24,4 тыс.человек, 28 национальностей: 66,5% русских, казахи - 17%, башкиры – 11%, татары - 2,2%, украинцы 0,7%, белорусы 1.1%, мордва, чуваши, немцы и др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3463560"/>
            <a:ext cx="9072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человек каждой национальности проживает в райо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усск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66,5% - 0,66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4400х0,665=16226(че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азах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17% - 0,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4400х0,17 = 4148(че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Башки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11% - 0,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4400х0,11 = 2684 (че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5080" y="207720"/>
            <a:ext cx="90723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лощадь Кизильского муниципального района составляет 441 тыс.га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Сельскохозяйственные угодья составляют 90% всей площади, в том числе пашня – 65%, 20% - пастбища, а остальное – сенокосы. Найти площадь сеноко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3463560"/>
            <a:ext cx="9072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41000 х 0,9 = 396900(га) – площадь с\х угод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96900 х 0,65 = 257985 (га) – площадь паш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96900 х 0,2 = 79380 (га) – площадь пастби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96900 – 257985 – 79380 = 59535 (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способ:   441000 х 0,9 = 396900(га) – площадь с\х угод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0% - 65% - 20% = 15% - сенок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96900 х 0,15 = 59535 (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59535 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Село Кизильск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9480" y="1398600"/>
            <a:ext cx="8373960" cy="5568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92160" y="1239840"/>
            <a:ext cx="8570880" cy="6429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1716120"/>
            <a:ext cx="10080720" cy="5140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57120" y="1230480"/>
            <a:ext cx="9366480" cy="5994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34880" y="1187280"/>
            <a:ext cx="9367920" cy="6372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15880" y="1201680"/>
            <a:ext cx="9286920" cy="6357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0" y="1239840"/>
            <a:ext cx="10080720" cy="6046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0" y="1239840"/>
            <a:ext cx="10080720" cy="596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Гора Ч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3400" y="1306440"/>
            <a:ext cx="8336160" cy="6253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57120" y="1319040"/>
            <a:ext cx="9450360" cy="6240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1239840"/>
            <a:ext cx="10080720" cy="631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1260360"/>
            <a:ext cx="10080720" cy="6301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0" y="1260360"/>
            <a:ext cx="10080720" cy="630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6T12:18:00Z</dcterms:created>
  <dc:creator/>
  <dc:description/>
  <dc:language>en-US</dc:language>
  <cp:lastModifiedBy/>
  <cp:revision>1</cp:revision>
  <dc:subject/>
  <dc:title/>
</cp:coreProperties>
</file>