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967-8D7B-4029-BCA1-65EA8B9F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8D9-4454-4EF9-AFEC-72E5B66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911-13E9-42E7-8A3F-6946EA9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C18-6503-45A5-BE4F-884A6AE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016-9C68-4D3A-B7D8-F48FCC9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FED-C0E7-4D3C-B32E-A41FC233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2C8-E07F-46D4-A113-A641E082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367-D759-4120-AEC1-B6D811C6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4AF-BE11-4A7A-BA69-8A5D62A2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10A-D3E4-4E66-A7B9-86FA19B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1D0-7313-4669-BE57-83F84DB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E3B-32D7-4F7D-90C6-809F68C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06B67-9DBF-4F81-97BE-4EF3A6A002F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03280" y="2881440"/>
            <a:ext cx="9466200" cy="14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утешествие по Кизильскому району (часть 2)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ора Разб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200" y="1300320"/>
            <a:ext cx="8889840" cy="625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3200" y="1239840"/>
            <a:ext cx="9128160" cy="597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5440" y="1398600"/>
            <a:ext cx="9208800" cy="555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7236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оты реки Худо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471680"/>
            <a:ext cx="9602640" cy="616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000" y="1484280"/>
            <a:ext cx="9882000" cy="593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7280" y="1333440"/>
            <a:ext cx="9644040" cy="60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Утёсы Семь бра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7120" y="1501920"/>
            <a:ext cx="9366480" cy="6057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7120" y="1260360"/>
            <a:ext cx="9366480" cy="63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5880" y="301320"/>
            <a:ext cx="93664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та горы Разборной составляет 86,2% высоты Чеки, а Синий Шихан составляет       горы Чеки. Найти высоту горы Разборной и Синего Шихана, ес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та горы Чеки 558,3 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3858840"/>
            <a:ext cx="907236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58,3 х 0,862 = 481,2546м (гора Разборн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58,3 : 20 = 27,915м (Синий Шиха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69160" y="1085760"/>
                <a:ext cx="619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и Кизильского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1160" y="1247760"/>
            <a:ext cx="8413920" cy="631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280" y="1295280"/>
            <a:ext cx="9366120" cy="6202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7640" y="1433520"/>
            <a:ext cx="9136080" cy="627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58920" y="1319040"/>
            <a:ext cx="9424800" cy="624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29:20Z</dcterms:created>
  <dc:creator/>
  <dc:description/>
  <dc:language>en-US</dc:language>
  <cp:lastModifiedBy/>
  <cp:revision>1</cp:revision>
  <dc:subject/>
  <dc:title/>
</cp:coreProperties>
</file>