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1139-3081-41F9-9989-59219661E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508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6440"/>
            <a:ext cx="905508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6B05-A680-44CD-9880-1F4C42C2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2960" y="436644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0938-C811-4D72-8205-EA2BE59D5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4720" y="176832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6520" y="176832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644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4720" y="436644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6520" y="436644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26D2-850C-4A0D-B4F0-B1E2AA1D0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5508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26D9-D98B-44F3-8EEC-636E702D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508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6D6E-1644-4905-BB4F-4B0EDD9F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EBB0-771E-4885-9169-DA6D6151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A0E0-A5F2-44B0-9E2B-DC45A250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55080" cy="57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EBE6-E77D-4EFA-9C59-01051B06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A0C0-8B02-42D0-8A4A-707DD69B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2960" y="436644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98EB-48CE-4D14-8F1B-8A7B850E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905508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56F1-C6AC-4910-8E46-CAEFB542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5508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320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798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320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2107CD-20D6-4141-B07D-80CD7D1CE6C5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503280" y="2881440"/>
            <a:ext cx="9466200" cy="1449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9986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Путешествие по Кизильскому району (часть 2)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Гора Разб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4200" y="1300320"/>
            <a:ext cx="8889840" cy="6259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73200" y="1239840"/>
            <a:ext cx="9128160" cy="5973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95440" y="1398600"/>
            <a:ext cx="9208800" cy="555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3120"/>
            <a:ext cx="907236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Гроты реки Худол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6000" y="1471680"/>
            <a:ext cx="9602640" cy="6161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4000" y="1484280"/>
            <a:ext cx="9882000" cy="5931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87280" y="1333440"/>
            <a:ext cx="9644040" cy="608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Утёсы Семь брать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57120" y="1501920"/>
            <a:ext cx="9366480" cy="6057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57120" y="1260360"/>
            <a:ext cx="9366480" cy="630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5880" y="301320"/>
            <a:ext cx="9366480" cy="27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ота горы Разборной составляет 86,2% высоты Чеки, а Синий Шихан составляет       горы Чеки. Найти высоту горы Разборной и Синего Шихана, есл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ота горы Чеки 558,3 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3858840"/>
            <a:ext cx="9072360" cy="28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6880" indent="-3268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558,3 х 0,862 = 481,2546м (гора Разборная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558,3 : 20 = 27,915м (Синий Шихан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6869160" y="1085760"/>
                <a:ext cx="61920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Реки Кизильского рай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11160" y="1247760"/>
            <a:ext cx="8413920" cy="6311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03280" y="1295280"/>
            <a:ext cx="9366120" cy="6202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47640" y="1433520"/>
            <a:ext cx="9136080" cy="6270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358920" y="1319040"/>
            <a:ext cx="9424800" cy="624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dur="indefinite" fill="hold">
                      <p:stCondLst>
                        <p:cond delay="indefinite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dur="indefinite" fill="hold">
                      <p:stCondLst>
                        <p:cond delay="indefinite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6T12:29:20Z</dcterms:created>
  <dc:creator/>
  <dc:description/>
  <dc:language>en-US</dc:language>
  <cp:lastModifiedBy/>
  <cp:revision>1</cp:revision>
  <dc:subject/>
  <dc:title/>
</cp:coreProperties>
</file>