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F08-B091-4DED-BBFC-8501D364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A24-0084-46FC-830B-8A14A61C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C1A-55F8-498C-8453-29AC6F6B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B55-73D4-40CB-928C-4447C2B4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B54-3168-465C-AB89-5CFF7132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AD6-773B-44C9-BDBF-2877215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610-9F60-4F8E-BEC2-8CFE9C20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AD4-6AC0-4CC6-B857-1E44C20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D31-6F8B-468C-B82D-D9D80157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A98-79E8-4A45-B99E-CDE6007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980-CD7A-406D-B842-5BA638C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795-77E1-44D4-8758-5FCC81B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2FF66-CD5C-4ECC-B8CE-D6173309E3E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60360" y="2887560"/>
            <a:ext cx="9504360" cy="179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утешествие по Кизильскому району (часть 3)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а Ур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200" y="1636560"/>
            <a:ext cx="8413560" cy="5586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73000" y="1546200"/>
            <a:ext cx="9207720" cy="601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880" y="1693800"/>
            <a:ext cx="9367920" cy="58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301320"/>
            <a:ext cx="92185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ка Урал протекает по пяти сельским поселениям района: Гранитное поселени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асть реки, Сыртинское поселение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Кизильское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, Богдановское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а остальные 35км – по территории Уральского сельского поселения. Найти протяжённость реки Урал на территории Кизиль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2668680"/>
            <a:ext cx="8742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    +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35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5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7200" y="3463920"/>
                <a:ext cx="633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00200" y="3463920"/>
                <a:ext cx="569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006800" y="3463920"/>
                <a:ext cx="5652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94000" y="3463920"/>
                <a:ext cx="480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60800" y="3463920"/>
                <a:ext cx="5572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817720" y="4414680"/>
                <a:ext cx="46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865160" y="4414680"/>
                <a:ext cx="557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03480" y="5448240"/>
                <a:ext cx="476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9640" y="763560"/>
                <a:ext cx="579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29280" y="1160640"/>
                <a:ext cx="639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977240" y="1160640"/>
                <a:ext cx="480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133800" y="1557360"/>
                <a:ext cx="565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оведник Арка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3200" y="1716120"/>
            <a:ext cx="8750160" cy="539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7120" y="1319040"/>
            <a:ext cx="9128160" cy="624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4880" y="1386000"/>
            <a:ext cx="9048960" cy="596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34880" y="1319040"/>
            <a:ext cx="9167760" cy="600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880" y="1319040"/>
            <a:ext cx="9209160" cy="607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57120" y="1278000"/>
            <a:ext cx="9445680" cy="628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76120" y="1477800"/>
            <a:ext cx="9353520" cy="628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1398600"/>
            <a:ext cx="9488520" cy="594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0" y="1160640"/>
            <a:ext cx="972360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раморный карь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9480" y="1339920"/>
            <a:ext cx="809784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готовить материал о растительном и животном мире Кизиль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ешить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ерритории нашего Уральского сельского поселения проживает 1200 человек.     60%   этого числа проживает в посёлке Урал, 22% - в посёлке Смородинка, а остальные – в посёлке Ждановка. Сколько человек проживает в Ждановке? Решите задачу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нашей школе учатся ребята из трёх посёлков: Урал, Смородинка и Ждановка. 30% учащихся проживают в Смородинке, 56% - в посёлке Урал, а остальные 14 человек  – в Ждановке. Сколько учащихс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2840" y="1318680"/>
            <a:ext cx="9072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8440" y="2112840"/>
            <a:ext cx="7459560" cy="19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34:49Z</dcterms:created>
  <dc:creator/>
  <dc:description/>
  <dc:language>en-US</dc:language>
  <cp:lastModifiedBy/>
  <cp:revision>1</cp:revision>
  <dc:subject/>
  <dc:title/>
</cp:coreProperties>
</file>