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CAE63-144C-4AE5-8020-DE249F562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156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69680"/>
            <a:ext cx="906156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97380-702D-4CBF-B2AE-001CCFB11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6200" y="176832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6968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6200" y="436968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57BAF-CD69-4967-8B99-C9841E934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744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6520" y="1768320"/>
            <a:ext cx="291744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0480" y="1768320"/>
            <a:ext cx="291744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69680"/>
            <a:ext cx="291744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6520" y="4369680"/>
            <a:ext cx="291744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0480" y="4369680"/>
            <a:ext cx="291744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584FC-9560-4EC5-A0FC-30A05FCDD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156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322D2-A060-4176-A922-356F63A67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156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4611B-3B14-4D77-90FB-E21DFDDB7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188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6200" y="1768320"/>
            <a:ext cx="442188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DEC80-EE3A-4E9D-844A-BB2512F5F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F8825-05A9-43EA-91B6-3776F40F8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9ED1D-91E2-4358-8623-86AFD3FC9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6200" y="1768320"/>
            <a:ext cx="442188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6968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DB321-1893-4534-8068-640658F7A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188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6200" y="176832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6200" y="436968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B2B90-490C-4C97-8003-816A1FDB9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6200" y="176832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69680"/>
            <a:ext cx="906156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0B474-17BA-4BA5-94D1-9729810C8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156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860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A19984-75E4-4010-97B6-9CA07D3EB829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image" Target="../media/image12.jpeg"/><Relationship Id="rId9" Type="http://schemas.openxmlformats.org/officeDocument/2006/relationships/image" Target="../media/image13.jpe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360360" y="2887560"/>
            <a:ext cx="9504360" cy="17989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Путешествие по Кизильскому району (часть 3)</a:t>
            </a:r>
            <a:endParaRPr b="0" lang="en-US" sz="2400" spc="-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236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Река Ура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754200" y="1636560"/>
            <a:ext cx="8413560" cy="55864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73000" y="1546200"/>
            <a:ext cx="9207720" cy="60134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434880" y="1693800"/>
            <a:ext cx="9367920" cy="5865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dur="indefinite" fill="hold">
                      <p:stCondLst>
                        <p:cond delay="indefinite"/>
                      </p:stCondLst>
                      <p:childTnLst>
                        <p:par>
                          <p:cTn id="1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dur="indefinite" fill="hold">
                      <p:stCondLst>
                        <p:cond delay="indefinite"/>
                      </p:stCondLst>
                      <p:childTnLst>
                        <p:par>
                          <p:cTn id="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56760" y="301320"/>
            <a:ext cx="9218520" cy="276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Река Урал протекает по пяти сельским поселениям района: Гранитное поселение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 -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часть реки, Сыртинское поселение -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, Кизильское -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 , Богдановское -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, а остальные 35км – по территории Уральского сельского поселения. Найти протяжённость реки Урал на территории Кизильского райо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3280" y="2668680"/>
            <a:ext cx="8742240" cy="40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31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     +      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1 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) 35 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15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км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вет: 150 к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1627200" y="3463920"/>
                <a:ext cx="633240" cy="90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2500200" y="3463920"/>
                <a:ext cx="569880" cy="87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4006800" y="3463920"/>
                <a:ext cx="565200" cy="87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3294000" y="3463920"/>
                <a:ext cx="480960" cy="87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4960800" y="3463920"/>
                <a:ext cx="557280" cy="87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2817720" y="4414680"/>
                <a:ext cx="466920" cy="85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1865160" y="4414680"/>
                <a:ext cx="557280" cy="87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2103480" y="5448240"/>
                <a:ext cx="476280" cy="85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6389640" y="763560"/>
                <a:ext cx="579600" cy="7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5129280" y="1160640"/>
                <a:ext cx="639720" cy="7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7977240" y="1160640"/>
                <a:ext cx="480960" cy="7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3133800" y="1557360"/>
                <a:ext cx="565200" cy="7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dur="indefinite" fill="hold">
                      <p:stCondLst>
                        <p:cond delay="indefinite"/>
                      </p:stCondLst>
                      <p:childTnLst>
                        <p:par>
                          <p:cTn id="2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dur="indefinite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dur="indefinite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dur="indefinite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dur="indefinite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dur="indefinite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dur="indefinite" fill="hold">
                      <p:stCondLst>
                        <p:cond delay="indefinite"/>
                      </p:stCondLst>
                      <p:childTnLst>
                        <p:par>
                          <p:cTn id="4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dur="indefinite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dur="indefinite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dur="indefinite" fill="hold">
                      <p:stCondLst>
                        <p:cond delay="indefinite"/>
                      </p:stCondLst>
                      <p:childTnLst>
                        <p:par>
                          <p:cTn id="6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" dur="indefinite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dur="indefinite" fill="hold">
                      <p:stCondLst>
                        <p:cond delay="indefinite"/>
                      </p:stCondLst>
                      <p:childTnLst>
                        <p:par>
                          <p:cTn id="7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236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Заповедник Аркаи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673200" y="1716120"/>
            <a:ext cx="8750160" cy="53989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357120" y="1319040"/>
            <a:ext cx="9128160" cy="62406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434880" y="1386000"/>
            <a:ext cx="9048960" cy="596556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434880" y="1319040"/>
            <a:ext cx="9167760" cy="6002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5"/>
          <a:stretch/>
        </p:blipFill>
        <p:spPr>
          <a:xfrm>
            <a:off x="434880" y="1319040"/>
            <a:ext cx="9209160" cy="60786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6"/>
          <a:stretch/>
        </p:blipFill>
        <p:spPr>
          <a:xfrm>
            <a:off x="357120" y="1278000"/>
            <a:ext cx="9445680" cy="628164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7"/>
          <a:stretch/>
        </p:blipFill>
        <p:spPr>
          <a:xfrm>
            <a:off x="276120" y="1477800"/>
            <a:ext cx="9353520" cy="62820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8"/>
          <a:stretch/>
        </p:blipFill>
        <p:spPr>
          <a:xfrm>
            <a:off x="0" y="1398600"/>
            <a:ext cx="9488520" cy="594036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9"/>
          <a:stretch/>
        </p:blipFill>
        <p:spPr>
          <a:xfrm>
            <a:off x="0" y="1160640"/>
            <a:ext cx="9723600" cy="6178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dur="indefinite" fill="hold">
                      <p:stCondLst>
                        <p:cond delay="indefinite"/>
                      </p:stCondLst>
                      <p:childTnLst>
                        <p:par>
                          <p:cTn id="8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dur="indefinite" fill="hold">
                      <p:stCondLst>
                        <p:cond delay="indefinite"/>
                      </p:stCondLst>
                      <p:childTnLst>
                        <p:par>
                          <p:cTn id="8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0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dur="indefinite" fill="hold">
                      <p:stCondLst>
                        <p:cond delay="indefinite"/>
                      </p:stCondLst>
                      <p:childTnLst>
                        <p:par>
                          <p:cTn id="9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dur="indefinite" fill="hold">
                      <p:stCondLst>
                        <p:cond delay="indefinite"/>
                      </p:stCondLst>
                      <p:childTnLst>
                        <p:par>
                          <p:cTn id="9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dur="indefinite" fill="hold">
                      <p:stCondLst>
                        <p:cond delay="indefinite"/>
                      </p:stCondLst>
                      <p:childTnLst>
                        <p:par>
                          <p:cTn id="10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dur="indefinite" fill="hold">
                      <p:stCondLst>
                        <p:cond delay="indefinite"/>
                      </p:stCondLst>
                      <p:childTnLst>
                        <p:par>
                          <p:cTn id="10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dur="indefinite" fill="hold">
                      <p:stCondLst>
                        <p:cond delay="indefinite"/>
                      </p:stCondLst>
                      <p:childTnLst>
                        <p:par>
                          <p:cTn id="11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6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dur="indefinite" fill="hold">
                      <p:stCondLst>
                        <p:cond delay="indefinite"/>
                      </p:stCondLst>
                      <p:childTnLst>
                        <p:par>
                          <p:cTn id="1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dur="indefinite" fill="hold">
                      <p:stCondLst>
                        <p:cond delay="indefinite"/>
                      </p:stCondLst>
                      <p:childTnLst>
                        <p:par>
                          <p:cTn id="12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236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Мраморный карье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149480" y="1339920"/>
            <a:ext cx="8097840" cy="607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236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омашнее зада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2920" y="1763280"/>
            <a:ext cx="907236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0120" indent="-600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00120"/>
                <a:tab algn="l" pos="704880"/>
                <a:tab algn="l" pos="1154160"/>
                <a:tab algn="l" pos="1603440"/>
                <a:tab algn="l" pos="2052720"/>
                <a:tab algn="l" pos="2502000"/>
                <a:tab algn="l" pos="2951280"/>
                <a:tab algn="l" pos="3400560"/>
                <a:tab algn="l" pos="3849840"/>
                <a:tab algn="l" pos="4299120"/>
                <a:tab algn="l" pos="4748040"/>
                <a:tab algn="l" pos="5197320"/>
                <a:tab algn="l" pos="5646600"/>
                <a:tab algn="l" pos="6095880"/>
                <a:tab algn="l" pos="6545160"/>
                <a:tab algn="l" pos="6994440"/>
                <a:tab algn="l" pos="7443720"/>
                <a:tab algn="l" pos="7893000"/>
                <a:tab algn="l" pos="8342280"/>
                <a:tab algn="l" pos="8791560"/>
                <a:tab algn="l" pos="9240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Подготовить материал о растительном и животном мире Кизильского райо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00120"/>
                <a:tab algn="l" pos="704880"/>
                <a:tab algn="l" pos="1154160"/>
                <a:tab algn="l" pos="1603440"/>
                <a:tab algn="l" pos="2052720"/>
                <a:tab algn="l" pos="2502000"/>
                <a:tab algn="l" pos="2951280"/>
                <a:tab algn="l" pos="3400560"/>
                <a:tab algn="l" pos="3849840"/>
                <a:tab algn="l" pos="4299120"/>
                <a:tab algn="l" pos="4748040"/>
                <a:tab algn="l" pos="5197320"/>
                <a:tab algn="l" pos="5646600"/>
                <a:tab algn="l" pos="6095880"/>
                <a:tab algn="l" pos="6545160"/>
                <a:tab algn="l" pos="6994440"/>
                <a:tab algn="l" pos="7443720"/>
                <a:tab algn="l" pos="7893000"/>
                <a:tab algn="l" pos="8342280"/>
                <a:tab algn="l" pos="8791560"/>
                <a:tab algn="l" pos="9240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Решить задач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00120"/>
                <a:tab algn="l" pos="704880"/>
                <a:tab algn="l" pos="1154160"/>
                <a:tab algn="l" pos="1603440"/>
                <a:tab algn="l" pos="2052720"/>
                <a:tab algn="l" pos="2502000"/>
                <a:tab algn="l" pos="2951280"/>
                <a:tab algn="l" pos="3400560"/>
                <a:tab algn="l" pos="3849840"/>
                <a:tab algn="l" pos="4299120"/>
                <a:tab algn="l" pos="4748040"/>
                <a:tab algn="l" pos="5197320"/>
                <a:tab algn="l" pos="5646600"/>
                <a:tab algn="l" pos="6095880"/>
                <a:tab algn="l" pos="6545160"/>
                <a:tab algn="l" pos="6994440"/>
                <a:tab algn="l" pos="7443720"/>
                <a:tab algn="l" pos="7893000"/>
                <a:tab algn="l" pos="8342280"/>
                <a:tab algn="l" pos="8791560"/>
                <a:tab algn="l" pos="9240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территории нашего Уральского сельского поселения проживает 1200 человек.     60%   этого числа проживает в посёлке Урал, 22% - в посёлке Смородинка, а остальные – в посёлке Ждановка. Сколько человек проживает в Ждановке? Решите задачу двумя способ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00120"/>
                <a:tab algn="l" pos="704880"/>
                <a:tab algn="l" pos="1154160"/>
                <a:tab algn="l" pos="1603440"/>
                <a:tab algn="l" pos="2052720"/>
                <a:tab algn="l" pos="2502000"/>
                <a:tab algn="l" pos="2951280"/>
                <a:tab algn="l" pos="3400560"/>
                <a:tab algn="l" pos="3849840"/>
                <a:tab algn="l" pos="4299120"/>
                <a:tab algn="l" pos="4748040"/>
                <a:tab algn="l" pos="5197320"/>
                <a:tab algn="l" pos="5646600"/>
                <a:tab algn="l" pos="6095880"/>
                <a:tab algn="l" pos="6545160"/>
                <a:tab algn="l" pos="6994440"/>
                <a:tab algn="l" pos="7443720"/>
                <a:tab algn="l" pos="7893000"/>
                <a:tab algn="l" pos="8342280"/>
                <a:tab algn="l" pos="8791560"/>
                <a:tab algn="l" pos="9240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 нашей школе учатся ребята из трёх посёлков: Урал, Смородинка и Ждановка. 30% учащихся проживают в Смородинке, 56% - в посёлке Урал, а остальные 14 человек  – в Ждановке. Сколько учащихся в школ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72840" y="1318680"/>
            <a:ext cx="907236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1468440" y="2112840"/>
            <a:ext cx="7459560" cy="19843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990" spc="1" strike="noStrike">
                <a:ln cap="sq"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пасибо за урок</a:t>
            </a:r>
            <a:endParaRPr b="0" lang="en-US" sz="1990" spc="1" strike="noStrike">
              <a:ln cap="sq"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0-16T12:34:49Z</dcterms:created>
  <dc:creator/>
  <dc:description/>
  <dc:language>en-US</dc:language>
  <cp:lastModifiedBy/>
  <cp:revision>1</cp:revision>
  <dc:subject/>
  <dc:title/>
</cp:coreProperties>
</file>