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FF620-E551-4C91-A820-803F03CA0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CFE57-04B5-41EF-897A-1852D6C6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5F465-D02C-41B6-A149-4F57FB026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B8352-C12D-40D4-86A2-3676D92E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5E2A-1394-47D3-961D-1355FB06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2296-6C57-4940-B8AC-9C84A9A1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B222-ECB1-4AFA-B0A3-B47D53C3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4BF1-0A88-48BD-8ACF-47783990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233C-BCDE-47C2-A702-01F22C0E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00FD-47F2-4F75-9204-17DAECBC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E168-32C8-4C9F-A5E9-DA6CDBFB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B0073-3D87-4B50-B182-7B24C07A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C428-412E-49D5-B76F-B4C3BC47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077F-A9E9-4EDB-95F6-20CB7DEE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7855-264A-4ADB-8F54-7C939721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645C-6D85-4902-B121-8A4B34F9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E738-B5E9-4215-B50C-1F9D2CD28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B32A7-7750-43B8-8A81-7D96F413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6B344-6082-44BF-A21C-7E7BD5A3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18483-06D8-4E1C-8774-F6FDEA3B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28FB0-9EA4-4DAE-90AB-27FA06E1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DC590-9D7D-4E80-8A33-BA2EF9E9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4473B-E229-4F73-ADE1-1F1957DD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F577B-C7D1-4CC1-BBD6-B1695D90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9A5A-D5C6-4D02-8C71-B2C7953837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747A-0AE1-47BC-8879-E8CF8356F1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Развитие творческих способностей на уроках русского языка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7432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аждый ребёнок хочет жить творчески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.Бел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ричастие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Все формы причастий представим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По правилам этим составим)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Бегущий, раскрытый, проверенный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Летящий, заснувший, уверенный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оющий, ранимый и созданный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Ведомы, заросший и розданны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541440" y="-243000"/>
            <a:ext cx="10080720" cy="7417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 rot="20964600">
            <a:off x="0" y="549000"/>
            <a:ext cx="316692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пасибо за внимание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/>
          <p:nvPr/>
        </p:nvSpPr>
        <p:spPr>
          <a:xfrm>
            <a:off x="7942680" y="557280"/>
            <a:ext cx="3895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Garamond"/>
              </a:rPr>
              <a:t>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Garamond"/>
              </a:rPr>
              <a:t>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Garamond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Garamond"/>
              </a:rPr>
              <a:t>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Garamond"/>
              </a:rPr>
              <a:t>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Garamond"/>
              </a:rPr>
              <a:t>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Garamond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Garamond"/>
              </a:rPr>
              <a:t>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Garamond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Garamond"/>
              </a:rPr>
              <a:t>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Garamond"/>
              </a:rPr>
              <a:t>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Garamond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Garamond"/>
              </a:rPr>
              <a:t>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Garamond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Garamond"/>
              </a:rPr>
              <a:t>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Garamond"/>
              </a:rPr>
              <a:t>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Garamond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99cc"/>
                </a:solidFill>
                <a:latin typeface="Garamond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Garamond"/>
              </a:rPr>
              <a:t>Орфоэпия. Задание А1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Фен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О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мен звон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И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 по сред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м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ин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Я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догов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О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 по год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м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Он 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О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дал эксп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Е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там эск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О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т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Ход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айство аэроп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О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т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анц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О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щик с танц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О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щицей любя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воих малышей балов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ь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 к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У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хонный стол по посуд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ускают котят танцеват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егодня – тошн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О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а, вчера в костях лом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О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 тому же дрем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О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а не пускает за вор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О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 лавки з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яты, и печка занят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ор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О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а 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О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перты, а дверь не отперт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О-Ё после шипящих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Чтобы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О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иль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Ё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исать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В корне слов после шипящих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Надо слово подобрать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Из родни, из настоящих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Если ударенья нет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Ну а Е сменило О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ишем Ё, такой ответ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Это правило моё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Чтоб понять всё чётко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Решето –решётка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Щетинистая щётк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Если ж О не изменить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В корне остаётся жит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8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8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8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886e0"/>
                </a:solidFill>
                <a:latin typeface="Garamond"/>
              </a:rPr>
              <a:t>Слова-исключения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ак-то раз один </a:t>
            </a:r>
            <a:r>
              <a:rPr b="0" lang="en-US" sz="3200" spc="-1" strike="noStrike">
                <a:solidFill>
                  <a:srgbClr val="a886e0"/>
                </a:solidFill>
                <a:latin typeface="Garamond"/>
              </a:rPr>
              <a:t>обжо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рядился в </a:t>
            </a:r>
            <a:r>
              <a:rPr b="0" lang="en-US" sz="3200" spc="-1" strike="noStrike">
                <a:solidFill>
                  <a:srgbClr val="a886e0"/>
                </a:solidFill>
                <a:latin typeface="Garamond"/>
              </a:rPr>
              <a:t>капюшон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Зацепился за </a:t>
            </a:r>
            <a:r>
              <a:rPr b="0" lang="en-US" sz="3200" spc="-1" strike="noStrike">
                <a:solidFill>
                  <a:srgbClr val="a886e0"/>
                </a:solidFill>
                <a:latin typeface="Garamond"/>
              </a:rPr>
              <a:t>крыжовни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 упал в </a:t>
            </a:r>
            <a:r>
              <a:rPr b="0" lang="en-US" sz="3200" spc="-1" strike="noStrike">
                <a:solidFill>
                  <a:srgbClr val="a886e0"/>
                </a:solidFill>
                <a:latin typeface="Garamond"/>
              </a:rPr>
              <a:t>чащоб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он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ут в кустах раздался </a:t>
            </a:r>
            <a:r>
              <a:rPr b="0" lang="en-US" sz="3200" spc="-1" strike="noStrike">
                <a:solidFill>
                  <a:srgbClr val="a886e0"/>
                </a:solidFill>
                <a:latin typeface="Garamond"/>
              </a:rPr>
              <a:t>шорох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Заяц </a:t>
            </a:r>
            <a:r>
              <a:rPr b="0" lang="en-US" sz="3200" spc="-1" strike="noStrike">
                <a:solidFill>
                  <a:srgbClr val="a886e0"/>
                </a:solidFill>
                <a:latin typeface="Garamond"/>
              </a:rPr>
              <a:t>чокнутый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бежал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Разорвал он </a:t>
            </a:r>
            <a:r>
              <a:rPr b="0" lang="en-US" sz="3200" spc="-1" strike="noStrike">
                <a:solidFill>
                  <a:srgbClr val="a886e0"/>
                </a:solidFill>
                <a:latin typeface="Garamond"/>
              </a:rPr>
              <a:t>шов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 </a:t>
            </a:r>
            <a:r>
              <a:rPr b="0" lang="en-US" sz="3200" spc="-1" strike="noStrike">
                <a:solidFill>
                  <a:srgbClr val="a886e0"/>
                </a:solidFill>
                <a:latin typeface="Garamond"/>
              </a:rPr>
              <a:t>шортах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осто </a:t>
            </a:r>
            <a:r>
              <a:rPr b="0" lang="en-US" sz="3200" spc="-1" strike="noStrike">
                <a:solidFill>
                  <a:srgbClr val="a886e0"/>
                </a:solidFill>
                <a:latin typeface="Garamond"/>
              </a:rPr>
              <a:t>чопорный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ха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9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4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ddc02"/>
                </a:solidFill>
                <a:latin typeface="Garamond"/>
              </a:rPr>
              <a:t>Второстепенные члены предложения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3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знак предмета или явления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означает определени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Чей? и Какой?- вопросы просты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ишь не хватает волнистой черт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емь вопросов-просто чудо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х запомнить просто так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де? Когда? Куда? Откуд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чему? Зачем? и Как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834120" y="981000"/>
            <a:ext cx="36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86520" y="2646360"/>
            <a:ext cx="36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Задание А3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В детской сказке колобок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По траве катиться мог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Без 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ботинок, без сапог</a:t>
            </a:r>
            <a:r>
              <a:rPr b="0" lang="en-US" sz="1400" spc="-1" strike="noStrike">
                <a:solidFill>
                  <a:srgbClr val="ffff00"/>
                </a:solidFill>
                <a:latin typeface="Garamond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Без 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носков и без чулок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Шесть </a:t>
            </a: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гектаров апельсинов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Яблок, груш и мандаринов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       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Баклажанов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 -грядок пять,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Garamond"/>
              </a:rPr>
              <a:t>                             </a:t>
            </a:r>
            <a:r>
              <a:rPr b="1" lang="en-US" sz="1400" spc="-1" strike="noStrike">
                <a:solidFill>
                  <a:srgbClr val="ffff00"/>
                </a:solidFill>
                <a:latin typeface="Garamond"/>
              </a:rPr>
              <a:t>Помидоров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 не собрать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Уважают человек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У 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туркмен, татар, узбеков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У 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таджиков и армян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У 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монголов и цыган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У 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якутов и тунгусов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У 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башкир и белорусов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У 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киргизов и грузин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У 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бурят и осетин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Мнемотехнические приёмы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немоника, или мнемотехника (от греч. мнемоникон- искусство запоминания)- признанное средство наиболее лёгкого, быстрого и прочного запоминания-обычно того, что не поддаётся обобщению и алгоритмизац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ричастие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частие всем нам знакомое-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дставим мы как насекомое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торого признаки ножк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егут, но по разным дорожкам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 трёх- путь к глаголам лежит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ремя, возвратность, вид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 четырёх- к прилагательным ход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раткость, число, падеж и род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сы у него замечательые-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йствительные и страдательны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т времени и от спряжен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тличия есть в их строени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ричастие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ействительным причастиям Времени настоящег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уффикс особый присущ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ля 2 спряжения- ащ, -ящ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ля 1 спряжения- ущ, -ющ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традательным причастиям времени настоящег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уффикс- другой совсем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ля 2 спряжения- им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ля 1- ом, -е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ичастиям прошедшего времен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е нужно глаголов спряжение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ействительных суффиксов: -вш, -ш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традательных: - енн,- нн, -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07:47:03Z</dcterms:created>
  <dc:creator>210</dc:creator>
  <dc:description/>
  <dc:language>en-US</dc:language>
  <cp:lastModifiedBy>210</cp:lastModifiedBy>
  <dcterms:modified xsi:type="dcterms:W3CDTF">2013-10-31T01:49:03Z</dcterms:modified>
  <cp:revision>8</cp:revision>
  <dc:subject/>
  <dc:title>Развитие творческих способностей на уроках русского языка</dc:title>
</cp:coreProperties>
</file>