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A2B8A-E077-4CE9-9114-A692B2A7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C9E88-3F3A-434D-8CB4-FAAC3E8F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FE5B6-C038-4362-B177-8A03559F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EDCA7-B846-4BDA-BABB-F658A62E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2847-E244-48B1-9D21-AC111CFC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1A72-18D7-4598-B82E-9248DED4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3E3C-AE06-404A-A816-F2157CF7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4EC5-81D3-4FD2-9516-7A662471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D756-7188-40BB-9F79-570C2B5F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FB6E-11F4-4DF5-8A10-C4FC0394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53F7-0175-4DED-9797-27728B9D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1F781-75DA-4605-9F56-E130B44B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40E3-DA5D-4390-B7D1-491E7D0B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07A4-AE6E-45D4-94FF-41D1D0C6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589D-C668-4D02-9BCA-16AB9733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1344-3083-422F-B9E9-708D75A3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A822-AA98-4487-A2B8-4B0C1A21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B1DF7-329D-43D1-804B-100D748B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2835F-FE78-45AD-8083-1ED5D4B2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C07C8-6439-44C5-8B4B-5C68BC83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3C7A0-E794-4E90-BF70-941CF97F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31BF7-7861-44A5-A871-425E0C83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E7EBD-D699-49CA-9052-B7AFD0DA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712FE-550A-4DE5-989F-60A90AA9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6D55-4F56-4C7F-B22E-876E5C5995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E1C3-B3DC-4E25-9895-5FA75842F7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Развитие творческих способностей на уроках русского языка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7432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ждый ребёнок хочет жить творчески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.Бел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ичасти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се формы причастий представим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По правилам этим составим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Бегущий, раскрытый, проверенный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Летящий, заснувший, уверенный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ющий, ранимый и созданный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едомы, заросший и розданны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541440" y="-243000"/>
            <a:ext cx="10080720" cy="7417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 rot="20964600">
            <a:off x="0" y="549000"/>
            <a:ext cx="316692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пасибо за внимание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/>
          <p:nvPr/>
        </p:nvSpPr>
        <p:spPr>
          <a:xfrm>
            <a:off x="7942680" y="557280"/>
            <a:ext cx="3895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Garamond"/>
              </a:rPr>
              <a:t>Орфоэпия. Задание А1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ен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ен звон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И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 по сред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ин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Я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догов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 по год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н 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дал эксп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Е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там эск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т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Ход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йство аэроп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нц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щик с танц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щицей любя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воих малышей балов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ь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 к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У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хонный стол по посуд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ускают котят танцева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егодня – тошн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, вчера в костях лом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 тому же дрем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 не пускает за вор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 лавки з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яты, и печка занят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ор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 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перты, а дверь не отперт</a:t>
            </a:r>
            <a:r>
              <a:rPr b="1" lang="ru-RU" sz="2000" spc="-1" strike="noStrike">
                <a:solidFill>
                  <a:srgbClr val="009900"/>
                </a:solidFill>
                <a:latin typeface="Garamond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О-Ё после шипящих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Чтобы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О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иль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Ё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исат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 корне слов после шипящих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адо слово подобрать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Из родни, из настоящи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Если ударенья нет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у а Е сменило 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ишем Ё, такой ответ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Это правило моё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Чтоб понять всё чётко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Решето –решётка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Щетинистая щётк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Если ж О не изменить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 корне остаётся жи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886e0"/>
                </a:solidFill>
                <a:latin typeface="Garamond"/>
              </a:rPr>
              <a:t>Слова-исключения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-то раз один </a:t>
            </a:r>
            <a:r>
              <a:rPr b="0" lang="en-US" sz="3200" spc="-1" strike="noStrike">
                <a:solidFill>
                  <a:srgbClr val="a886e0"/>
                </a:solidFill>
                <a:latin typeface="Garamond"/>
              </a:rPr>
              <a:t>обж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рядился в </a:t>
            </a:r>
            <a:r>
              <a:rPr b="0" lang="en-US" sz="3200" spc="-1" strike="noStrike">
                <a:solidFill>
                  <a:srgbClr val="a886e0"/>
                </a:solidFill>
                <a:latin typeface="Garamond"/>
              </a:rPr>
              <a:t>капюшон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цепился за </a:t>
            </a:r>
            <a:r>
              <a:rPr b="0" lang="en-US" sz="3200" spc="-1" strike="noStrike">
                <a:solidFill>
                  <a:srgbClr val="a886e0"/>
                </a:solidFill>
                <a:latin typeface="Garamond"/>
              </a:rPr>
              <a:t>крыжовни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 упал в </a:t>
            </a:r>
            <a:r>
              <a:rPr b="0" lang="en-US" sz="3200" spc="-1" strike="noStrike">
                <a:solidFill>
                  <a:srgbClr val="a886e0"/>
                </a:solidFill>
                <a:latin typeface="Garamond"/>
              </a:rPr>
              <a:t>чащоб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о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ут в кустах раздался </a:t>
            </a:r>
            <a:r>
              <a:rPr b="0" lang="en-US" sz="3200" spc="-1" strike="noStrike">
                <a:solidFill>
                  <a:srgbClr val="a886e0"/>
                </a:solidFill>
                <a:latin typeface="Garamond"/>
              </a:rPr>
              <a:t>шорох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яц </a:t>
            </a:r>
            <a:r>
              <a:rPr b="0" lang="en-US" sz="3200" spc="-1" strike="noStrike">
                <a:solidFill>
                  <a:srgbClr val="a886e0"/>
                </a:solidFill>
                <a:latin typeface="Garamond"/>
              </a:rPr>
              <a:t>чокнутый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бежал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зорвал он </a:t>
            </a:r>
            <a:r>
              <a:rPr b="0" lang="en-US" sz="3200" spc="-1" strike="noStrike">
                <a:solidFill>
                  <a:srgbClr val="a886e0"/>
                </a:solidFill>
                <a:latin typeface="Garamond"/>
              </a:rPr>
              <a:t>шов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 </a:t>
            </a:r>
            <a:r>
              <a:rPr b="0" lang="en-US" sz="3200" spc="-1" strike="noStrike">
                <a:solidFill>
                  <a:srgbClr val="a886e0"/>
                </a:solidFill>
                <a:latin typeface="Garamond"/>
              </a:rPr>
              <a:t>шортах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сто </a:t>
            </a:r>
            <a:r>
              <a:rPr b="0" lang="en-US" sz="3200" spc="-1" strike="noStrike">
                <a:solidFill>
                  <a:srgbClr val="a886e0"/>
                </a:solidFill>
                <a:latin typeface="Garamond"/>
              </a:rPr>
              <a:t>чопорны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х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ddc02"/>
                </a:solidFill>
                <a:latin typeface="Garamond"/>
              </a:rPr>
              <a:t>Второстепенные члены предложения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3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знак предмета или явления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значает определе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ей? и Какой?- вопросы просты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ишь не хватает волнистой черт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емь вопросов-просто чудо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х запомнить просто так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де? Когда? Куда? Откуд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чему? Зачем? и Как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834120" y="981000"/>
            <a:ext cx="36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86520" y="2646360"/>
            <a:ext cx="36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c02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Задание А3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В детской сказке колобок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По траве катиться мог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Без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ботинок, без сапог</a:t>
            </a:r>
            <a:r>
              <a:rPr b="0" lang="en-US" sz="1400" spc="-1" strike="noStrike">
                <a:solidFill>
                  <a:srgbClr val="ffff00"/>
                </a:solidFill>
                <a:latin typeface="Garamond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Без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носков и без чулок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Шесть </a:t>
            </a: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гектаров апельсинов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Яблок, груш и мандаринов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       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Баклажанов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-грядок пять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Garamond"/>
              </a:rPr>
              <a:t>                             </a:t>
            </a:r>
            <a:r>
              <a:rPr b="1" lang="en-US" sz="1400" spc="-1" strike="noStrike">
                <a:solidFill>
                  <a:srgbClr val="ffff00"/>
                </a:solidFill>
                <a:latin typeface="Garamond"/>
              </a:rPr>
              <a:t>Помидоров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не собрать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Уважают человек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У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туркмен, татар, узбеков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У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таджиков и армян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У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монголов и цыган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У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якутов и тунгусов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У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башкир и белорусов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У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киргизов и грузин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У 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бурят и осетин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немотехнические приём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немоника, или мнемотехника (от греч. мнемоникон- искусство запоминания)- признанное средство наиболее лёгкого, быстрого и прочного запоминания-обычно того, что не поддаётся обобщению и алгоритмиз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ичасти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частие всем нам знакомое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ставим мы как насекомое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торого признаки нож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егут, но по разным дорожка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 трёх- путь к глаголам лежит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ремя, возвратность, вид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 четырёх- к прилагательным ход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раткость, число, падеж и род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ы у него замечательые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йствительные и страдательны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 времени и от спряже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личия есть в их строен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ичасти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йствительным причастиям Времени настояще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уффикс особый присущ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ля 2 спряжения- ащ, -ящ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ля 1 спряжения- ущ, -ющ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традательным причастиям времени настояще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уффикс- другой совсем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ля 2 спряжения- им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ля 1- ом, -е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частиям прошедшего време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 нужно глаголов спряжение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йствительных суффиксов: -вш, -ш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традательных: - енн,- нн, -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7:47:03Z</dcterms:created>
  <dc:creator>210</dc:creator>
  <dc:description/>
  <dc:language>en-US</dc:language>
  <cp:lastModifiedBy>210</cp:lastModifiedBy>
  <dcterms:modified xsi:type="dcterms:W3CDTF">2013-10-31T01:49:03Z</dcterms:modified>
  <cp:revision>8</cp:revision>
  <dc:subject/>
  <dc:title>Развитие творческих способностей на уроках русского языка</dc:title>
</cp:coreProperties>
</file>