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C90-C8F2-4BED-A819-A33F0520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D0E-84AA-4532-9D13-DB7AB503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C1F-6E03-4E9A-8ADF-1C5B263E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016-8D36-4E84-B4BB-DE7AEAC7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2C0-7C56-4690-9C77-5750C63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B26-52B0-4A33-8C36-936D9E34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527-5CB3-4D77-BEFE-4375C06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B63-7D2F-4824-AEFA-EA2F98D4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C52-12A0-4DA4-AB13-C474B79A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2B9-A657-4988-8152-455AA6CD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3A7-ED72-43ED-8A48-493A77D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185-FDFB-43D7-AA6A-104D2A9D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12E2-457A-4199-82E5-BDE75975F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Первые самовары.Самовар-тру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3d4_6be2"/>
          <p:cNvPicPr/>
          <p:nvPr/>
        </p:nvPicPr>
        <p:blipFill>
          <a:blip r:embed="rId1"/>
          <a:stretch/>
        </p:blipFill>
        <p:spPr>
          <a:xfrm>
            <a:off x="1189080" y="1752480"/>
            <a:ext cx="261792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2307_320"/>
          <p:cNvPicPr/>
          <p:nvPr/>
        </p:nvPicPr>
        <p:blipFill>
          <a:blip r:embed="rId2"/>
          <a:stretch/>
        </p:blipFill>
        <p:spPr>
          <a:xfrm>
            <a:off x="4632480" y="2286000"/>
            <a:ext cx="2253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 что похож этот самова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3d8_345a"/>
          <p:cNvPicPr/>
          <p:nvPr/>
        </p:nvPicPr>
        <p:blipFill>
          <a:blip r:embed="rId1"/>
          <a:stretch/>
        </p:blipFill>
        <p:spPr>
          <a:xfrm>
            <a:off x="3352680" y="1752480"/>
            <a:ext cx="16891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1143000" y="121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ЛАЙДЫ «Самовар-петушок»,«Самовар-желудь», самовар-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3493e3871e56e752cd27cd374f9b92ebc5f6c138176942"/>
          <p:cNvPicPr/>
          <p:nvPr/>
        </p:nvPicPr>
        <p:blipFill>
          <a:blip r:embed="rId1"/>
          <a:stretch/>
        </p:blipFill>
        <p:spPr>
          <a:xfrm>
            <a:off x="1224000" y="1523880"/>
            <a:ext cx="220500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1f7972"/>
          <p:cNvPicPr/>
          <p:nvPr/>
        </p:nvPicPr>
        <p:blipFill>
          <a:blip r:embed="rId2"/>
          <a:stretch/>
        </p:blipFill>
        <p:spPr>
          <a:xfrm>
            <a:off x="3962520" y="1449360"/>
            <a:ext cx="4724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17T19:18:3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