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F22-AF44-459F-BD12-A015E96C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A72-C0D9-4330-BC2E-22B59310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35A1-C1E9-49F7-97D8-E7D9F238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BBEE-D540-4EAA-9831-CB5CBAEC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506C-0653-4CEF-8938-B8C90E66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D86-FA08-4CDD-A2E6-17D5158B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B67B-AE4D-4394-A51E-53CD8E2E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BD95-C599-493E-A644-8A1999BE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716-42A6-43E8-A2E1-65687FE9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278-E078-4EF0-A75B-61BC99D4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F61-7053-4CEF-818A-21A9B88E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98CC-E36E-4989-A3F9-2E949A3E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77DD-4ECD-4E36-84F0-D4B300084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Первые самовары.Самовар-тру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13d4_6be2"/>
          <p:cNvPicPr/>
          <p:nvPr/>
        </p:nvPicPr>
        <p:blipFill>
          <a:blip r:embed="rId1"/>
          <a:stretch/>
        </p:blipFill>
        <p:spPr>
          <a:xfrm>
            <a:off x="1189080" y="1752480"/>
            <a:ext cx="2617920" cy="3657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2307_320"/>
          <p:cNvPicPr/>
          <p:nvPr/>
        </p:nvPicPr>
        <p:blipFill>
          <a:blip r:embed="rId2"/>
          <a:stretch/>
        </p:blipFill>
        <p:spPr>
          <a:xfrm>
            <a:off x="4632480" y="2286000"/>
            <a:ext cx="22539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а что похож этот самова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3d8_345a"/>
          <p:cNvPicPr/>
          <p:nvPr/>
        </p:nvPicPr>
        <p:blipFill>
          <a:blip r:embed="rId1"/>
          <a:stretch/>
        </p:blipFill>
        <p:spPr>
          <a:xfrm>
            <a:off x="3352680" y="1752480"/>
            <a:ext cx="16891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1143000" y="1216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ЛАЙДЫ «Самовар-петушок»,«Самовар-желудь», самовар-пое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83493e3871e56e752cd27cd374f9b92ebc5f6c138176942"/>
          <p:cNvPicPr/>
          <p:nvPr/>
        </p:nvPicPr>
        <p:blipFill>
          <a:blip r:embed="rId1"/>
          <a:stretch/>
        </p:blipFill>
        <p:spPr>
          <a:xfrm>
            <a:off x="1224000" y="1523880"/>
            <a:ext cx="220500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1f7972"/>
          <p:cNvPicPr/>
          <p:nvPr/>
        </p:nvPicPr>
        <p:blipFill>
          <a:blip r:embed="rId2"/>
          <a:stretch/>
        </p:blipFill>
        <p:spPr>
          <a:xfrm>
            <a:off x="3962520" y="1449360"/>
            <a:ext cx="47242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0-17T19:18:39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