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C40-A779-4B3A-988D-22B8056F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597-4BC5-423D-9222-5DD4017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131-E338-46D8-9A63-1E6ADF17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105-E66F-4DB8-826F-486ABFED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512D-EB5D-4720-AE1B-72E3DF8D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4E3D-F3F0-47AE-B247-75E2F60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92DE-4B01-4BE4-8720-8ACD27B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FA5-BAC7-4F45-AD8F-B89BF556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49E7-4E55-4FB8-9BE3-2970A64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5E0-5A8B-4DBF-9789-4E60948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70D-F599-443B-8A5C-C852CB6E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B5A-34F4-48A3-9F30-B84ED542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64A6-2691-4EEE-BBCC-56F324B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8969-DC7E-48D2-A63F-B3F0DE3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D1A4-3291-4160-95BD-7CADA390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07C4-E198-473D-8D73-11FA714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5E4-C53C-476D-B121-E780007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40E0-6CAB-4192-B50C-57DE2C76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F0A6-DE9B-4C5F-B945-685C009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B4CC-A57B-4FD1-A726-C3C8E54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8C64-DC03-473E-A3BD-EA2D35C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7FAC-D275-42D1-A3B6-5523BC8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918-93F0-4FBA-810D-A87E6A3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014D-C6CD-4421-8C76-0FB3022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563F-67E4-4EC4-A78D-F371AB5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E58C-D9E8-4D0A-B551-2DE5A39E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749A-DFFA-4C00-A777-376174A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EDE0-8561-487E-B29F-965C4F8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5A7D-F2A5-4826-8DB4-C793863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B934-1E6B-41DB-BA82-CB2AF722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1E87-F8AB-4FE6-8939-70F1E2A9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20BE-D32A-4507-9F8F-1FD6B03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38CB-05AE-4D78-AE24-03B6C1A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2B9-786F-4F51-9E36-B73D753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046D-618E-4777-988B-ECB5BEB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E0F9-B917-4BFE-A4BC-C649BC0D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98CE-9EB0-4E83-A4F3-5666764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9C76-2B9E-4535-9802-4528468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7B92-F3A9-4708-B0ED-6F5D10F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ACD3-44DE-4B24-A021-EC8215E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E494-1D5E-4BC7-AB03-542179E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349C-7D2E-4D1C-8E8C-28801F59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77587-4191-4D21-B1F7-06D9A73D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BFECD-EEC4-49CC-B78E-88A7E3AF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024-FA35-4A3E-AF14-603C4F1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21F1-6E71-4AF7-976C-25AB2E7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8BC1-49CE-4A81-B81D-9C25A56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0D5A-6FC9-44B4-8208-2537DA4F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50E7-3B24-415F-9546-D51A47D8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B027-4188-49CA-AA64-987737AD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A6E3-3DDC-4659-8499-AB987E3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5525-0EEB-4174-8BD5-EC7B9C3A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1850-E328-431B-B520-64BE320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A637-DAF6-43F8-9821-9EFDE87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2595-B53E-46D7-BCE2-9621691E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203-C22F-49A7-BA2E-8AE36B61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208B8-1148-4E03-962B-29866682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DBB0-8111-42C3-9E5A-0880E957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1C48C-CF0D-461C-A04C-797628D0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9AB7-197B-44C5-92F8-6A91B275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B54B-23DC-46E0-AB8E-AD4475C9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22B2-7B75-43B4-85BA-44EF1BE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C4F92-FCFA-4681-AEE7-8FEADF73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5E8C-FF86-4B0D-A2E3-C57D8DE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A1F1-15A5-4591-8D86-255D1B7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0345F-18FF-4EAF-B65E-E120902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A4F-F53D-4E15-83A9-AD39F75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4750-5311-4D75-8D52-B198B90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8F4A-0E00-4CA1-ABFF-8ED62CFE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02B1-3E96-497D-AC0E-DF3EAE02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1A3-582C-4C6B-8D77-0DC4410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4B7-BC06-466C-B373-3054160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939-9548-4C8D-87A5-75DC610FC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AC0-8A5F-4510-8CF1-B67EA8F2F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31C-7B76-4616-8CD5-80C0FDAE8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C31-C279-4DE0-980D-6E9C70668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29F-03E7-4098-A5E8-7A5A66E9B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BDD-7BEA-496D-85E4-576B364D4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Calibri"/>
              </a:rPr>
              <a:t>Сила упруг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Формула закона Гука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3" descr="2-2-1"/>
          <p:cNvPicPr/>
          <p:nvPr/>
        </p:nvPicPr>
        <p:blipFill>
          <a:blip r:embed="rId1"/>
          <a:stretch/>
        </p:blipFill>
        <p:spPr>
          <a:xfrm>
            <a:off x="1214280" y="1428840"/>
            <a:ext cx="6330960" cy="3378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2857680" y="2143080"/>
                <a:ext cx="36036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16"/>
          <p:cNvSpPr/>
          <p:nvPr/>
        </p:nvSpPr>
        <p:spPr>
          <a:xfrm>
            <a:off x="0" y="5373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коэффициент жесткости  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= Н/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ите жесткость пруж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7" descr="a2"/>
          <p:cNvPicPr/>
          <p:nvPr/>
        </p:nvPicPr>
        <p:blipFill>
          <a:blip r:embed="rId1"/>
          <a:stretch/>
        </p:blipFill>
        <p:spPr>
          <a:xfrm>
            <a:off x="142920" y="2643120"/>
            <a:ext cx="4033800" cy="302256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291" name="Oval 8"/>
          <p:cNvSpPr/>
          <p:nvPr/>
        </p:nvSpPr>
        <p:spPr>
          <a:xfrm>
            <a:off x="2556000" y="4221000"/>
            <a:ext cx="71280" cy="7164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56000" y="4292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187280" y="429264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476360" y="855720"/>
                <a:ext cx="187344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Text Box 13"/>
          <p:cNvSpPr/>
          <p:nvPr/>
        </p:nvSpPr>
        <p:spPr>
          <a:xfrm>
            <a:off x="4286160" y="1052640"/>
            <a:ext cx="485784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а графике отменим точку и опустим перпендикуляры на оси координат, запишем значения силы упругости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F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20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Н и удлинения пружины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= 0,04 м и затем по формуле вычислим коэффициент жест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 = 20 Н/ 0,04 м = 500 Н/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акон Гука для малых упругих деформ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ла упругости, возникающая при деформации тела, прямо пропорциональна его удлинению (сжатию) и направлена противоположно перемещению частиц тела при де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62240" y="5448240"/>
                <a:ext cx="2421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акон Гука при изги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24360" y="1052640"/>
            <a:ext cx="5543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он Гука можно обобщить и на случай более сложной деформации, например, деформации изгиб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ила упругости прямо пропорциональна прогибу стержня, концы которого лежат на двух опо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тело на опоре1"/>
          <p:cNvPicPr/>
          <p:nvPr/>
        </p:nvPicPr>
        <p:blipFill>
          <a:blip r:embed="rId1"/>
          <a:stretch/>
        </p:blipFill>
        <p:spPr>
          <a:xfrm>
            <a:off x="5040360" y="2492280"/>
            <a:ext cx="3779640" cy="275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02" name="Picture 8" descr="зав деф"/>
          <p:cNvPicPr/>
          <p:nvPr/>
        </p:nvPicPr>
        <p:blipFill>
          <a:blip r:embed="rId2"/>
          <a:stretch/>
        </p:blipFill>
        <p:spPr>
          <a:xfrm>
            <a:off x="5143680" y="1000080"/>
            <a:ext cx="3855960" cy="540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е деформации изображе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1" descr="деф в быту"/>
          <p:cNvPicPr/>
          <p:nvPr/>
        </p:nvPicPr>
        <p:blipFill>
          <a:blip r:embed="rId1"/>
          <a:stretch/>
        </p:blipFill>
        <p:spPr>
          <a:xfrm>
            <a:off x="684360" y="1916280"/>
            <a:ext cx="1800000" cy="23047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5" name="Picture 12" descr="деф в быту1"/>
          <p:cNvPicPr/>
          <p:nvPr/>
        </p:nvPicPr>
        <p:blipFill>
          <a:blip r:embed="rId2"/>
          <a:stretch/>
        </p:blipFill>
        <p:spPr>
          <a:xfrm>
            <a:off x="395280" y="4437000"/>
            <a:ext cx="2305080" cy="2157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деформ"/>
          <p:cNvPicPr/>
          <p:nvPr/>
        </p:nvPicPr>
        <p:blipFill>
          <a:blip r:embed="rId3"/>
          <a:stretch/>
        </p:blipFill>
        <p:spPr>
          <a:xfrm>
            <a:off x="3132000" y="1916280"/>
            <a:ext cx="1866960" cy="23032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7" name="Picture 14" descr="1d38_03_03"/>
          <p:cNvPicPr/>
          <p:nvPr/>
        </p:nvPicPr>
        <p:blipFill>
          <a:blip r:embed="rId4"/>
          <a:stretch/>
        </p:blipFill>
        <p:spPr>
          <a:xfrm>
            <a:off x="5724360" y="1916280"/>
            <a:ext cx="267516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8" name="Picture 16" descr="сила уп2"/>
          <p:cNvPicPr/>
          <p:nvPr/>
        </p:nvPicPr>
        <p:blipFill>
          <a:blip r:embed="rId5"/>
          <a:stretch/>
        </p:blipFill>
        <p:spPr>
          <a:xfrm>
            <a:off x="5651640" y="4292640"/>
            <a:ext cx="2808000" cy="23018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9" name="Picture 17" descr="тело под"/>
          <p:cNvPicPr/>
          <p:nvPr/>
        </p:nvPicPr>
        <p:blipFill>
          <a:blip r:embed="rId6"/>
          <a:stretch/>
        </p:blipFill>
        <p:spPr>
          <a:xfrm>
            <a:off x="3203640" y="4653000"/>
            <a:ext cx="1752480" cy="16765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Условие возникновения силы упругости   -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деформ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252720" y="2060280"/>
            <a:ext cx="4608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формацией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понимают изменение объема или формы тела под действием внешних с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1" descr="сила уп1"/>
          <p:cNvPicPr/>
          <p:nvPr/>
        </p:nvPicPr>
        <p:blipFill>
          <a:blip r:embed="rId1"/>
          <a:stretch/>
        </p:blipFill>
        <p:spPr>
          <a:xfrm>
            <a:off x="4284720" y="2324160"/>
            <a:ext cx="4570200" cy="3747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ричины де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13" descr="прич упр"/>
          <p:cNvPicPr/>
          <p:nvPr/>
        </p:nvPicPr>
        <p:blipFill>
          <a:blip r:embed="rId1"/>
          <a:stretch/>
        </p:blipFill>
        <p:spPr>
          <a:xfrm>
            <a:off x="250920" y="1844640"/>
            <a:ext cx="4105080" cy="2603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55" name="Picture 14" descr="возн силы упр"/>
          <p:cNvPicPr/>
          <p:nvPr/>
        </p:nvPicPr>
        <p:blipFill>
          <a:blip r:embed="rId2"/>
          <a:stretch/>
        </p:blipFill>
        <p:spPr>
          <a:xfrm>
            <a:off x="4500720" y="1413000"/>
            <a:ext cx="4392360" cy="3448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256" name="Text Box 15"/>
          <p:cNvSpPr/>
          <p:nvPr/>
        </p:nvSpPr>
        <p:spPr>
          <a:xfrm>
            <a:off x="0" y="580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ри изменении расстояния между атомами изменяются силы взаимодействия между ними, которые стремятся вернуть тело в исходное состояния. Поэтому силы упругости имеют электромагнитную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5508720" y="1268280"/>
            <a:ext cx="108108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 flipH="1">
            <a:off x="1692000" y="1268280"/>
            <a:ext cx="14396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24000" y="234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упру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364000" y="2276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еупругие - плас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пласт деф"/>
          <p:cNvPicPr/>
          <p:nvPr/>
        </p:nvPicPr>
        <p:blipFill>
          <a:blip r:embed="rId1"/>
          <a:stretch/>
        </p:blipFill>
        <p:spPr>
          <a:xfrm>
            <a:off x="5076720" y="3573360"/>
            <a:ext cx="3759480" cy="22989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64" name="Picture 13" descr="сила уп3"/>
          <p:cNvPicPr/>
          <p:nvPr/>
        </p:nvPicPr>
        <p:blipFill>
          <a:blip r:embed="rId2"/>
          <a:stretch/>
        </p:blipFill>
        <p:spPr>
          <a:xfrm>
            <a:off x="395280" y="3573360"/>
            <a:ext cx="3456000" cy="23511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p:transition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428920" y="1071720"/>
          <a:ext cx="4000320" cy="143172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Растяжение и сжа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c0504d"/>
                        </a:gs>
                        <a:gs pos="100000">
                          <a:srgbClr val="66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67" name="Picture 47" descr="деф сжат0"/>
          <p:cNvPicPr/>
          <p:nvPr/>
        </p:nvPicPr>
        <p:blipFill>
          <a:blip r:embed="rId1"/>
          <a:stretch/>
        </p:blipFill>
        <p:spPr>
          <a:xfrm>
            <a:off x="6143760" y="4357800"/>
            <a:ext cx="2332080" cy="206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8" name="Picture 48" descr="1растяж"/>
          <p:cNvPicPr/>
          <p:nvPr/>
        </p:nvPicPr>
        <p:blipFill>
          <a:blip r:embed="rId2"/>
          <a:stretch/>
        </p:blipFill>
        <p:spPr>
          <a:xfrm>
            <a:off x="324000" y="4508640"/>
            <a:ext cx="2247840" cy="208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9" name="Picture 49" descr="опр раст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285840" y="2857680"/>
            <a:ext cx="2500200" cy="1446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0" name="Picture 50" descr="сжат оп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6215040" y="2714760"/>
            <a:ext cx="2544840" cy="1357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0" y="1000080"/>
          <a:ext cx="3240000" cy="10288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ви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c0504d"/>
                        </a:gs>
                        <a:gs pos="100000">
                          <a:srgbClr val="66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73" name="Picture 29" descr="сдвиг2"/>
          <p:cNvPicPr/>
          <p:nvPr/>
        </p:nvPicPr>
        <p:blipFill>
          <a:blip r:embed="rId1"/>
          <a:stretch/>
        </p:blipFill>
        <p:spPr>
          <a:xfrm>
            <a:off x="1500120" y="3143160"/>
            <a:ext cx="2745000" cy="270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4" name="Picture 31" descr="сдвиг1"/>
          <p:cNvPicPr/>
          <p:nvPr/>
        </p:nvPicPr>
        <p:blipFill>
          <a:blip r:embed="rId2"/>
          <a:stretch/>
        </p:blipFill>
        <p:spPr>
          <a:xfrm>
            <a:off x="5857920" y="1405080"/>
            <a:ext cx="2500200" cy="4917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2960" y="1285920"/>
          <a:ext cx="4038480" cy="2041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04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Изгиб – сочетание растяжения и сжат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77" name="Picture 90" descr="опр изг"/>
          <p:cNvPicPr/>
          <p:nvPr/>
        </p:nvPicPr>
        <p:blipFill>
          <a:blip r:embed="rId1"/>
          <a:stretch/>
        </p:blipFill>
        <p:spPr>
          <a:xfrm>
            <a:off x="611280" y="4214880"/>
            <a:ext cx="4352760" cy="2043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78" name="Picture 88" descr="деф изг1"/>
          <p:cNvPicPr/>
          <p:nvPr/>
        </p:nvPicPr>
        <p:blipFill>
          <a:blip r:embed="rId2"/>
          <a:stretch/>
        </p:blipFill>
        <p:spPr>
          <a:xfrm>
            <a:off x="5726160" y="1455840"/>
            <a:ext cx="2489040" cy="506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28760" y="1357200"/>
          <a:ext cx="4038480" cy="1981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Кручение – сводится к сдвиг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81" name="Picture 23" descr="кручение"/>
          <p:cNvPicPr/>
          <p:nvPr/>
        </p:nvPicPr>
        <p:blipFill>
          <a:blip r:embed="rId1"/>
          <a:stretch/>
        </p:blipFill>
        <p:spPr>
          <a:xfrm>
            <a:off x="857160" y="3786120"/>
            <a:ext cx="3281400" cy="272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82" name="Picture 28" descr="круч"/>
          <p:cNvPicPr/>
          <p:nvPr/>
        </p:nvPicPr>
        <p:blipFill>
          <a:blip r:embed="rId2"/>
          <a:stretch/>
        </p:blipFill>
        <p:spPr>
          <a:xfrm>
            <a:off x="5580000" y="1276200"/>
            <a:ext cx="2706840" cy="5321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2851200" y="4200480"/>
                <a:ext cx="32954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|</m:t>
                    </m:r>
                    <m:r>
                      <m:t xml:space="preserve">Δl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15"/>
          <p:cNvSpPr/>
          <p:nvPr/>
        </p:nvSpPr>
        <p:spPr>
          <a:xfrm>
            <a:off x="214200" y="333360"/>
            <a:ext cx="864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Сила упругости прямо пропорциональна абсолютному удлинению (растяжению)  те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0:52:39Z</dcterms:created>
  <dc:creator>Customer</dc:creator>
  <dc:description/>
  <dc:language>en-US</dc:language>
  <cp:lastModifiedBy>пк</cp:lastModifiedBy>
  <dcterms:modified xsi:type="dcterms:W3CDTF">2015-10-17T16:06:22Z</dcterms:modified>
  <cp:revision>8</cp:revision>
  <dc:subject/>
  <dc:title>Слайд 1</dc:title>
</cp:coreProperties>
</file>