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F57-465E-47E2-ADCC-3658E2A4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E92-2D85-4AA1-8275-031C090E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AFA-EF10-4EC2-B5A8-C6FA29C3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4AE-F815-402C-9B83-D9226ACE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6058-ACBB-4300-8D96-79D76D6D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1E6D-4B22-4A71-BCDF-8497CB8E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28E7-0DAE-4F84-8977-227CED7E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5524-4EB3-4C9C-AD6E-5FC485E6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C784-DFE1-4E04-B2A0-727A6886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838A-0E14-449C-B3ED-36B9C456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0330-E95D-4F70-9291-407E7EFC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0A3-53E9-493D-8458-9DD4AFB5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769F-CA1F-41DB-8E1F-ECA7956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E4FA-50BD-482A-8E65-8119443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D83B-E50C-4E7F-9EC7-A19433A9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3BDE-CC51-484B-BC20-E7641912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9661-5458-47B8-AB00-72C85AE3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1C64-3CBE-4A4C-935A-8B15B029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C380-9AE7-4959-8F4C-4BF0AEFF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FD34-74BF-473E-B11D-D89950E0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8BF7-2AC3-4FE0-9DB2-BFCE9545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2CB0-E543-477D-9016-55117549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F04-588B-4980-B6E2-F9D10F58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6BB5-3A7B-470D-800A-D46F6219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2DF9-9CB8-4114-8F3D-68462A45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C98A-D547-409D-96BA-9B0F6F29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C677-3F7D-49E6-B785-1150A10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97EE-21E6-4868-BA7F-66826E1C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D9C0C-DF39-4BC9-935F-5F122EF0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F85B-533D-474B-A659-76AADB64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2B9B1-213D-4FF2-81E7-7938048D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CDAF-913D-420C-9A12-F13313DD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5B28-907E-42BE-B268-5F67261C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BEF-2DD1-4EBC-ABED-6AC89EB8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CCBAE-093A-48C4-9359-C6CE2B3D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8D895-1D69-49B6-81F7-030B37E7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0ABA-EBA7-4CB6-B495-CCF7920F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A3079-8160-444C-87EC-7F290ADF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C934-E112-453C-9738-C06AB918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E47F-FC1B-4882-A151-DE1C3E91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8F1E-06F4-48BC-9EBB-2364930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441F-AD60-418A-8CE8-348428C8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299B-FA68-4BDB-BCEC-B4F09B25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ADFA3-8256-43E1-B987-5497AB0B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0D7-0749-4F10-A67F-4E5B6CF6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9CF3-A591-4B20-8793-2EEF9581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4869F-3318-4461-8513-14D7A203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CF260-2218-47E3-8CA2-FD17FD2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2B13-3D62-463D-93B2-FABAFD2A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47DEB-8D81-4BE9-A8B9-3970B4D3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91DD-8A2E-4D6C-BDCA-2AC1C20C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F1442-8732-4AC7-8D9C-9B0E9B2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4F831-5FB2-448D-8585-C4CDA4CC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9B5E7-657B-450E-A635-15A846D3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593DF-FE95-45FB-AF02-D0A67AA3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896-59AC-4745-9111-9D42CB71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A04E-33C9-4ED6-A2BE-B6032F40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EBE6B-5C38-4258-AFC2-904BAB29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F3829-CB19-409F-B3B2-A30F25AC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7BE22-D422-4499-946A-33E2317E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6CED-2D1B-4F86-ABF5-C53019C3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9C4A8-5CBC-4F7F-A98C-5113FA63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DADCA-FA1D-44BF-A2C0-D9DB125C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E8416-94CC-4948-B594-88DA4CC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887B-E9D7-459D-8F4F-40690526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EF59C-EB40-4794-B11A-51E381C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9B2-A484-4318-90A3-01BB1E34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A6C53-58DC-48B2-934D-8459BE3F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8F03D-2B70-421F-8241-614BBE9D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541B1-4894-46C5-9185-825CD8BA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5AC-769D-47AC-A781-E2761C2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E34-A020-47F2-9526-3D4886E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E187-38ED-4048-93A9-73470E555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F8E3-86BC-4B21-833F-5EE168B02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7DFB-77D6-49C8-8C31-BD794394F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1919-BBFD-43AA-9481-4EC3757E5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0E87-559B-4EF9-9858-24CAFA5D3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ABBE-CD84-40C9-9905-A5C8E931D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47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Calibri"/>
              </a:rPr>
              <a:t>Сила упругос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Формула закона Гука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13" descr="2-2-1"/>
          <p:cNvPicPr/>
          <p:nvPr/>
        </p:nvPicPr>
        <p:blipFill>
          <a:blip r:embed="rId1"/>
          <a:stretch/>
        </p:blipFill>
        <p:spPr>
          <a:xfrm>
            <a:off x="1214280" y="1428840"/>
            <a:ext cx="6330960" cy="3378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87" name="Object 2"/>
              <p:cNvSpPr txBox="1"/>
              <p:nvPr/>
            </p:nvSpPr>
            <p:spPr>
              <a:xfrm>
                <a:off x="2857680" y="2143080"/>
                <a:ext cx="36036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Text Box 16"/>
          <p:cNvSpPr/>
          <p:nvPr/>
        </p:nvSpPr>
        <p:spPr>
          <a:xfrm>
            <a:off x="0" y="53737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– коэффициент жесткости  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= Н/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ите жесткость пруж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7" descr="a2"/>
          <p:cNvPicPr/>
          <p:nvPr/>
        </p:nvPicPr>
        <p:blipFill>
          <a:blip r:embed="rId1"/>
          <a:stretch/>
        </p:blipFill>
        <p:spPr>
          <a:xfrm>
            <a:off x="142920" y="2643120"/>
            <a:ext cx="4033800" cy="302256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sp>
        <p:nvSpPr>
          <p:cNvPr id="291" name="Oval 8"/>
          <p:cNvSpPr/>
          <p:nvPr/>
        </p:nvSpPr>
        <p:spPr>
          <a:xfrm>
            <a:off x="2556000" y="4221000"/>
            <a:ext cx="71280" cy="7164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556000" y="429264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1187280" y="429264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476360" y="855720"/>
                <a:ext cx="187344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Text Box 13"/>
          <p:cNvSpPr/>
          <p:nvPr/>
        </p:nvSpPr>
        <p:spPr>
          <a:xfrm>
            <a:off x="4286160" y="1052640"/>
            <a:ext cx="485784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На графике отменим точку и опустим перпендикуляры на оси координат, запишем значения силы упругости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F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20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Н и удлинения пружины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= 0,04 м и затем по формуле вычислим коэффициент жест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 = 20 Н/ 0,04 м = 500 Н/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акон Гука для малых упругих деформ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7859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ила упругости, возникающая при деформации тела, прямо пропорциональна его удлинению (сжатию) и направлена противоположно перемещению частиц тела при де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62240" y="5448240"/>
                <a:ext cx="24210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Закон Гука при изги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324360" y="1052640"/>
            <a:ext cx="5543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кон Гука можно обобщить и на случай более сложной деформации, например, деформации изгиб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ила упругости прямо пропорциональна прогибу стержня, концы которого лежат на двух опо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7" descr="тело на опоре1"/>
          <p:cNvPicPr/>
          <p:nvPr/>
        </p:nvPicPr>
        <p:blipFill>
          <a:blip r:embed="rId1"/>
          <a:stretch/>
        </p:blipFill>
        <p:spPr>
          <a:xfrm>
            <a:off x="5040360" y="2492280"/>
            <a:ext cx="3779640" cy="275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02" name="Picture 8" descr="зав деф"/>
          <p:cNvPicPr/>
          <p:nvPr/>
        </p:nvPicPr>
        <p:blipFill>
          <a:blip r:embed="rId2"/>
          <a:stretch/>
        </p:blipFill>
        <p:spPr>
          <a:xfrm>
            <a:off x="5143680" y="1000080"/>
            <a:ext cx="3855960" cy="540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ие деформации изображе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11" descr="деф в быту"/>
          <p:cNvPicPr/>
          <p:nvPr/>
        </p:nvPicPr>
        <p:blipFill>
          <a:blip r:embed="rId1"/>
          <a:stretch/>
        </p:blipFill>
        <p:spPr>
          <a:xfrm>
            <a:off x="684360" y="1916280"/>
            <a:ext cx="1800000" cy="230472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05" name="Picture 12" descr="деф в быту1"/>
          <p:cNvPicPr/>
          <p:nvPr/>
        </p:nvPicPr>
        <p:blipFill>
          <a:blip r:embed="rId2"/>
          <a:stretch/>
        </p:blipFill>
        <p:spPr>
          <a:xfrm>
            <a:off x="395280" y="4437000"/>
            <a:ext cx="2305080" cy="2157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деформ"/>
          <p:cNvPicPr/>
          <p:nvPr/>
        </p:nvPicPr>
        <p:blipFill>
          <a:blip r:embed="rId3"/>
          <a:stretch/>
        </p:blipFill>
        <p:spPr>
          <a:xfrm>
            <a:off x="3132000" y="1916280"/>
            <a:ext cx="1866960" cy="23032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07" name="Picture 14" descr="1d38_03_03"/>
          <p:cNvPicPr/>
          <p:nvPr/>
        </p:nvPicPr>
        <p:blipFill>
          <a:blip r:embed="rId4"/>
          <a:stretch/>
        </p:blipFill>
        <p:spPr>
          <a:xfrm>
            <a:off x="5724360" y="1916280"/>
            <a:ext cx="2675160" cy="1981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08" name="Picture 16" descr="сила уп2"/>
          <p:cNvPicPr/>
          <p:nvPr/>
        </p:nvPicPr>
        <p:blipFill>
          <a:blip r:embed="rId5"/>
          <a:stretch/>
        </p:blipFill>
        <p:spPr>
          <a:xfrm>
            <a:off x="5651640" y="4292640"/>
            <a:ext cx="2808000" cy="23018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09" name="Picture 17" descr="тело под"/>
          <p:cNvPicPr/>
          <p:nvPr/>
        </p:nvPicPr>
        <p:blipFill>
          <a:blip r:embed="rId6"/>
          <a:stretch/>
        </p:blipFill>
        <p:spPr>
          <a:xfrm>
            <a:off x="3203640" y="4653000"/>
            <a:ext cx="1752480" cy="167652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Условие возникновения силы упругости   -</a:t>
            </a: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деформ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252720" y="2060280"/>
            <a:ext cx="4608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формацией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понимают изменение объема или формы тела под действием внешних с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1" descr="сила уп1"/>
          <p:cNvPicPr/>
          <p:nvPr/>
        </p:nvPicPr>
        <p:blipFill>
          <a:blip r:embed="rId1"/>
          <a:stretch/>
        </p:blipFill>
        <p:spPr>
          <a:xfrm>
            <a:off x="4284720" y="2324160"/>
            <a:ext cx="4570200" cy="37479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Причины де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13" descr="прич упр"/>
          <p:cNvPicPr/>
          <p:nvPr/>
        </p:nvPicPr>
        <p:blipFill>
          <a:blip r:embed="rId1"/>
          <a:stretch/>
        </p:blipFill>
        <p:spPr>
          <a:xfrm>
            <a:off x="250920" y="1844640"/>
            <a:ext cx="4105080" cy="2603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55" name="Picture 14" descr="возн силы упр"/>
          <p:cNvPicPr/>
          <p:nvPr/>
        </p:nvPicPr>
        <p:blipFill>
          <a:blip r:embed="rId2"/>
          <a:stretch/>
        </p:blipFill>
        <p:spPr>
          <a:xfrm>
            <a:off x="4500720" y="1413000"/>
            <a:ext cx="4392360" cy="344808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256" name="Text Box 15"/>
          <p:cNvSpPr/>
          <p:nvPr/>
        </p:nvSpPr>
        <p:spPr>
          <a:xfrm>
            <a:off x="0" y="5805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0" y="508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ри изменении расстояния между атомами изменяются силы взаимодействия между ними, которые стремятся вернуть тело в исходное состояния. Поэтому силы упругости имеют электромагнитную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Виды деформац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5508720" y="1268280"/>
            <a:ext cx="108108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 flipH="1">
            <a:off x="1692000" y="1268280"/>
            <a:ext cx="14396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24000" y="2349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упру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364000" y="2276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неупругие - плас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2" descr="пласт деф"/>
          <p:cNvPicPr/>
          <p:nvPr/>
        </p:nvPicPr>
        <p:blipFill>
          <a:blip r:embed="rId1"/>
          <a:stretch/>
        </p:blipFill>
        <p:spPr>
          <a:xfrm>
            <a:off x="5076720" y="3573360"/>
            <a:ext cx="3759480" cy="229896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264" name="Picture 13" descr="сила уп3"/>
          <p:cNvPicPr/>
          <p:nvPr/>
        </p:nvPicPr>
        <p:blipFill>
          <a:blip r:embed="rId2"/>
          <a:stretch/>
        </p:blipFill>
        <p:spPr>
          <a:xfrm>
            <a:off x="395280" y="3573360"/>
            <a:ext cx="3456000" cy="235116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p:transition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типы упругой де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428920" y="1071720"/>
          <a:ext cx="4000320" cy="1431720"/>
        </p:xfrm>
        <a:graphic>
          <a:graphicData uri="http://schemas.openxmlformats.org/drawingml/2006/table">
            <a:tbl>
              <a:tblPr/>
              <a:tblGrid>
                <a:gridCol w="400032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Растяжение и сжат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50000">
                          <a:srgbClr val="c0504d"/>
                        </a:gs>
                        <a:gs pos="100000">
                          <a:srgbClr val="66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267" name="Picture 47" descr="деф сжат0"/>
          <p:cNvPicPr/>
          <p:nvPr/>
        </p:nvPicPr>
        <p:blipFill>
          <a:blip r:embed="rId1"/>
          <a:stretch/>
        </p:blipFill>
        <p:spPr>
          <a:xfrm>
            <a:off x="6143760" y="4357800"/>
            <a:ext cx="2332080" cy="2062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8" name="Picture 48" descr="1растяж"/>
          <p:cNvPicPr/>
          <p:nvPr/>
        </p:nvPicPr>
        <p:blipFill>
          <a:blip r:embed="rId2"/>
          <a:stretch/>
        </p:blipFill>
        <p:spPr>
          <a:xfrm>
            <a:off x="324000" y="4508640"/>
            <a:ext cx="2247840" cy="208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9" name="Picture 49" descr="опр раст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285840" y="2857680"/>
            <a:ext cx="2500200" cy="1446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0" name="Picture 50" descr="сжат оп"/>
          <p:cNvPicPr/>
          <p:nvPr/>
        </p:nvPicPr>
        <p:blipFill>
          <a:blip r:embed="rId4">
            <a:lum contrast="48000"/>
          </a:blip>
          <a:stretch/>
        </p:blipFill>
        <p:spPr>
          <a:xfrm>
            <a:off x="6215040" y="2714760"/>
            <a:ext cx="2544840" cy="1357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типы упругой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86000" y="1000080"/>
          <a:ext cx="3240000" cy="10288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ви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50000">
                          <a:srgbClr val="c0504d"/>
                        </a:gs>
                        <a:gs pos="100000">
                          <a:srgbClr val="66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273" name="Picture 29" descr="сдвиг2"/>
          <p:cNvPicPr/>
          <p:nvPr/>
        </p:nvPicPr>
        <p:blipFill>
          <a:blip r:embed="rId1"/>
          <a:stretch/>
        </p:blipFill>
        <p:spPr>
          <a:xfrm>
            <a:off x="1500120" y="3143160"/>
            <a:ext cx="2745000" cy="270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4" name="Picture 31" descr="сдвиг1"/>
          <p:cNvPicPr/>
          <p:nvPr/>
        </p:nvPicPr>
        <p:blipFill>
          <a:blip r:embed="rId2"/>
          <a:stretch/>
        </p:blipFill>
        <p:spPr>
          <a:xfrm>
            <a:off x="5857920" y="1405080"/>
            <a:ext cx="2500200" cy="4917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типы упругой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2960" y="1285920"/>
          <a:ext cx="4038480" cy="2041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04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Изгиб – сочетание растяжения и сжат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277" name="Picture 90" descr="опр изг"/>
          <p:cNvPicPr/>
          <p:nvPr/>
        </p:nvPicPr>
        <p:blipFill>
          <a:blip r:embed="rId1"/>
          <a:stretch/>
        </p:blipFill>
        <p:spPr>
          <a:xfrm>
            <a:off x="611280" y="4214880"/>
            <a:ext cx="4352760" cy="2043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78" name="Picture 88" descr="деф изг1"/>
          <p:cNvPicPr/>
          <p:nvPr/>
        </p:nvPicPr>
        <p:blipFill>
          <a:blip r:embed="rId2"/>
          <a:stretch/>
        </p:blipFill>
        <p:spPr>
          <a:xfrm>
            <a:off x="5726160" y="1455840"/>
            <a:ext cx="2489040" cy="5068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типы упругой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28760" y="1357200"/>
          <a:ext cx="4038480" cy="19814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f497d"/>
                          </a:solidFill>
                          <a:latin typeface="Tahoma"/>
                        </a:rPr>
                        <a:t>Кручение – сводится к сдвиг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281" name="Picture 23" descr="кручение"/>
          <p:cNvPicPr/>
          <p:nvPr/>
        </p:nvPicPr>
        <p:blipFill>
          <a:blip r:embed="rId1"/>
          <a:stretch/>
        </p:blipFill>
        <p:spPr>
          <a:xfrm>
            <a:off x="857160" y="3786120"/>
            <a:ext cx="3281400" cy="272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82" name="Picture 28" descr="круч"/>
          <p:cNvPicPr/>
          <p:nvPr/>
        </p:nvPicPr>
        <p:blipFill>
          <a:blip r:embed="rId2"/>
          <a:stretch/>
        </p:blipFill>
        <p:spPr>
          <a:xfrm>
            <a:off x="5580000" y="1276200"/>
            <a:ext cx="2706840" cy="5321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2851200" y="4200480"/>
                <a:ext cx="329544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|</m:t>
                    </m:r>
                    <m:r>
                      <m:t xml:space="preserve">Δl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15"/>
          <p:cNvSpPr/>
          <p:nvPr/>
        </p:nvSpPr>
        <p:spPr>
          <a:xfrm>
            <a:off x="214200" y="333360"/>
            <a:ext cx="8643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Сила упругости прямо пропорциональна абсолютному удлинению (растяжению)  те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10:52:39Z</dcterms:created>
  <dc:creator>Customer</dc:creator>
  <dc:description/>
  <dc:language>en-US</dc:language>
  <cp:lastModifiedBy>пк</cp:lastModifiedBy>
  <dcterms:modified xsi:type="dcterms:W3CDTF">2015-10-17T16:06:22Z</dcterms:modified>
  <cp:revision>8</cp:revision>
  <dc:subject/>
  <dc:title>Слайд 1</dc:title>
</cp:coreProperties>
</file>