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ABA-2AE4-407F-A79E-DF23DCBA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9D7-F47B-40C5-AAD5-C372B716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078-44EB-4409-B5EC-7158760F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DDE-BB41-419B-8C25-9F3F8873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74E-BFFF-465C-85C4-1C466553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04F-9B07-4C03-84B5-1264F5D3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64F-B7F2-473C-8B41-D1C6738C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9C9-2B8D-44E2-AEC4-CC39FBF7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DE6-32E2-4E81-A31C-B38C88B6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C7F-7761-4EDB-BF2A-7489B756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450-A706-47A2-BA07-15D851E5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7D8-2592-4FD5-B816-7FB21508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E803-4F32-4A78-9B98-A1BC84CE9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700360" y="2060640"/>
            <a:ext cx="38577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О С Т А В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59280" y="3645000"/>
            <a:ext cx="31906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 И С Л А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90880" y="649044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авинова Светл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932360" y="4365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4365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48360" y="4365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56720" y="4365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17733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17733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1700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1700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76720" y="404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84720" y="404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93080" y="404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01080" y="404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44000" y="1628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7640" y="1628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93080" y="1628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47640" y="2997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2997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299736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48360" y="566100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24720" y="566100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101080" y="566100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997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95640" y="299736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1628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6720" y="1628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566100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566100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26028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176560" cy="1444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92360" y="177336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1773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73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995640" y="260280"/>
            <a:ext cx="4919760" cy="1255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68360" y="1773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773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2000" y="1628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08720" y="1628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3640" y="1628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1628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95640" y="1628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16720" y="234936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20000" y="234936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24720" y="234936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28000" y="234936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532720" y="234936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08000" y="3068640"/>
            <a:ext cx="2992320" cy="847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268360" y="4149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4149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4149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4149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149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56360" y="3429000"/>
            <a:ext cx="2766960" cy="785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156360" y="4365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32720" y="4365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08720" y="4365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85080" y="4365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459640" y="4365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419640" y="4869000"/>
            <a:ext cx="2255760" cy="907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64000" y="587700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587700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1640" y="587700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35280" y="587700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59280" y="587700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12000" y="5877000"/>
            <a:ext cx="4827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705200" cy="1755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907160" cy="171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372360" y="260280"/>
            <a:ext cx="2554200" cy="792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012000" y="2852640"/>
            <a:ext cx="2846160" cy="719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059280" y="2133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2133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3640" y="5300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5300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5300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76360" y="5300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5300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27640" y="119700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04000" y="119700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80360" y="119700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56720" y="119700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32720" y="119700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27640" y="371628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04000" y="371628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371628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56720" y="371628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71628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Вишня BF - Baker Flavors - Электронные сигареты и жидкости в Иваново"/>
          <p:cNvPicPr/>
          <p:nvPr/>
        </p:nvPicPr>
        <p:blipFill>
          <a:blip r:embed="rId1"/>
          <a:stretch/>
        </p:blipFill>
        <p:spPr>
          <a:xfrm>
            <a:off x="1042920" y="-24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расивые клубники - Stock Image Anna Kucherova #3855706"/>
          <p:cNvPicPr/>
          <p:nvPr/>
        </p:nvPicPr>
        <p:blipFill>
          <a:blip r:embed="rId2"/>
          <a:stretch/>
        </p:blipFill>
        <p:spPr>
          <a:xfrm>
            <a:off x="5076720" y="0"/>
            <a:ext cx="2159280" cy="1789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Удалённая работа Работа фрилансера Лелякин Алексей Craid Груша."/>
          <p:cNvPicPr/>
          <p:nvPr/>
        </p:nvPicPr>
        <p:blipFill>
          <a:blip r:embed="rId3"/>
          <a:stretch/>
        </p:blipFill>
        <p:spPr>
          <a:xfrm>
            <a:off x="1187280" y="4005360"/>
            <a:ext cx="9334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Удалённая работа Работа фрилансера Лелякин Алексей Craid Груша."/>
          <p:cNvPicPr/>
          <p:nvPr/>
        </p:nvPicPr>
        <p:blipFill>
          <a:blip r:embed="rId4"/>
          <a:stretch/>
        </p:blipFill>
        <p:spPr>
          <a:xfrm>
            <a:off x="2916360" y="4076640"/>
            <a:ext cx="93348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Удалённая работа Работа фрилансера Лелякин Алексей Craid Груша."/>
          <p:cNvPicPr/>
          <p:nvPr/>
        </p:nvPicPr>
        <p:blipFill>
          <a:blip r:embed="rId5"/>
          <a:stretch/>
        </p:blipFill>
        <p:spPr>
          <a:xfrm>
            <a:off x="324000" y="3933720"/>
            <a:ext cx="93348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Удалённая работа Работа фрилансера Лелякин Алексей Craid Груша."/>
          <p:cNvPicPr/>
          <p:nvPr/>
        </p:nvPicPr>
        <p:blipFill>
          <a:blip r:embed="rId6"/>
          <a:stretch/>
        </p:blipFill>
        <p:spPr>
          <a:xfrm>
            <a:off x="2050920" y="4005360"/>
            <a:ext cx="933480" cy="1428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Яблоко - Детские картинки - 900 презентаций - Развивающие игры для детей"/>
          <p:cNvPicPr/>
          <p:nvPr/>
        </p:nvPicPr>
        <p:blipFill>
          <a:blip r:embed="rId7"/>
          <a:stretch/>
        </p:blipFill>
        <p:spPr>
          <a:xfrm>
            <a:off x="6156360" y="3716280"/>
            <a:ext cx="1512720" cy="1495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63640" y="213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9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5516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537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5280" y="3333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3333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17733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1773360"/>
            <a:ext cx="5050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17733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26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88000" y="26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40720" y="26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170028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170028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1700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1700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3213000"/>
            <a:ext cx="1081080" cy="79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7640" y="3284640"/>
            <a:ext cx="1081080" cy="79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3213000"/>
            <a:ext cx="1081080" cy="79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4724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2360" y="4724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32360" y="4724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213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3213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8000" y="4653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653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413000"/>
            <a:ext cx="835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637000"/>
            <a:ext cx="734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716280"/>
            <a:ext cx="4319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97360"/>
            <a:ext cx="6192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5800" y="-316080"/>
            <a:ext cx="123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80" y="-316080"/>
            <a:ext cx="123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81800" y="-316080"/>
            <a:ext cx="123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3800" y="18439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60360" y="1772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0" y="17733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3800" y="1844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61080" y="1844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6160" y="1844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96280" y="1844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6" idx="2"/>
            <a:endCxn id="86" idx="2"/>
          </p:cNvCxnSpPr>
          <p:nvPr/>
        </p:nvCxnSpPr>
        <p:spPr>
          <a:xfrm>
            <a:off x="1161720" y="2061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6" idx="2"/>
            <a:endCxn id="86" idx="2"/>
          </p:cNvCxnSpPr>
          <p:nvPr/>
        </p:nvCxnSpPr>
        <p:spPr>
          <a:xfrm>
            <a:off x="1161720" y="2061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611280" y="364500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450864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53737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537372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450864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1640" y="3645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6360" y="5373720"/>
            <a:ext cx="91440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450864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96360" y="3645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3564000">
            <a:off x="1323360" y="1637280"/>
            <a:ext cx="431640" cy="271440"/>
          </a:xfrm>
          <a:prstGeom prst="rightArrow">
            <a:avLst>
              <a:gd name="adj1" fmla="val 50000"/>
              <a:gd name="adj2" fmla="val 397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7260600">
            <a:off x="459360" y="1637280"/>
            <a:ext cx="431640" cy="271440"/>
          </a:xfrm>
          <a:prstGeom prst="rightArrow">
            <a:avLst>
              <a:gd name="adj1" fmla="val 50000"/>
              <a:gd name="adj2" fmla="val 397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3564000">
            <a:off x="4778640" y="1708920"/>
            <a:ext cx="432000" cy="271440"/>
          </a:xfrm>
          <a:prstGeom prst="rightArrow">
            <a:avLst>
              <a:gd name="adj1" fmla="val 50000"/>
              <a:gd name="adj2" fmla="val 397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7260600">
            <a:off x="3915000" y="1708920"/>
            <a:ext cx="432000" cy="271440"/>
          </a:xfrm>
          <a:prstGeom prst="rightArrow">
            <a:avLst>
              <a:gd name="adj1" fmla="val 50000"/>
              <a:gd name="adj2" fmla="val 397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7260600">
            <a:off x="7155720" y="1637280"/>
            <a:ext cx="431640" cy="271440"/>
          </a:xfrm>
          <a:prstGeom prst="rightArrow">
            <a:avLst>
              <a:gd name="adj1" fmla="val 50000"/>
              <a:gd name="adj2" fmla="val 397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3564000">
            <a:off x="8308440" y="1637280"/>
            <a:ext cx="431640" cy="271440"/>
          </a:xfrm>
          <a:prstGeom prst="rightArrow">
            <a:avLst>
              <a:gd name="adj1" fmla="val 50000"/>
              <a:gd name="adj2" fmla="val 397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275200">
            <a:off x="7731720" y="1708920"/>
            <a:ext cx="432000" cy="271440"/>
          </a:xfrm>
          <a:prstGeom prst="rightArrow">
            <a:avLst>
              <a:gd name="adj1" fmla="val 50000"/>
              <a:gd name="adj2" fmla="val 397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260280"/>
            <a:ext cx="1152360" cy="23767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376720"/>
              <a:gd name="textAreaBottom" fmla="*/ 2320560 h 2376720"/>
            </a:gdLst>
            <a:ahLst/>
            <a:rect l="textAreaLeft" t="textAreaTop" r="textAreaRight" b="textAreaBottom"/>
            <a:pathLst>
              <a:path w="21600" h="44542">
                <a:moveTo>
                  <a:pt x="3600" y="0"/>
                </a:moveTo>
                <a:arcTo wR="3600" hR="3600" stAng="16200000" swAng="-5400000"/>
                <a:lnTo>
                  <a:pt x="0" y="40942"/>
                </a:lnTo>
                <a:arcTo wR="3600" hR="3600" stAng="10800000" swAng="-5400000"/>
                <a:lnTo>
                  <a:pt x="18000" y="44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260280"/>
            <a:ext cx="1152360" cy="23767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376720"/>
              <a:gd name="textAreaBottom" fmla="*/ 2320560 h 2376720"/>
            </a:gdLst>
            <a:ahLst/>
            <a:rect l="textAreaLeft" t="textAreaTop" r="textAreaRight" b="textAreaBottom"/>
            <a:pathLst>
              <a:path w="21600" h="44542">
                <a:moveTo>
                  <a:pt x="3600" y="0"/>
                </a:moveTo>
                <a:arcTo wR="3600" hR="3600" stAng="16200000" swAng="-5400000"/>
                <a:lnTo>
                  <a:pt x="0" y="40942"/>
                </a:lnTo>
                <a:arcTo wR="3600" hR="3600" stAng="10800000" swAng="-5400000"/>
                <a:lnTo>
                  <a:pt x="18000" y="44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3500280"/>
            <a:ext cx="1152720" cy="244980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449800"/>
              <a:gd name="textAreaBottom" fmla="*/ 2393640 h 2449800"/>
            </a:gdLst>
            <a:ahLst/>
            <a:rect l="textAreaLeft" t="textAreaTop" r="textAreaRight" b="textAreaBottom"/>
            <a:pathLst>
              <a:path w="21600" h="45897">
                <a:moveTo>
                  <a:pt x="3600" y="0"/>
                </a:moveTo>
                <a:arcTo wR="3600" hR="3600" stAng="16200000" swAng="-5400000"/>
                <a:lnTo>
                  <a:pt x="0" y="42297"/>
                </a:lnTo>
                <a:arcTo wR="3600" hR="3600" stAng="10800000" swAng="-5400000"/>
                <a:lnTo>
                  <a:pt x="18000" y="45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260280"/>
            <a:ext cx="1152360" cy="21607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40495">
                <a:moveTo>
                  <a:pt x="3600" y="0"/>
                </a:moveTo>
                <a:arcTo wR="3600" hR="3600" stAng="16200000" swAng="-5400000"/>
                <a:lnTo>
                  <a:pt x="0" y="36895"/>
                </a:lnTo>
                <a:arcTo wR="3600" hR="3600" stAng="10800000" swAng="-5400000"/>
                <a:lnTo>
                  <a:pt x="18000" y="40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6360" y="333360"/>
            <a:ext cx="1152360" cy="208764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087640"/>
              <a:gd name="textAreaBottom" fmla="*/ 2031480 h 2087640"/>
            </a:gdLst>
            <a:ahLst/>
            <a:rect l="textAreaLeft" t="textAreaTop" r="textAreaRight" b="textAreaBottom"/>
            <a:pathLst>
              <a:path w="21600" h="39126">
                <a:moveTo>
                  <a:pt x="3600" y="0"/>
                </a:moveTo>
                <a:arcTo wR="3600" hR="3600" stAng="16200000" swAng="-5400000"/>
                <a:lnTo>
                  <a:pt x="0" y="35526"/>
                </a:lnTo>
                <a:arcTo wR="3600" hR="3600" stAng="10800000" swAng="-5400000"/>
                <a:lnTo>
                  <a:pt x="18000" y="39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6093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6093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67640" y="2565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59640" y="2565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24000" y="1052640"/>
            <a:ext cx="736560" cy="93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047600" cy="136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67000" y="3573360"/>
            <a:ext cx="770040" cy="1079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265560" y="4797360"/>
            <a:ext cx="763560" cy="1069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859280" y="443700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16360" y="3500280"/>
            <a:ext cx="1152720" cy="244980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449800"/>
              <a:gd name="textAreaBottom" fmla="*/ 2393640 h 2449800"/>
            </a:gdLst>
            <a:ahLst/>
            <a:rect l="textAreaLeft" t="textAreaTop" r="textAreaRight" b="textAreaBottom"/>
            <a:pathLst>
              <a:path w="21600" h="45897">
                <a:moveTo>
                  <a:pt x="3600" y="0"/>
                </a:moveTo>
                <a:arcTo wR="3600" hR="3600" stAng="16200000" swAng="-5400000"/>
                <a:lnTo>
                  <a:pt x="0" y="42297"/>
                </a:lnTo>
                <a:arcTo wR="3600" hR="3600" stAng="10800000" swAng="-5400000"/>
                <a:lnTo>
                  <a:pt x="18000" y="45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4859280" y="364500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4932360" y="4941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7812000" y="404640"/>
            <a:ext cx="709560" cy="709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7812000" y="105264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7812000" y="1700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6227640" y="333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6227640" y="98100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3"/>
          <a:stretch/>
        </p:blipFill>
        <p:spPr>
          <a:xfrm>
            <a:off x="6227640" y="1700280"/>
            <a:ext cx="7146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11640" y="2781360"/>
            <a:ext cx="50472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234936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2205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06864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39337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479736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5661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24720" y="3213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720" y="407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49417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580536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360" y="189000"/>
            <a:ext cx="1361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 и  1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4360" y="1197000"/>
            <a:ext cx="136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 и  4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236000" y="189000"/>
            <a:ext cx="1457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и  2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308720" y="1268280"/>
            <a:ext cx="1457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 и  3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211640" y="2421000"/>
            <a:ext cx="61920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00536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31417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4869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57340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4360" y="31417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360" y="400536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4869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4360" y="573408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71640" y="333360"/>
            <a:ext cx="1380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 и  3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71640" y="1628640"/>
            <a:ext cx="1380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и  1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77080" y="1125360"/>
            <a:ext cx="1438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 и  2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74960" cy="1743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2133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2060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2060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2060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4937040" cy="2176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932360" y="5516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5516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5516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24720" y="5516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5516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661240" y="5516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2060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060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2360" y="5516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48360" y="5516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5516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5516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604360" y="40464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4:34:00Z</dcterms:created>
  <dc:creator>User</dc:creator>
  <dc:description/>
  <dc:language>en-US</dc:language>
  <cp:lastModifiedBy>User</cp:lastModifiedBy>
  <dcterms:modified xsi:type="dcterms:W3CDTF">2015-10-17T13:56:54Z</dcterms:modified>
  <cp:revision>31</cp:revision>
  <dc:subject/>
  <dc:title>Слайд 1</dc:title>
</cp:coreProperties>
</file>