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46B-D732-42A0-99DC-68918994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3CE-352F-4CD6-86F9-0D800AE5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F04-06D9-4991-B081-5C541E85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F29-CF53-4FD0-9706-189E2181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425C-2118-42D6-AA13-0529C609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0736-95B8-46A3-98AB-5A3DB2D8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B8C3-56CF-4329-9B0F-D86B13E9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1612-CA3B-461E-9CE2-15B18804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A071-5530-4055-8495-25654948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325F-95D2-4045-BAFA-7267BECC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C665-EF1E-42D0-8FB8-FB34043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735-E387-49DE-9180-DEA24B9D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8E3-A800-4F5A-A4EB-53660F19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A2DC-2FFF-4DB9-AC72-4447F818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7B12-F5F4-482D-A6E1-162B24D3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E39A-4B79-41AE-B67A-D7219EA1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F1A5-3F76-4F3C-834F-8031D157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47B-B73D-431A-80F2-93E474A3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E65-9A8E-465A-BB13-B2E73550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5D2-C921-49D0-91F1-EB521425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8CA-7F58-4048-930B-833D30D5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895-C614-4F32-A65E-E68A16ED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C91-1389-48CE-827D-101DE4D9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2F6-123A-44B4-B15A-4B5F04B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6D9-5FE7-4E10-B20F-E078B4D2FD51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9639-3129-4DA8-ABF9-E03AF87B6B16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6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00720" y="4005000"/>
            <a:ext cx="4319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зентацию подготовил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саева Е.П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БОУ «СОШ №62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.  Владивосто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7" descr="http://www.detskiysad.ru/art/big/surikov/surikov02.jpg"/>
          <p:cNvPicPr/>
          <p:nvPr/>
        </p:nvPicPr>
        <p:blipFill>
          <a:blip r:embed="rId2"/>
          <a:stretch/>
        </p:blipFill>
        <p:spPr>
          <a:xfrm>
            <a:off x="569880" y="1600200"/>
            <a:ext cx="381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ажите строками из стихотворения, что такими чертами обладал поэт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Подвижный</a:t>
            </a:r>
            <a:r>
              <a:rPr b="0" lang="ru-RU" sz="2800" spc="-1" strike="noStrike">
                <a:solidFill>
                  <a:srgbClr val="75652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Вынослив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Любозна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Впечатли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7" descr="i?id=366359777-05-72"/>
          <p:cNvPicPr/>
          <p:nvPr/>
        </p:nvPicPr>
        <p:blipFill>
          <a:blip r:embed="rId2"/>
          <a:stretch/>
        </p:blipFill>
        <p:spPr>
          <a:xfrm>
            <a:off x="5805360" y="2708280"/>
            <a:ext cx="2976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778960" cy="171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ртинка 28 из 69"/>
          <p:cNvPicPr/>
          <p:nvPr/>
        </p:nvPicPr>
        <p:blipFill>
          <a:blip r:embed="rId2"/>
          <a:stretch/>
        </p:blipFill>
        <p:spPr>
          <a:xfrm>
            <a:off x="971640" y="1773360"/>
            <a:ext cx="698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84240" y="105264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408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Дописать предложение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6525"/>
                </a:solidFill>
                <a:latin typeface="Times New Roman"/>
              </a:rPr>
              <a:t>Сравнение – это </a:t>
            </a:r>
            <a:r>
              <a:rPr b="0" lang="ru-RU" sz="4000" spc="-1" strike="noStrike">
                <a:solidFill>
                  <a:srgbClr val="756525"/>
                </a:solidFill>
                <a:latin typeface="Times New Roman"/>
              </a:rPr>
              <a:t>…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Привести примеры сравнения из стихотворения И. Сурикова «Детство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Дописать сравнен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6525"/>
                </a:solidFill>
                <a:latin typeface="Times New Roman"/>
              </a:rPr>
              <a:t>снег, как…;  детство, будто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140000" y="2133720"/>
            <a:ext cx="4824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Иван Захарович Суриков 6 апреля 1841 года в глухой деревне Новосёлово Ярославской губернии в семье крепостного крестьян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Ivan surikov.jpg"/>
          <p:cNvPicPr/>
          <p:nvPr/>
        </p:nvPicPr>
        <p:blipFill>
          <a:blip r:embed="rId2"/>
          <a:stretch/>
        </p:blipFill>
        <p:spPr>
          <a:xfrm>
            <a:off x="539640" y="1989000"/>
            <a:ext cx="356580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50920" y="5084640"/>
            <a:ext cx="8559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восемь лет мальчик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везли в школу в Москв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м отец завёл небольшую лавку. Иван Суриков самостоятельн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лся грамоте и первые стих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чал писать под впечатлением о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читанных стихов  Александ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геевича Пушк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http://to-world-travel.ru/img/2015/042616/0926152"/>
          <p:cNvPicPr/>
          <p:nvPr/>
        </p:nvPicPr>
        <p:blipFill>
          <a:blip r:embed="rId1"/>
          <a:stretch/>
        </p:blipFill>
        <p:spPr>
          <a:xfrm>
            <a:off x="324000" y="692280"/>
            <a:ext cx="4535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62 году И.З. Суриков познакомился с Плещеевым, который оценил талант поэта- самоучки и помог опубликовать стихи в печа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ие стихи поэта посвящены русской природе и детям: «Утро», «Детство», «В ночном», «Зима». А некоторые стихи стали народными песнями, среди которых особенно популярны «Рябина», «Степь да степь круг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564000" y="260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Картинка 49 из 69"/>
          <p:cNvPicPr/>
          <p:nvPr/>
        </p:nvPicPr>
        <p:blipFill>
          <a:blip r:embed="rId1"/>
          <a:stretch/>
        </p:blipFill>
        <p:spPr>
          <a:xfrm>
            <a:off x="6488280" y="501480"/>
            <a:ext cx="1904760" cy="2505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Картинка 44 из 69"/>
          <p:cNvPicPr/>
          <p:nvPr/>
        </p:nvPicPr>
        <p:blipFill>
          <a:blip r:embed="rId2"/>
          <a:stretch/>
        </p:blipFill>
        <p:spPr>
          <a:xfrm rot="450000">
            <a:off x="3649320" y="453960"/>
            <a:ext cx="1905120" cy="26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Картинка 20 из 69"/>
          <p:cNvPicPr/>
          <p:nvPr/>
        </p:nvPicPr>
        <p:blipFill>
          <a:blip r:embed="rId3"/>
          <a:stretch/>
        </p:blipFill>
        <p:spPr>
          <a:xfrm>
            <a:off x="5940360" y="3419640"/>
            <a:ext cx="1841400" cy="24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826920" y="3419640"/>
            <a:ext cx="1873440" cy="250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5"/>
          <a:stretch/>
        </p:blipFill>
        <p:spPr>
          <a:xfrm>
            <a:off x="539640" y="501480"/>
            <a:ext cx="1805040" cy="25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6"/>
          <a:stretch/>
        </p:blipFill>
        <p:spPr>
          <a:xfrm>
            <a:off x="3419640" y="3419640"/>
            <a:ext cx="18730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ушайте стихотворение и ответьте на вопро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287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период жизни человека описа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.З. Суриковы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т чьего имени ведётся повествова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Что говорит автор о своём детств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Похожи ли  забавы крестьянских детей на ваш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Прочитайте строчки, в которых представле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ртина: семья зимним вече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Найдите строки, которые говорят о большой любви мальчика к сказ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Ветхий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разрушающийся от  старости, дряхлый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Лапти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крестьянская обувь, сплетённая из лыка 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Омрачали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сделать мрачным, темным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Светец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способление для укрепления горящей лучины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52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6525"/>
                </a:solidFill>
                <a:latin typeface="Times New Roman"/>
              </a:rPr>
              <a:t>Сравнение -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илистический приём, уподобление одного явления другому, подчёркивающие их общий признак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дите в тексте срав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6:31:13Z</dcterms:created>
  <dc:creator>Admin</dc:creator>
  <dc:description/>
  <dc:language>en-US</dc:language>
  <cp:lastModifiedBy>админ</cp:lastModifiedBy>
  <dcterms:modified xsi:type="dcterms:W3CDTF">2015-10-17T09:36:03Z</dcterms:modified>
  <cp:revision>26</cp:revision>
  <dc:subject/>
  <dc:title>Иван Захарович Суриков «Детство»</dc:title>
</cp:coreProperties>
</file>