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785-A9DD-44D2-846D-6754F045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4C9-89B5-4596-A623-7587C690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F38-CFFB-4F7B-9DEE-8E3C63F2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FF0-7C23-49ED-8FA0-F02CC1FC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BEEE-F456-48F2-B37C-DDA856ED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A2DE-3258-4AC4-9FFF-75CCC275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AB82-FFB6-4D12-90E3-9CF6D491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D8AD-05E8-44C7-962C-54C3B775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DCAE-B2DC-42A3-B527-3B4266C7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684D-629C-46FF-A910-3107E3E5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CD4D-F90D-4805-AC9D-14557C16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2DD-463D-4D00-8C45-5BAA9EE8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FC89-368E-4B91-94BA-BB774939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0A19-B9BE-4C2D-8A4E-D2687190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B99E-F3C5-4872-B815-036B676C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4F0F-061E-4BEE-85BA-83E4F03F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7F53-BC1D-4B0D-83D8-C5F2BB68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814-C1C4-4027-A8CD-9F643081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1BD0-662B-42BA-B037-21864ED3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893-DD23-4D76-A561-FE6E0033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8CC-08BF-4BEF-BD6A-876A965C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F72-5B03-4A84-AC49-836E5D14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494-B338-4C4C-978C-ACAC0114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EA0-2BE3-472C-890B-3DA1971A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D318-ACBF-44D8-8976-AED630C8C268}" type="slidenum">
              <a:rPr b="0" lang="ru-RU" sz="1200" spc="-1" strike="noStrike">
                <a:solidFill>
                  <a:srgbClr val="bcbcb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C01C-71E9-4DEB-90C4-474243F6760C}" type="slidenum">
              <a:rPr b="0" lang="ru-RU" sz="1200" spc="-1" strike="noStrike">
                <a:solidFill>
                  <a:srgbClr val="bcbcb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663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00720" y="4005000"/>
            <a:ext cx="431928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езентацию подготовил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саева Е.П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БОУ «СОШ №62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.  Владивосто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7" descr="http://www.detskiysad.ru/art/big/surikov/surikov02.jpg"/>
          <p:cNvPicPr/>
          <p:nvPr/>
        </p:nvPicPr>
        <p:blipFill>
          <a:blip r:embed="rId2"/>
          <a:stretch/>
        </p:blipFill>
        <p:spPr>
          <a:xfrm>
            <a:off x="569880" y="1600200"/>
            <a:ext cx="3813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ажите строками из стихотворения, что такими чертами обладал поэт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56525"/>
                </a:solidFill>
                <a:latin typeface="Times New Roman"/>
              </a:rPr>
              <a:t>Подвижный</a:t>
            </a:r>
            <a:r>
              <a:rPr b="0" lang="ru-RU" sz="2800" spc="-1" strike="noStrike">
                <a:solidFill>
                  <a:srgbClr val="75652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56525"/>
                </a:solidFill>
                <a:latin typeface="Times New Roman"/>
              </a:rPr>
              <a:t>Вынослив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56525"/>
                </a:solidFill>
                <a:latin typeface="Times New Roman"/>
              </a:rPr>
              <a:t>Любознатель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56525"/>
                </a:solidFill>
                <a:latin typeface="Times New Roman"/>
              </a:rPr>
              <a:t>Впечатлитель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7" descr="i?id=366359777-05-72"/>
          <p:cNvPicPr/>
          <p:nvPr/>
        </p:nvPicPr>
        <p:blipFill>
          <a:blip r:embed="rId2"/>
          <a:stretch/>
        </p:blipFill>
        <p:spPr>
          <a:xfrm>
            <a:off x="5805360" y="2708280"/>
            <a:ext cx="2976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8778960" cy="1712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Картинка 28 из 69"/>
          <p:cNvPicPr/>
          <p:nvPr/>
        </p:nvPicPr>
        <p:blipFill>
          <a:blip r:embed="rId2"/>
          <a:stretch/>
        </p:blipFill>
        <p:spPr>
          <a:xfrm>
            <a:off x="971640" y="1773360"/>
            <a:ext cx="6985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84240" y="1052640"/>
            <a:ext cx="7201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40872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5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 Дописать предложение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6525"/>
                </a:solidFill>
                <a:latin typeface="Times New Roman"/>
              </a:rPr>
              <a:t>Сравнение – это </a:t>
            </a:r>
            <a:r>
              <a:rPr b="0" lang="ru-RU" sz="4000" spc="-1" strike="noStrike">
                <a:solidFill>
                  <a:srgbClr val="756525"/>
                </a:solidFill>
                <a:latin typeface="Times New Roman"/>
              </a:rPr>
              <a:t>…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. Привести примеры сравнения из стихотворения И. Сурикова «Детство»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. Дописать сравнения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6525"/>
                </a:solidFill>
                <a:latin typeface="Times New Roman"/>
              </a:rPr>
              <a:t>снег, как…;  детство, будто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140000" y="2133720"/>
            <a:ext cx="48243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лся Иван Захарович Суриков 6 апреля 1841 года в глухой деревне Новосёлово Ярославской губернии в семье крепостного крестьян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5" descr="Ivan surikov.jpg"/>
          <p:cNvPicPr/>
          <p:nvPr/>
        </p:nvPicPr>
        <p:blipFill>
          <a:blip r:embed="rId2"/>
          <a:stretch/>
        </p:blipFill>
        <p:spPr>
          <a:xfrm>
            <a:off x="539640" y="1989000"/>
            <a:ext cx="3565800" cy="43196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50920" y="5084640"/>
            <a:ext cx="8559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восемь лет мальчик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везли в школу в Москву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м отец завёл небольшую лавку. Иван Суриков самостоятельн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лся грамоте и первые стих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чал писать под впечатлением о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читанных стихов  Александ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ргеевича Пушки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" descr="http://to-world-travel.ru/img/2015/042616/0926152"/>
          <p:cNvPicPr/>
          <p:nvPr/>
        </p:nvPicPr>
        <p:blipFill>
          <a:blip r:embed="rId1"/>
          <a:stretch/>
        </p:blipFill>
        <p:spPr>
          <a:xfrm>
            <a:off x="324000" y="692280"/>
            <a:ext cx="4535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862 году И.З. Суриков познакомился с Плещеевым, который оценил талант поэта- самоучки и помог опубликовать стихи в печат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ногие стихи поэта посвящены русской природе и детям: «Утро», «Детство», «В ночном», «Зима». А некоторые стихи стали народными песнями, среди которых особенно популярны «Рябина», «Степь да степь кругом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564000" y="2602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Картинка 49 из 69"/>
          <p:cNvPicPr/>
          <p:nvPr/>
        </p:nvPicPr>
        <p:blipFill>
          <a:blip r:embed="rId1"/>
          <a:stretch/>
        </p:blipFill>
        <p:spPr>
          <a:xfrm>
            <a:off x="6488280" y="501480"/>
            <a:ext cx="1904760" cy="2505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Картинка 44 из 69"/>
          <p:cNvPicPr/>
          <p:nvPr/>
        </p:nvPicPr>
        <p:blipFill>
          <a:blip r:embed="rId2"/>
          <a:stretch/>
        </p:blipFill>
        <p:spPr>
          <a:xfrm rot="450000">
            <a:off x="3649320" y="453960"/>
            <a:ext cx="1905120" cy="260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Картинка 20 из 69"/>
          <p:cNvPicPr/>
          <p:nvPr/>
        </p:nvPicPr>
        <p:blipFill>
          <a:blip r:embed="rId3"/>
          <a:stretch/>
        </p:blipFill>
        <p:spPr>
          <a:xfrm>
            <a:off x="5940360" y="3419640"/>
            <a:ext cx="1841400" cy="244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tretch/>
        </p:blipFill>
        <p:spPr>
          <a:xfrm>
            <a:off x="826920" y="3419640"/>
            <a:ext cx="1873440" cy="2503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5"/>
          <a:stretch/>
        </p:blipFill>
        <p:spPr>
          <a:xfrm>
            <a:off x="539640" y="501480"/>
            <a:ext cx="1805040" cy="250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6"/>
          <a:stretch/>
        </p:blipFill>
        <p:spPr>
          <a:xfrm>
            <a:off x="3419640" y="3419640"/>
            <a:ext cx="18730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ушайте стихотворение и ответьте на вопрос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2916360" y="2781360"/>
            <a:ext cx="2879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й период жизни человека описа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.З. Суриковы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От чьего имени ведётся повествован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Что говорит автор о своём детств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Похожи ли  забавы крестьянских детей на ваш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Прочитайте строчки, в которых представле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ртина: семья зимним вече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Найдите строки, которые говорят о большой любви мальчика к сказк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350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56525"/>
                </a:solidFill>
                <a:latin typeface="Times New Roman"/>
              </a:rPr>
              <a:t>Ветхий</a:t>
            </a:r>
            <a:r>
              <a:rPr b="0" i="1" lang="ru-RU" sz="25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разрушающийся от  старости, дряхлый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56525"/>
                </a:solidFill>
                <a:latin typeface="Times New Roman"/>
              </a:rPr>
              <a:t>Лапти</a:t>
            </a:r>
            <a:r>
              <a:rPr b="0" i="1" lang="ru-RU" sz="25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крестьянская обувь, сплетённая из лыка 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56525"/>
                </a:solidFill>
                <a:latin typeface="Times New Roman"/>
              </a:rPr>
              <a:t>Омрачали</a:t>
            </a:r>
            <a:r>
              <a:rPr b="0" i="1" lang="ru-RU" sz="25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сделать мрачным, темным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56525"/>
                </a:solidFill>
                <a:latin typeface="Times New Roman"/>
              </a:rPr>
              <a:t>Светец</a:t>
            </a:r>
            <a:r>
              <a:rPr b="0" i="1" lang="ru-RU" sz="25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приспособление для укрепления горящей лучины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3529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6525"/>
                </a:solidFill>
                <a:latin typeface="Times New Roman"/>
              </a:rPr>
              <a:t>Сравнение -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тилистический приём, уподобление одного явления другому, подчёркивающие их общий признак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йдите в тексте сравн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6:31:13Z</dcterms:created>
  <dc:creator>Admin</dc:creator>
  <dc:description/>
  <dc:language>en-US</dc:language>
  <cp:lastModifiedBy>админ</cp:lastModifiedBy>
  <dcterms:modified xsi:type="dcterms:W3CDTF">2015-10-17T09:36:03Z</dcterms:modified>
  <cp:revision>26</cp:revision>
  <dc:subject/>
  <dc:title>Иван Захарович Суриков «Детство»</dc:title>
</cp:coreProperties>
</file>