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A0B-C7DD-4323-AF05-CE65A083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AF4-C70E-499A-8257-8865279B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F95-0D04-4C7F-8E80-875D881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B39-6CFC-4A24-8F45-E582B6EF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3788-CE3E-42FF-A4CE-E1BD5F12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F19B-5894-4676-9D25-AA6FF38F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73A-2113-499A-B6B3-0B8E3F7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F20-5686-4E0D-B6F6-DE9DCF9F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9403-C5A6-4036-AB7B-43377293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014-0583-4351-A13F-0E360F05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E002-AADC-4087-85B7-005C781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F99-BA1C-44F5-80F2-4B12E40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A36E-B39F-45ED-9CBB-B9AA621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D1DD-AF0A-4498-BDA2-CBAFA6E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F32-BBE5-4545-B492-C2BB1F58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CA29-7D44-42C4-91EC-6B5727D1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F6F-07CC-4957-9211-2B323C34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660-03DE-4B2C-8D4A-4038DD8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AE9-7E6C-4BAC-8093-21DC3A6A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07F-DC56-4F61-9E3F-5AD3BBB2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FA1-04EC-4444-8312-802D2E0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B41-E85C-4DA1-BD51-78AD28A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5CC-F728-41B3-8B5E-26814ED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1E8-B21C-4AA2-BD8E-5D699AB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480-E77F-4046-9E57-41D99C96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B8F6-3F68-4912-90B8-CE698925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-lepota.narod.ru/images/4b0fba7ac9287_20091127.jpg" TargetMode="External"/><Relationship Id="rId2" Type="http://schemas.openxmlformats.org/officeDocument/2006/relationships/hyperlink" Target="http://a-lepota.narod.ru/images/4b0fba7ac9287_20091127.jpg" TargetMode="External"/><Relationship Id="rId3" Type="http://schemas.openxmlformats.org/officeDocument/2006/relationships/hyperlink" Target="http://a-lepota.narod.ru/images/4b0fba7ac9287_20091127.jpg" TargetMode="External"/><Relationship Id="rId4" Type="http://schemas.openxmlformats.org/officeDocument/2006/relationships/hyperlink" Target="http://a-lepota.narod.ru/images/4b0fba7ac9287_20091127.jpg" TargetMode="External"/><Relationship Id="rId5" Type="http://schemas.openxmlformats.org/officeDocument/2006/relationships/hyperlink" Target="http://a-lepota.narod.ru/images/4b0fba7ac9287_20091127.jpg" TargetMode="External"/><Relationship Id="rId6" Type="http://schemas.openxmlformats.org/officeDocument/2006/relationships/hyperlink" Target="http://a-lepota.narod.ru/images/4b0fba7ac9287_20091127.jpg" TargetMode="External"/><Relationship Id="rId7" Type="http://schemas.openxmlformats.org/officeDocument/2006/relationships/hyperlink" Target="http://multiki.arjlover.net/multiki" TargetMode="External"/><Relationship Id="rId8" Type="http://schemas.openxmlformats.org/officeDocument/2006/relationships/hyperlink" Target="http://multiki.arjlover.net/multiki" TargetMode="External"/><Relationship Id="rId9" Type="http://schemas.openxmlformats.org/officeDocument/2006/relationships/hyperlink" Target="http://multiki.arjlover.net/multiki" TargetMode="External"/><Relationship Id="rId10" Type="http://schemas.openxmlformats.org/officeDocument/2006/relationships/hyperlink" Target="http://multiki.arjlover.net/multiki" TargetMode="External"/><Relationship Id="rId11" Type="http://schemas.openxmlformats.org/officeDocument/2006/relationships/hyperlink" Target="http://multiki.arjlover.net/multiki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63640" y="90792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класс. Обществозн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«Семья и брак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45086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онов Константин Владимирович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обществозн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Любохонская средняя общеобразовательная школа имени А. А. Головаче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ятьковского района Брянской об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11280" y="2043720"/>
            <a:ext cx="813744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куленко В.А., Уколова И.Е., Королькова Е.С. Методическое пособие по интерактивным методам преподавания права в школе. 2-е издание – М.: Издательский дом «Новый учебник»,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ultantPlu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поисково-правовая система). Семейный кодекс Р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именко А.В. Обществознание: для школьников старших классов и поступающих в вузы: учебное пособие – 2-е издание, стереотип – М.: Дрофа,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ствознание. 10-11 классы: уроки учительского мастерства. Составитель Корнева Т.А. – Волгоград: Учитель,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лимпиадные задания по обществознанию. 9-11 классы. Автор-составитель Степанько С.Н. – Волгоград: Учитель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вцова Е.А. Поурочные методические разработки к учебнику Кравченко А.И. «Обществознание. 11 класс». – 3-е издание – М.: ООО «ТИД «Русское слово – РС»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1040" y="527040"/>
            <a:ext cx="7652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3"/>
              </a:rPr>
              <a:t>a-lepota.narod.ru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5"/>
              </a:rPr>
              <a:t>images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6"/>
              </a:rPr>
              <a:t>/4b0fba7ac9287_20091127.j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846360" y="1197000"/>
            <a:ext cx="4171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9"/>
              </a:rPr>
              <a:t>multiki.arjlover.net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5454c6"/>
                </a:solidFill>
                <a:uFillTx/>
                <a:latin typeface="Tahoma"/>
                <a:hlinkClick r:id="rId11"/>
              </a:rPr>
              <a:t>multik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79640" y="189000"/>
            <a:ext cx="53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6a6f8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Сказка о царе Салтане</a:t>
            </a:r>
            <a:endParaRPr b="1" lang="en-US" sz="1800" spc="1" strike="noStrike">
              <a:ln w="31680">
                <a:solidFill>
                  <a:srgbClr val="3333cc"/>
                </a:solidFill>
                <a:miter/>
              </a:ln>
              <a:solidFill>
                <a:srgbClr val="6a6f8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2025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71640" y="69228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6a6f8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СЕМЬЯ И БРАК</a:t>
            </a:r>
            <a:endParaRPr b="1" lang="en-US" sz="1800" spc="1" strike="noStrike">
              <a:ln w="31680">
                <a:solidFill>
                  <a:srgbClr val="3333cc"/>
                </a:solidFill>
                <a:miter/>
              </a:ln>
              <a:solidFill>
                <a:srgbClr val="6a6f8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632560" y="178740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848200" y="1860480"/>
            <a:ext cx="28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0080" y="22050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определить социальные и правовые аспекты семьи и бр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14172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Задачи:</a:t>
            </a: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Разобраться в классификации типов семейных структ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2. Выяснить условия заключения и прекращения бра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определить личные и имущественные права и обязанности супруг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3.  Упорядочить знания в области прав и обязанностей родителей и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11280" y="5300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a6f8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848200" y="1860480"/>
            <a:ext cx="28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-56880" y="3860640"/>
            <a:ext cx="66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Семья и её фун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Типы семейных структ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Правовые основы заключения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расторжения бр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4. Личные и имущественные пра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и обязанности супруг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ahoma"/>
              </a:rPr>
              <a:t>5. Права и обязанности родителей и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43960" y="256536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ahoma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404640"/>
            <a:ext cx="5977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3466"/>
                </a:solidFill>
                <a:latin typeface="Monotype Corsiva"/>
              </a:rPr>
              <a:t>Счастлив тот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3466"/>
                </a:solidFill>
                <a:latin typeface="Monotype Corsiva"/>
              </a:rPr>
              <a:t>кто счастлив у себя до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ahoma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4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76720" y="549360"/>
            <a:ext cx="55148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 - основанная на браке или кровном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стве  группа  людей,  члены   которой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язаны   общностью    быта,  взаимной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щью, моральной и правовой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ственностью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4479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708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714480" y="2363760"/>
            <a:ext cx="3515040" cy="1143000"/>
            <a:chOff x="3714480" y="2363760"/>
            <a:chExt cx="3515040" cy="1143000"/>
          </a:xfrm>
        </p:grpSpPr>
        <p:cxnSp>
          <p:nvCxnSpPr>
            <p:cNvPr id="172" name="_s3687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825520" y="2466000"/>
              <a:ext cx="229320" cy="93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36873"/>
            <p:cNvCxnSpPr>
              <a:stCxn id="176" idx="0"/>
              <a:endCxn id="174" idx="2"/>
            </p:cNvCxnSpPr>
            <p:nvPr/>
          </p:nvCxnSpPr>
          <p:spPr>
            <a:xfrm flipH="1" flipV="1" rot="5400000">
              <a:off x="4889880" y="2467080"/>
              <a:ext cx="229320" cy="9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36874"/>
            <p:cNvSpPr/>
            <p:nvPr/>
          </p:nvSpPr>
          <p:spPr>
            <a:xfrm>
              <a:off x="4479840" y="2363760"/>
              <a:ext cx="198432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Что дает семь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36875"/>
            <p:cNvSpPr/>
            <p:nvPr/>
          </p:nvSpPr>
          <p:spPr>
            <a:xfrm>
              <a:off x="3714480" y="3049560"/>
              <a:ext cx="164340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человек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_s36876"/>
            <p:cNvSpPr/>
            <p:nvPr/>
          </p:nvSpPr>
          <p:spPr>
            <a:xfrm>
              <a:off x="5586480" y="3049560"/>
              <a:ext cx="1643040" cy="4572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92929"/>
                  </a:solidFill>
                  <a:uFillTx/>
                  <a:latin typeface="Arial"/>
                </a:rPr>
                <a:t>государств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484360" y="3860640"/>
            <a:ext cx="280836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родолжение 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4365720"/>
            <a:ext cx="2879640" cy="35856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жизненный опы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4941720"/>
            <a:ext cx="2879640" cy="28764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ащиту, душевное теп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5445000"/>
            <a:ext cx="287964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оддерж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5877000"/>
            <a:ext cx="2879640" cy="28872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тату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3860640"/>
            <a:ext cx="273528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437000"/>
            <a:ext cx="2735280" cy="2872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ащи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5013360"/>
            <a:ext cx="2735280" cy="2872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5516640"/>
            <a:ext cx="2808360" cy="36036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логоплательщ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6308640"/>
            <a:ext cx="2879640" cy="289080"/>
          </a:xfrm>
          <a:prstGeom prst="rect">
            <a:avLst/>
          </a:pr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осстано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8000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866520" y="21960"/>
            <a:ext cx="7342560" cy="6627600"/>
            <a:chOff x="866520" y="21960"/>
            <a:chExt cx="7342560" cy="6627600"/>
          </a:xfrm>
        </p:grpSpPr>
        <p:sp>
          <p:nvSpPr>
            <p:cNvPr id="189" name="_s60450"/>
            <p:cNvSpPr/>
            <p:nvPr/>
          </p:nvSpPr>
          <p:spPr>
            <a:xfrm flipH="1" flipV="1">
              <a:off x="3072600" y="2386440"/>
              <a:ext cx="73872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0449"/>
            <p:cNvSpPr/>
            <p:nvPr/>
          </p:nvSpPr>
          <p:spPr>
            <a:xfrm>
              <a:off x="1409400" y="99036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93ae0"/>
                </a:gs>
                <a:gs pos="50000">
                  <a:srgbClr val="f1f0f4"/>
                </a:gs>
                <a:gs pos="100000">
                  <a:srgbClr val="693ae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однокарье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двухкарье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0448"/>
            <p:cNvSpPr/>
            <p:nvPr/>
          </p:nvSpPr>
          <p:spPr>
            <a:xfrm flipH="1">
              <a:off x="2711520" y="3651120"/>
              <a:ext cx="92088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60447"/>
            <p:cNvSpPr/>
            <p:nvPr/>
          </p:nvSpPr>
          <p:spPr>
            <a:xfrm>
              <a:off x="866520" y="317736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93ae0"/>
                </a:gs>
                <a:gs pos="50000">
                  <a:srgbClr val="f1f0f4"/>
                </a:gs>
                <a:gs pos="100000">
                  <a:srgbClr val="693ae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многодетна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среднедетна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малодет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0421"/>
            <p:cNvSpPr/>
            <p:nvPr/>
          </p:nvSpPr>
          <p:spPr>
            <a:xfrm flipH="1">
              <a:off x="3724200" y="4230720"/>
              <a:ext cx="408600" cy="78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60422"/>
            <p:cNvSpPr/>
            <p:nvPr/>
          </p:nvSpPr>
          <p:spPr>
            <a:xfrm>
              <a:off x="2386440" y="493164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уклеар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сшир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0423"/>
            <p:cNvSpPr/>
            <p:nvPr/>
          </p:nvSpPr>
          <p:spPr>
            <a:xfrm>
              <a:off x="4939560" y="4230720"/>
              <a:ext cx="408600" cy="78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60424"/>
            <p:cNvSpPr/>
            <p:nvPr/>
          </p:nvSpPr>
          <p:spPr>
            <a:xfrm>
              <a:off x="4824720" y="493164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етерог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моген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0425"/>
            <p:cNvSpPr/>
            <p:nvPr/>
          </p:nvSpPr>
          <p:spPr>
            <a:xfrm>
              <a:off x="5443560" y="3651120"/>
              <a:ext cx="91764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0426"/>
            <p:cNvSpPr/>
            <p:nvPr/>
          </p:nvSpPr>
          <p:spPr>
            <a:xfrm>
              <a:off x="6341760" y="3177360"/>
              <a:ext cx="186732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атриарх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триарх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60427"/>
            <p:cNvSpPr/>
            <p:nvPr/>
          </p:nvSpPr>
          <p:spPr>
            <a:xfrm flipV="1">
              <a:off x="5264640" y="2386440"/>
              <a:ext cx="73548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0428"/>
            <p:cNvSpPr/>
            <p:nvPr/>
          </p:nvSpPr>
          <p:spPr>
            <a:xfrm>
              <a:off x="5798880" y="99288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атрилине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трилинеальн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60429"/>
            <p:cNvSpPr/>
            <p:nvPr/>
          </p:nvSpPr>
          <p:spPr>
            <a:xfrm flipV="1">
              <a:off x="4536360" y="1737000"/>
              <a:ext cx="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60430"/>
            <p:cNvSpPr/>
            <p:nvPr/>
          </p:nvSpPr>
          <p:spPr>
            <a:xfrm>
              <a:off x="3604680" y="2196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ногам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игам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игиния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иандрия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60431"/>
            <p:cNvSpPr/>
            <p:nvPr/>
          </p:nvSpPr>
          <p:spPr>
            <a:xfrm>
              <a:off x="3604680" y="2605680"/>
              <a:ext cx="1866600" cy="1717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708000" y="2955600"/>
              <a:ext cx="1654200" cy="108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типы 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семейных 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1680">
                    <a:solidFill>
                      <a:srgbClr val="3333cc"/>
                    </a:solidFill>
                    <a:miter/>
                  </a:ln>
                  <a:solidFill>
                    <a:srgbClr val="292929">
                      <a:alpha val="50000"/>
                    </a:srgbClr>
                  </a:solidFill>
                  <a:latin typeface="Book Antiqua"/>
                </a:rPr>
                <a:t>структур</a:t>
              </a:r>
              <a:endParaRPr b="1" lang="en-US" sz="1800" spc="1" strike="noStrike">
                <a:ln w="31680">
                  <a:solidFill>
                    <a:srgbClr val="3333cc"/>
                  </a:solidFill>
                  <a:miter/>
                </a:ln>
                <a:solidFill>
                  <a:srgbClr val="292929">
                    <a:alpha val="50000"/>
                  </a:srgbClr>
                </a:solidFill>
                <a:latin typeface="Book Antiqua"/>
                <a:ea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8920" y="333360"/>
            <a:ext cx="6697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Вступление в бр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1640" y="1412640"/>
            <a:ext cx="40402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Взаимное добровольное соглас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Достижение брачного возра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Содержимое 9"/>
          <p:cNvSpPr/>
          <p:nvPr/>
        </p:nvSpPr>
        <p:spPr>
          <a:xfrm>
            <a:off x="900000" y="3213000"/>
            <a:ext cx="46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Наличие бр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Близкое р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Усыновление или удоче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Психическая болезнь, недееспособ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5805360"/>
            <a:ext cx="9144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Брак может быть признан недействите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если  был факт сокрытия венерического заболевания или СПИДа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1413000"/>
            <a:ext cx="3168720" cy="863640"/>
            <a:chOff x="611280" y="1413000"/>
            <a:chExt cx="3168720" cy="863640"/>
          </a:xfrm>
        </p:grpSpPr>
        <p:sp>
          <p:nvSpPr>
            <p:cNvPr id="210" name=""/>
            <p:cNvSpPr/>
            <p:nvPr/>
          </p:nvSpPr>
          <p:spPr>
            <a:xfrm>
              <a:off x="611280" y="1413000"/>
              <a:ext cx="3168720" cy="86364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442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920" y="1557360"/>
              <a:ext cx="223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900000" y="1628640"/>
              <a:ext cx="2159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позитивные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условия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42920" y="1773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76720" y="3933720"/>
            <a:ext cx="2951280" cy="865080"/>
            <a:chOff x="5076720" y="3933720"/>
            <a:chExt cx="2951280" cy="865080"/>
          </a:xfrm>
        </p:grpSpPr>
        <p:sp>
          <p:nvSpPr>
            <p:cNvPr id="215" name=""/>
            <p:cNvSpPr/>
            <p:nvPr/>
          </p:nvSpPr>
          <p:spPr>
            <a:xfrm flipH="1">
              <a:off x="5076720" y="3933720"/>
              <a:ext cx="2951280" cy="865080"/>
            </a:xfrm>
            <a:custGeom>
              <a:avLst/>
              <a:gdLst>
                <a:gd name="textAreaLeft" fmla="*/ 360 w 2951280"/>
                <a:gd name="textAreaRight" fmla="*/ 2952000 w 295128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1e09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724360" y="4151160"/>
              <a:ext cx="215892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негативные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292929"/>
                  </a:solidFill>
                  <a:latin typeface="Arial"/>
                </a:rPr>
                <a:t>условия</a:t>
              </a:r>
              <a:endParaRPr b="1" lang="en-US" sz="1800" spc="1" strike="noStrike">
                <a:ln w="0">
                  <a:noFill/>
                </a:ln>
                <a:solidFill>
                  <a:srgbClr val="29292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48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4480" y="33336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099f"/>
                </a:solidFill>
                <a:latin typeface="Tahoma"/>
              </a:rPr>
              <a:t>Законный режим имущества супру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51480" y="92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755120" y="2492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7. Дох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31240" y="227664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6. Пен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170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4. Пособ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380760" y="90792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. Вещи индивидуального поль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566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1. Приобретенное за счет общих доходов движимое и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5445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0. Ценные бум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6886080" y="19162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5. Па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152240" y="1413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2. Подар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87520" y="1413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3. Насле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895200" y="602136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2. Драгоц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 предметы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0920" y="1268280"/>
            <a:ext cx="4174920" cy="3959280"/>
            <a:chOff x="250920" y="1268280"/>
            <a:chExt cx="4174920" cy="3959280"/>
          </a:xfrm>
        </p:grpSpPr>
        <p:sp>
          <p:nvSpPr>
            <p:cNvPr id="230" name=""/>
            <p:cNvSpPr/>
            <p:nvPr/>
          </p:nvSpPr>
          <p:spPr>
            <a:xfrm>
              <a:off x="250920" y="1268280"/>
              <a:ext cx="4174920" cy="3959280"/>
            </a:xfrm>
            <a:prstGeom prst="ellipse">
              <a:avLst/>
            </a:prstGeom>
            <a:noFill/>
            <a:ln w="38160">
              <a:solidFill>
                <a:srgbClr val="693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971280" y="1771560"/>
              <a:ext cx="273492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7244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вместная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бственность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0" y="2421000"/>
            <a:ext cx="4175280" cy="3959280"/>
            <a:chOff x="4572000" y="2421000"/>
            <a:chExt cx="4175280" cy="3959280"/>
          </a:xfrm>
        </p:grpSpPr>
        <p:sp>
          <p:nvSpPr>
            <p:cNvPr id="233" name=""/>
            <p:cNvSpPr/>
            <p:nvPr/>
          </p:nvSpPr>
          <p:spPr>
            <a:xfrm>
              <a:off x="4572000" y="2421000"/>
              <a:ext cx="4175280" cy="3959280"/>
            </a:xfrm>
            <a:prstGeom prst="ellipse">
              <a:avLst/>
            </a:prstGeom>
            <a:noFill/>
            <a:ln w="38160">
              <a:solidFill>
                <a:srgbClr val="693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508720" y="3068640"/>
              <a:ext cx="2374920" cy="71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527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собственность 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каждого 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693ae0"/>
                    </a:solidFill>
                    <a:miter/>
                  </a:ln>
                  <a:solidFill>
                    <a:srgbClr val="333333">
                      <a:alpha val="50000"/>
                    </a:srgbClr>
                  </a:solidFill>
                  <a:latin typeface="Arial"/>
                </a:rPr>
                <a:t>из супругов</a:t>
              </a:r>
              <a:endParaRPr b="1" lang="en-US" sz="1800" spc="1" strike="noStrike">
                <a:ln w="12600">
                  <a:solidFill>
                    <a:srgbClr val="693ae0"/>
                  </a:solidFill>
                  <a:miter/>
                </a:ln>
                <a:solidFill>
                  <a:srgbClr val="333333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44440" y="472428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9. Имуще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обретенное до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76748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Вещи индивидуа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оль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75880" y="4005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2. Подар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878080" y="436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3. Насле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227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4. Пособ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988640" y="2276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5. Па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71960" y="270828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6. Пен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849680" y="2708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7. Дох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007880" y="29973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8. Награ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6455880" y="47242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8. Награ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5213520" y="508464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9. Имуще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обретенное до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0. Ценные бум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429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1. Приобретенное за счет общих доходов движимое и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942480" y="429264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12. Драгоц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 предметы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3"/>
          <p:cNvSpPr txBox="1"/>
          <p:nvPr/>
        </p:nvSpPr>
        <p:spPr>
          <a:xfrm>
            <a:off x="250920" y="260280"/>
            <a:ext cx="320364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совершеннолетних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дете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grpSp>
        <p:nvGrpSpPr>
          <p:cNvPr id="250" name="Text Box 4"/>
          <p:cNvGrpSpPr/>
          <p:nvPr/>
        </p:nvGrpSpPr>
        <p:grpSpPr>
          <a:xfrm>
            <a:off x="3419640" y="189000"/>
            <a:ext cx="5529240" cy="1381680"/>
            <a:chOff x="3419640" y="189000"/>
            <a:chExt cx="5529240" cy="1381680"/>
          </a:xfrm>
        </p:grpSpPr>
        <p:pic>
          <p:nvPicPr>
            <p:cNvPr id="251" name="Text Box 4" descr="Пергамент"/>
            <p:cNvPicPr/>
            <p:nvPr/>
          </p:nvPicPr>
          <p:blipFill>
            <a:blip r:embed="rId1"/>
            <a:stretch/>
          </p:blipFill>
          <p:spPr>
            <a:xfrm>
              <a:off x="3419640" y="189000"/>
              <a:ext cx="55292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542040" y="257040"/>
              <a:ext cx="5340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ебенок имеет право жить и воспитываться в семье, право на общение с родителями, бабушками, дедушками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Text Box 11"/>
          <p:cNvGrpSpPr/>
          <p:nvPr/>
        </p:nvGrpSpPr>
        <p:grpSpPr>
          <a:xfrm>
            <a:off x="0" y="1484280"/>
            <a:ext cx="8540640" cy="1987560"/>
            <a:chOff x="0" y="1484280"/>
            <a:chExt cx="8540640" cy="1987560"/>
          </a:xfrm>
        </p:grpSpPr>
        <p:pic>
          <p:nvPicPr>
            <p:cNvPr id="254" name="Text Box 11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8540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25280" y="1534320"/>
              <a:ext cx="83581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ahoma"/>
                </a:rPr>
                <a:t>Ребенок имеет право 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на защиту своих прав и законных интересов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на защиту от злоупотреблений со стороны родителей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выражать свое мнение, которое учитывается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право на получение содержания от своих родителей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Tahoma"/>
                </a:rPr>
                <a:t>-право собственности на доходы, наследство и т.д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6" name="WordArt 3"/>
          <p:cNvSpPr txBox="1"/>
          <p:nvPr/>
        </p:nvSpPr>
        <p:spPr>
          <a:xfrm>
            <a:off x="250920" y="4149720"/>
            <a:ext cx="2340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права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обязанност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родителе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grpSp>
        <p:nvGrpSpPr>
          <p:cNvPr id="257" name="Text Box 4"/>
          <p:cNvGrpSpPr/>
          <p:nvPr/>
        </p:nvGrpSpPr>
        <p:grpSpPr>
          <a:xfrm>
            <a:off x="2735280" y="3645000"/>
            <a:ext cx="6408720" cy="1989720"/>
            <a:chOff x="2735280" y="3645000"/>
            <a:chExt cx="6408720" cy="1989720"/>
          </a:xfrm>
        </p:grpSpPr>
        <p:pic>
          <p:nvPicPr>
            <p:cNvPr id="258" name="Text Box 4" descr="Пергамент"/>
            <p:cNvPicPr/>
            <p:nvPr/>
          </p:nvPicPr>
          <p:blipFill>
            <a:blip r:embed="rId3"/>
            <a:stretch/>
          </p:blipFill>
          <p:spPr>
            <a:xfrm>
              <a:off x="2735280" y="3645000"/>
              <a:ext cx="640872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806200" y="3711240"/>
              <a:ext cx="6181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одители имеют равные права и несут равные обязанности в отношении своих детей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Они обязаны воспитывать своих детей, обеспечить получение ими образования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Родители - законные представители своих детей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Text Box 6"/>
          <p:cNvSpPr/>
          <p:nvPr/>
        </p:nvSpPr>
        <p:spPr>
          <a:xfrm>
            <a:off x="395280" y="551664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Все вопросы с воспитанием детей родители решают совместно. Если возникают разногласия - вправе обратиться в органы опеки или су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6:24:24Z</dcterms:created>
  <dc:creator>Константин</dc:creator>
  <dc:description/>
  <dc:language>en-US</dc:language>
  <cp:lastModifiedBy>Customer</cp:lastModifiedBy>
  <dcterms:modified xsi:type="dcterms:W3CDTF">2010-02-12T23:29:30Z</dcterms:modified>
  <cp:revision>112</cp:revision>
  <dc:subject/>
  <dc:title>Слайд 1</dc:title>
</cp:coreProperties>
</file>