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223-31FB-41B6-AF8A-1D70D048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5EE-31C4-4C7C-A498-03F2935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42C-A1F6-463C-B524-41E5C741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313-54DF-404B-AE9A-46F32655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9B37-60BE-4B8C-A1DB-505D0F60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F497-937D-42E9-A4FE-9B47D2F2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B3B-F110-4D11-A4AF-540E286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0865-F01E-451D-9081-E8463E5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3127-0CD9-4CDE-8084-78BB585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778-D2BA-4E5D-AEFC-A7E9541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6B7-375B-47E1-B038-840E8D3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21-639A-4674-B537-81F02B0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EB30-1BA7-4872-8682-15AD27C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016B-8BAC-4D37-B776-E115FD4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9157-A2AD-493D-B49C-2DD3763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012C-3F7B-4FA7-9488-0F90A5D3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E5C-01A7-4294-B441-03658D4F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D78-AC0C-4AE4-80C3-81A263A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A13-5B04-463E-93C9-855ABF0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C2B-00B3-4D40-BC59-A10EBF7E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406-3B05-4183-A9DF-F5EF2A6B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F10-16E9-402B-B695-E91A52A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2DC-4FA9-4937-9F93-6DB8E0A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A73-7EFA-48BB-8F03-DCE995C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B347-C4C0-4E62-AF8D-133BBF1C7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3B1-8C3F-4674-B1D6-5483C050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-lepota.narod.ru/images/4b0fba7ac9287_20091127.jpg" TargetMode="External"/><Relationship Id="rId2" Type="http://schemas.openxmlformats.org/officeDocument/2006/relationships/hyperlink" Target="http://a-lepota.narod.ru/images/4b0fba7ac9287_20091127.jpg" TargetMode="External"/><Relationship Id="rId3" Type="http://schemas.openxmlformats.org/officeDocument/2006/relationships/hyperlink" Target="http://a-lepota.narod.ru/images/4b0fba7ac9287_20091127.jpg" TargetMode="External"/><Relationship Id="rId4" Type="http://schemas.openxmlformats.org/officeDocument/2006/relationships/hyperlink" Target="http://a-lepota.narod.ru/images/4b0fba7ac9287_20091127.jpg" TargetMode="External"/><Relationship Id="rId5" Type="http://schemas.openxmlformats.org/officeDocument/2006/relationships/hyperlink" Target="http://a-lepota.narod.ru/images/4b0fba7ac9287_20091127.jpg" TargetMode="External"/><Relationship Id="rId6" Type="http://schemas.openxmlformats.org/officeDocument/2006/relationships/hyperlink" Target="http://a-lepota.narod.ru/images/4b0fba7ac9287_20091127.jpg" TargetMode="External"/><Relationship Id="rId7" Type="http://schemas.openxmlformats.org/officeDocument/2006/relationships/hyperlink" Target="http://multiki.arjlover.net/multiki" TargetMode="External"/><Relationship Id="rId8" Type="http://schemas.openxmlformats.org/officeDocument/2006/relationships/hyperlink" Target="http://multiki.arjlover.net/multiki" TargetMode="External"/><Relationship Id="rId9" Type="http://schemas.openxmlformats.org/officeDocument/2006/relationships/hyperlink" Target="http://multiki.arjlover.net/multiki" TargetMode="External"/><Relationship Id="rId10" Type="http://schemas.openxmlformats.org/officeDocument/2006/relationships/hyperlink" Target="http://multiki.arjlover.net/multiki" TargetMode="External"/><Relationship Id="rId11" Type="http://schemas.openxmlformats.org/officeDocument/2006/relationships/hyperlink" Target="http://multiki.arjlover.net/multiki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63640" y="90792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класс. Обществозн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«Семья и брак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45086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онов Константин Владимирович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обществозн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Любохонская средняя общеобразовательная школа имени А. А. Головаче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ятьковского района Брянской об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11280" y="2043720"/>
            <a:ext cx="813744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куленко В.А., Уколова И.Е., Королькова Е.С. Методическое пособие по интерактивным методам преподавания права в школе. 2-е издание – М.: Издательский дом «Новый учебник»,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ultantPlu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поисково-правовая система). Семейный кодекс Р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именко А.В. Обществознание: для школьников старших классов и поступающих в вузы: учебное пособие – 2-е издание, стереотип – М.: Дрофа,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ствознание. 10-11 классы: уроки учительского мастерства. Составитель Корнева Т.А. – Волгоград: Учитель,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лимпиадные задания по обществознанию. 9-11 классы. Автор-составитель Степанько С.Н. – Волгоград: Учитель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вцова Е.А. Поурочные методические разработки к учебнику Кравченко А.И. «Обществознание. 11 класс». – 3-е издание – М.: ООО «ТИД «Русское слово – РС»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1040" y="527040"/>
            <a:ext cx="7652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3"/>
              </a:rPr>
              <a:t>a-lepota.narod.ru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5"/>
              </a:rPr>
              <a:t>images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6"/>
              </a:rPr>
              <a:t>/4b0fba7ac9287_20091127.j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846360" y="1197000"/>
            <a:ext cx="4171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9"/>
              </a:rPr>
              <a:t>multiki.arjlover.net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1"/>
              </a:rPr>
              <a:t>multik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79640" y="189000"/>
            <a:ext cx="53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6a6f8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Сказка о царе Салтане</a:t>
            </a:r>
            <a:endParaRPr b="1" lang="en-US" sz="1800" spc="1" strike="noStrike">
              <a:ln w="31680">
                <a:solidFill>
                  <a:srgbClr val="3333cc"/>
                </a:solidFill>
                <a:miter/>
              </a:ln>
              <a:solidFill>
                <a:srgbClr val="6a6f8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2025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71640" y="69228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6a6f8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СЕМЬЯ И БРАК</a:t>
            </a:r>
            <a:endParaRPr b="1" lang="en-US" sz="1800" spc="1" strike="noStrike">
              <a:ln w="31680">
                <a:solidFill>
                  <a:srgbClr val="3333cc"/>
                </a:solidFill>
                <a:miter/>
              </a:ln>
              <a:solidFill>
                <a:srgbClr val="6a6f8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632560" y="178740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848200" y="1860480"/>
            <a:ext cx="28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0080" y="22050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определить социальные и правовые аспекты семьи и бр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14172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Задачи:</a:t>
            </a: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Разобраться в классификации типов семейных структ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2. Выяснить условия заключения и прекращения бра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определить личные и имущественные права и обязанности супруг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3.  Упорядочить знания в области прав и обязанностей родителей и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848200" y="1860480"/>
            <a:ext cx="28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-56880" y="3860640"/>
            <a:ext cx="66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Семья и её фун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Типы семейных структ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Правовые основы заключения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расторжения бр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4. Личные и имущественные пра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и обязанности супруг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5. Права и обязанности родителей и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43960" y="256536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ahoma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404640"/>
            <a:ext cx="5977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3466"/>
                </a:solidFill>
                <a:latin typeface="Monotype Corsiva"/>
              </a:rPr>
              <a:t>Счастлив тот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3466"/>
                </a:solidFill>
                <a:latin typeface="Monotype Corsiva"/>
              </a:rPr>
              <a:t>кто счастлив у себя до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ahoma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4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76720" y="549360"/>
            <a:ext cx="55148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 - основанная на браке или кровном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стве  группа  людей,  члены   которой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язаны   общностью    быта,  взаимной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щью, моральной и правовой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ственностью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4479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708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714480" y="2363760"/>
            <a:ext cx="3515040" cy="1143000"/>
            <a:chOff x="3714480" y="2363760"/>
            <a:chExt cx="3515040" cy="1143000"/>
          </a:xfrm>
        </p:grpSpPr>
        <p:cxnSp>
          <p:nvCxnSpPr>
            <p:cNvPr id="172" name="_s3687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825520" y="2466000"/>
              <a:ext cx="229320" cy="93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36873"/>
            <p:cNvCxnSpPr>
              <a:stCxn id="176" idx="0"/>
              <a:endCxn id="174" idx="2"/>
            </p:cNvCxnSpPr>
            <p:nvPr/>
          </p:nvCxnSpPr>
          <p:spPr>
            <a:xfrm flipH="1" flipV="1" rot="5400000">
              <a:off x="4889880" y="2467080"/>
              <a:ext cx="229320" cy="9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36874"/>
            <p:cNvSpPr/>
            <p:nvPr/>
          </p:nvSpPr>
          <p:spPr>
            <a:xfrm>
              <a:off x="4479840" y="2363760"/>
              <a:ext cx="198432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Что дает семь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36875"/>
            <p:cNvSpPr/>
            <p:nvPr/>
          </p:nvSpPr>
          <p:spPr>
            <a:xfrm>
              <a:off x="3714480" y="3049560"/>
              <a:ext cx="164340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человек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_s36876"/>
            <p:cNvSpPr/>
            <p:nvPr/>
          </p:nvSpPr>
          <p:spPr>
            <a:xfrm>
              <a:off x="5586480" y="3049560"/>
              <a:ext cx="164304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государств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484360" y="3860640"/>
            <a:ext cx="280836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родолжение 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4365720"/>
            <a:ext cx="2879640" cy="35856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жизненный опы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4941720"/>
            <a:ext cx="2879640" cy="28764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ащиту, душевное теп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5445000"/>
            <a:ext cx="287964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оддерж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5877000"/>
            <a:ext cx="2879640" cy="28872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тату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3860640"/>
            <a:ext cx="273528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437000"/>
            <a:ext cx="2735280" cy="2872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ащи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5013360"/>
            <a:ext cx="2735280" cy="2872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5516640"/>
            <a:ext cx="2808360" cy="36036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логоплательщ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6308640"/>
            <a:ext cx="287964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осстано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8000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866520" y="21960"/>
            <a:ext cx="7342560" cy="6627600"/>
            <a:chOff x="866520" y="21960"/>
            <a:chExt cx="7342560" cy="6627600"/>
          </a:xfrm>
        </p:grpSpPr>
        <p:sp>
          <p:nvSpPr>
            <p:cNvPr id="189" name="_s60450"/>
            <p:cNvSpPr/>
            <p:nvPr/>
          </p:nvSpPr>
          <p:spPr>
            <a:xfrm flipH="1" flipV="1">
              <a:off x="3072600" y="2386440"/>
              <a:ext cx="73872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0449"/>
            <p:cNvSpPr/>
            <p:nvPr/>
          </p:nvSpPr>
          <p:spPr>
            <a:xfrm>
              <a:off x="1409400" y="99036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93ae0"/>
                </a:gs>
                <a:gs pos="50000">
                  <a:srgbClr val="f1f0f4"/>
                </a:gs>
                <a:gs pos="100000">
                  <a:srgbClr val="693ae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однокарье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двухкарье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0448"/>
            <p:cNvSpPr/>
            <p:nvPr/>
          </p:nvSpPr>
          <p:spPr>
            <a:xfrm flipH="1">
              <a:off x="2711520" y="3651120"/>
              <a:ext cx="92088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60447"/>
            <p:cNvSpPr/>
            <p:nvPr/>
          </p:nvSpPr>
          <p:spPr>
            <a:xfrm>
              <a:off x="866520" y="317736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93ae0"/>
                </a:gs>
                <a:gs pos="50000">
                  <a:srgbClr val="f1f0f4"/>
                </a:gs>
                <a:gs pos="100000">
                  <a:srgbClr val="693ae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многодетна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среднедетна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малодет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0421"/>
            <p:cNvSpPr/>
            <p:nvPr/>
          </p:nvSpPr>
          <p:spPr>
            <a:xfrm flipH="1">
              <a:off x="3724200" y="4230720"/>
              <a:ext cx="408600" cy="78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60422"/>
            <p:cNvSpPr/>
            <p:nvPr/>
          </p:nvSpPr>
          <p:spPr>
            <a:xfrm>
              <a:off x="2386440" y="493164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уклеа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сшир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0423"/>
            <p:cNvSpPr/>
            <p:nvPr/>
          </p:nvSpPr>
          <p:spPr>
            <a:xfrm>
              <a:off x="4939560" y="4230720"/>
              <a:ext cx="408600" cy="78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60424"/>
            <p:cNvSpPr/>
            <p:nvPr/>
          </p:nvSpPr>
          <p:spPr>
            <a:xfrm>
              <a:off x="4824720" y="493164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етерог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мог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0425"/>
            <p:cNvSpPr/>
            <p:nvPr/>
          </p:nvSpPr>
          <p:spPr>
            <a:xfrm>
              <a:off x="5443560" y="3651120"/>
              <a:ext cx="91764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0426"/>
            <p:cNvSpPr/>
            <p:nvPr/>
          </p:nvSpPr>
          <p:spPr>
            <a:xfrm>
              <a:off x="6341760" y="317736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атриарх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триарх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60427"/>
            <p:cNvSpPr/>
            <p:nvPr/>
          </p:nvSpPr>
          <p:spPr>
            <a:xfrm flipV="1">
              <a:off x="5264640" y="2386440"/>
              <a:ext cx="73548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0428"/>
            <p:cNvSpPr/>
            <p:nvPr/>
          </p:nvSpPr>
          <p:spPr>
            <a:xfrm>
              <a:off x="5798880" y="99288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атрилине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трилине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60429"/>
            <p:cNvSpPr/>
            <p:nvPr/>
          </p:nvSpPr>
          <p:spPr>
            <a:xfrm flipV="1">
              <a:off x="4536360" y="1737000"/>
              <a:ext cx="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60430"/>
            <p:cNvSpPr/>
            <p:nvPr/>
          </p:nvSpPr>
          <p:spPr>
            <a:xfrm>
              <a:off x="3604680" y="2196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ногам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игам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игини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иандрия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60431"/>
            <p:cNvSpPr/>
            <p:nvPr/>
          </p:nvSpPr>
          <p:spPr>
            <a:xfrm>
              <a:off x="3604680" y="260568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708000" y="2955600"/>
              <a:ext cx="1654200" cy="108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типы 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семейных 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структур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8920" y="333360"/>
            <a:ext cx="6697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Вступление в бр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1640" y="1412640"/>
            <a:ext cx="40402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Взаимное добровольное соглас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Достижение брачного возра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Содержимое 9"/>
          <p:cNvSpPr/>
          <p:nvPr/>
        </p:nvSpPr>
        <p:spPr>
          <a:xfrm>
            <a:off x="900000" y="3213000"/>
            <a:ext cx="46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Наличие бр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Близкое р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Усыновление или удоче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Психическая болезнь, недееспособ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5805360"/>
            <a:ext cx="9144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Брак может быть признан недействите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если  был факт сокрытия венерического заболевания или СПИДа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1413000"/>
            <a:ext cx="3168720" cy="863640"/>
            <a:chOff x="611280" y="1413000"/>
            <a:chExt cx="3168720" cy="863640"/>
          </a:xfrm>
        </p:grpSpPr>
        <p:sp>
          <p:nvSpPr>
            <p:cNvPr id="210" name=""/>
            <p:cNvSpPr/>
            <p:nvPr/>
          </p:nvSpPr>
          <p:spPr>
            <a:xfrm>
              <a:off x="611280" y="1413000"/>
              <a:ext cx="3168720" cy="86364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442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920" y="1557360"/>
              <a:ext cx="223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900000" y="1628640"/>
              <a:ext cx="2159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позитивные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условия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42920" y="1773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76720" y="3933720"/>
            <a:ext cx="2951280" cy="865080"/>
            <a:chOff x="5076720" y="3933720"/>
            <a:chExt cx="2951280" cy="865080"/>
          </a:xfrm>
        </p:grpSpPr>
        <p:sp>
          <p:nvSpPr>
            <p:cNvPr id="215" name=""/>
            <p:cNvSpPr/>
            <p:nvPr/>
          </p:nvSpPr>
          <p:spPr>
            <a:xfrm flipH="1">
              <a:off x="5076720" y="3933720"/>
              <a:ext cx="2951280" cy="865080"/>
            </a:xfrm>
            <a:custGeom>
              <a:avLst/>
              <a:gdLst>
                <a:gd name="textAreaLeft" fmla="*/ 360 w 2951280"/>
                <a:gd name="textAreaRight" fmla="*/ 2952000 w 295128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1e09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724360" y="4151160"/>
              <a:ext cx="215892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негативные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условия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48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4480" y="33336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099f"/>
                </a:solidFill>
                <a:latin typeface="Tahoma"/>
              </a:rPr>
              <a:t>Законный режим имущества супру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51480" y="92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755120" y="2492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7. Дох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31240" y="227664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6. Пен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170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4. Пособ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380760" y="9079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. Вещи индивидуального поль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566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1. Приобретенное за счет общих доходов движимое и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5445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0. Ценные бум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6886080" y="19162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5. Па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152240" y="1413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2. Подар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87520" y="1413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3. Насле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895200" y="602136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2. Драгоц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 предметы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0920" y="1268280"/>
            <a:ext cx="4174920" cy="3959280"/>
            <a:chOff x="250920" y="1268280"/>
            <a:chExt cx="4174920" cy="3959280"/>
          </a:xfrm>
        </p:grpSpPr>
        <p:sp>
          <p:nvSpPr>
            <p:cNvPr id="230" name=""/>
            <p:cNvSpPr/>
            <p:nvPr/>
          </p:nvSpPr>
          <p:spPr>
            <a:xfrm>
              <a:off x="250920" y="1268280"/>
              <a:ext cx="4174920" cy="3959280"/>
            </a:xfrm>
            <a:prstGeom prst="ellipse">
              <a:avLst/>
            </a:prstGeom>
            <a:noFill/>
            <a:ln w="38160">
              <a:solidFill>
                <a:srgbClr val="693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971280" y="1771560"/>
              <a:ext cx="273492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7244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вместная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бственность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0" y="2421000"/>
            <a:ext cx="4175280" cy="3959280"/>
            <a:chOff x="4572000" y="2421000"/>
            <a:chExt cx="4175280" cy="3959280"/>
          </a:xfrm>
        </p:grpSpPr>
        <p:sp>
          <p:nvSpPr>
            <p:cNvPr id="233" name=""/>
            <p:cNvSpPr/>
            <p:nvPr/>
          </p:nvSpPr>
          <p:spPr>
            <a:xfrm>
              <a:off x="4572000" y="2421000"/>
              <a:ext cx="4175280" cy="3959280"/>
            </a:xfrm>
            <a:prstGeom prst="ellipse">
              <a:avLst/>
            </a:prstGeom>
            <a:noFill/>
            <a:ln w="38160">
              <a:solidFill>
                <a:srgbClr val="693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508720" y="3068640"/>
              <a:ext cx="2374920" cy="71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527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бственность 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каждого 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из супругов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44440" y="472428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9. Имуще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обретенное до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76748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Вещи индивидуа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оль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75880" y="4005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2. Подар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878080" y="436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3. Насле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227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4. Пособ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988640" y="2276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5. Па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71960" y="270828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6. Пен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849680" y="2708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7. Дох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007880" y="29973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8. Награ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6455880" y="47242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8. Награ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5213520" y="508464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9. Имуще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обретенное до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0. Ценные бум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429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1. Приобретенное за счет общих доходов движимое и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942480" y="429264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2. Драгоц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 предметы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3"/>
          <p:cNvSpPr txBox="1"/>
          <p:nvPr/>
        </p:nvSpPr>
        <p:spPr>
          <a:xfrm>
            <a:off x="250920" y="260280"/>
            <a:ext cx="320364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совершеннолетних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дете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grpSp>
        <p:nvGrpSpPr>
          <p:cNvPr id="250" name="Text Box 4"/>
          <p:cNvGrpSpPr/>
          <p:nvPr/>
        </p:nvGrpSpPr>
        <p:grpSpPr>
          <a:xfrm>
            <a:off x="3419640" y="189000"/>
            <a:ext cx="5529240" cy="1381680"/>
            <a:chOff x="3419640" y="189000"/>
            <a:chExt cx="5529240" cy="1381680"/>
          </a:xfrm>
        </p:grpSpPr>
        <p:pic>
          <p:nvPicPr>
            <p:cNvPr id="251" name="Text Box 4" descr="Пергамент"/>
            <p:cNvPicPr/>
            <p:nvPr/>
          </p:nvPicPr>
          <p:blipFill>
            <a:blip r:embed="rId1"/>
            <a:stretch/>
          </p:blipFill>
          <p:spPr>
            <a:xfrm>
              <a:off x="3419640" y="189000"/>
              <a:ext cx="55292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542040" y="257040"/>
              <a:ext cx="5340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ебенок имеет право жить и воспитываться в семье, право на общение с родителями, бабушками, дедушками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Text Box 11"/>
          <p:cNvGrpSpPr/>
          <p:nvPr/>
        </p:nvGrpSpPr>
        <p:grpSpPr>
          <a:xfrm>
            <a:off x="0" y="1484280"/>
            <a:ext cx="8540640" cy="1987560"/>
            <a:chOff x="0" y="1484280"/>
            <a:chExt cx="8540640" cy="1987560"/>
          </a:xfrm>
        </p:grpSpPr>
        <p:pic>
          <p:nvPicPr>
            <p:cNvPr id="254" name="Text Box 11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8540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25280" y="1534320"/>
              <a:ext cx="83581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ahoma"/>
                </a:rPr>
                <a:t>Ребенок имеет право 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на защиту своих прав и законных интересов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на защиту от злоупотреблений со стороны родителей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выражать свое мнение, которое учитывается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право на получение содержания от своих родителей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право собственности на доходы, наследство и т.д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6" name="WordArt 3"/>
          <p:cNvSpPr txBox="1"/>
          <p:nvPr/>
        </p:nvSpPr>
        <p:spPr>
          <a:xfrm>
            <a:off x="250920" y="414972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права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обязанност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родителе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grpSp>
        <p:nvGrpSpPr>
          <p:cNvPr id="257" name="Text Box 4"/>
          <p:cNvGrpSpPr/>
          <p:nvPr/>
        </p:nvGrpSpPr>
        <p:grpSpPr>
          <a:xfrm>
            <a:off x="2735280" y="3645000"/>
            <a:ext cx="6408720" cy="1989720"/>
            <a:chOff x="2735280" y="3645000"/>
            <a:chExt cx="6408720" cy="1989720"/>
          </a:xfrm>
        </p:grpSpPr>
        <p:pic>
          <p:nvPicPr>
            <p:cNvPr id="258" name="Text Box 4" descr="Пергамент"/>
            <p:cNvPicPr/>
            <p:nvPr/>
          </p:nvPicPr>
          <p:blipFill>
            <a:blip r:embed="rId3"/>
            <a:stretch/>
          </p:blipFill>
          <p:spPr>
            <a:xfrm>
              <a:off x="2735280" y="3645000"/>
              <a:ext cx="640872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806200" y="3711240"/>
              <a:ext cx="6181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одители имеют равные права и несут равные обязанности в отношении своих детей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Они обязаны воспитывать своих детей, обеспечить получение ими образования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одители - законные представители своих детей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Text Box 6"/>
          <p:cNvSpPr/>
          <p:nvPr/>
        </p:nvSpPr>
        <p:spPr>
          <a:xfrm>
            <a:off x="395280" y="551664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Все вопросы с воспитанием детей родители решают совместно. Если возникают разногласия - вправе обратиться в органы опеки или су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6:24:24Z</dcterms:created>
  <dc:creator>Константин</dc:creator>
  <dc:description/>
  <dc:language>en-US</dc:language>
  <cp:lastModifiedBy>Customer</cp:lastModifiedBy>
  <dcterms:modified xsi:type="dcterms:W3CDTF">2010-02-12T23:29:30Z</dcterms:modified>
  <cp:revision>112</cp:revision>
  <dc:subject/>
  <dc:title>Слайд 1</dc:title>
</cp:coreProperties>
</file>