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546-8016-4F37-B49A-45643425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01B-1496-4A59-94F5-290279AC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EC6-F9C7-48D3-AFBF-2604AF04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CDA-B50B-4C7D-B958-A30752AA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4B1-AC13-4079-B37A-ABB8E0B4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C95-B80C-4D6D-B92A-E5BA7217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245-74E8-4ACD-895F-BC8B7F90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A2E-50BA-4CC0-B25D-C1C83AC4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BAD-FA51-45F4-9060-64C7FEA7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ACD-541F-44F2-B387-85498146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B11-6093-4FE0-8D92-080AD8A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0FC-06B1-490C-B7CB-08FE5BB1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008B-832D-412F-8F07-E1AF4FFDA7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Устройства компьюте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99800" y="3642840"/>
            <a:ext cx="53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Выполнила учитель информатики </a:t>
            </a:r>
            <a:r>
              <a:rPr b="0" lang="en-US" sz="3200" spc="-1" strike="noStrike">
                <a:solidFill>
                  <a:srgbClr val="222268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МОБУ ООШ № 15  п. Изык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Ивлева С.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928800" y="2214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4143240" y="5929200"/>
            <a:ext cx="1357560" cy="571680"/>
          </a:xfrm>
          <a:custGeom>
            <a:avLst/>
            <a:gdLst>
              <a:gd name="textAreaLeft" fmla="*/ 36720 w 1357560"/>
              <a:gd name="textAreaRight" fmla="*/ 1320840 w 13575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51275" h="21600">
                <a:moveTo>
                  <a:pt x="0" y="0"/>
                </a:moveTo>
                <a:lnTo>
                  <a:pt x="51275" y="0"/>
                </a:lnTo>
                <a:lnTo>
                  <a:pt x="51275" y="21600"/>
                </a:lnTo>
                <a:lnTo>
                  <a:pt x="0" y="21600"/>
                </a:lnTo>
                <a:close/>
              </a:path>
              <a:path fill="lightenLess" w="51275" h="21600">
                <a:moveTo>
                  <a:pt x="0" y="0"/>
                </a:moveTo>
                <a:lnTo>
                  <a:pt x="51275" y="0"/>
                </a:lnTo>
                <a:lnTo>
                  <a:pt x="49875" y="1400"/>
                </a:lnTo>
                <a:lnTo>
                  <a:pt x="1400" y="1400"/>
                </a:lnTo>
                <a:close/>
              </a:path>
              <a:path fill="darken" w="51275" h="21600">
                <a:moveTo>
                  <a:pt x="51275" y="0"/>
                </a:moveTo>
                <a:lnTo>
                  <a:pt x="51275" y="21600"/>
                </a:lnTo>
                <a:lnTo>
                  <a:pt x="49875" y="20200"/>
                </a:lnTo>
                <a:lnTo>
                  <a:pt x="49875" y="1400"/>
                </a:lnTo>
                <a:close/>
              </a:path>
              <a:path fill="darkenLess" w="51275" h="21600">
                <a:moveTo>
                  <a:pt x="51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75" y="20200"/>
                </a:lnTo>
                <a:close/>
              </a:path>
              <a:path fill="lighten" w="51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75" h="21600">
                <a:moveTo>
                  <a:pt x="18631" y="3794"/>
                </a:moveTo>
                <a:lnTo>
                  <a:pt x="32644" y="10800"/>
                </a:lnTo>
                <a:lnTo>
                  <a:pt x="1863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665280"/>
            <a:ext cx="8345160" cy="5759280"/>
          </a:xfrm>
          <a:prstGeom prst="rect">
            <a:avLst/>
          </a:prstGeom>
          <a:ln w="0">
            <a:noFill/>
          </a:ln>
        </p:spPr>
      </p:pic>
      <p:sp>
        <p:nvSpPr>
          <p:cNvPr id="46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3429000" y="5857920"/>
            <a:ext cx="1357200" cy="571320"/>
          </a:xfrm>
          <a:custGeom>
            <a:avLst/>
            <a:gdLst>
              <a:gd name="textAreaLeft" fmla="*/ 36720 w 1357200"/>
              <a:gd name="textAreaRight" fmla="*/ 1320480 w 13572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51293" h="21600">
                <a:moveTo>
                  <a:pt x="0" y="0"/>
                </a:moveTo>
                <a:lnTo>
                  <a:pt x="51293" y="0"/>
                </a:lnTo>
                <a:lnTo>
                  <a:pt x="51293" y="21600"/>
                </a:lnTo>
                <a:lnTo>
                  <a:pt x="0" y="21600"/>
                </a:lnTo>
                <a:close/>
              </a:path>
              <a:path fill="lightenLess" w="51293" h="21600">
                <a:moveTo>
                  <a:pt x="0" y="0"/>
                </a:moveTo>
                <a:lnTo>
                  <a:pt x="51293" y="0"/>
                </a:lnTo>
                <a:lnTo>
                  <a:pt x="49893" y="1400"/>
                </a:lnTo>
                <a:lnTo>
                  <a:pt x="1400" y="1400"/>
                </a:lnTo>
                <a:close/>
              </a:path>
              <a:path fill="darken" w="51293" h="21600">
                <a:moveTo>
                  <a:pt x="51293" y="0"/>
                </a:moveTo>
                <a:lnTo>
                  <a:pt x="51293" y="21600"/>
                </a:lnTo>
                <a:lnTo>
                  <a:pt x="49893" y="20200"/>
                </a:lnTo>
                <a:lnTo>
                  <a:pt x="49893" y="1400"/>
                </a:lnTo>
                <a:close/>
              </a:path>
              <a:path fill="darkenLess" w="51293" h="21600">
                <a:moveTo>
                  <a:pt x="51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3" y="20200"/>
                </a:lnTo>
                <a:close/>
              </a:path>
              <a:path fill="lighten" w="51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3" h="21600">
                <a:moveTo>
                  <a:pt x="18640" y="3794"/>
                </a:moveTo>
                <a:lnTo>
                  <a:pt x="32653" y="10800"/>
                </a:lnTo>
                <a:lnTo>
                  <a:pt x="1864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j-times.ru/wp-content/uploads/2010/09/Epson_cx3200a.jpg"/>
          <p:cNvPicPr/>
          <p:nvPr/>
        </p:nvPicPr>
        <p:blipFill>
          <a:blip r:embed="rId1"/>
          <a:stretch/>
        </p:blipFill>
        <p:spPr>
          <a:xfrm>
            <a:off x="237960" y="433440"/>
            <a:ext cx="2760840" cy="196848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4"/>
          <p:cNvSpPr/>
          <p:nvPr/>
        </p:nvSpPr>
        <p:spPr>
          <a:xfrm>
            <a:off x="357120" y="571680"/>
            <a:ext cx="2571840" cy="178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принт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285840" y="571680"/>
            <a:ext cx="2571840" cy="1785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://j-times.ru/wp-content/uploads/2010/09/Epson_cx3200a.jpg"/>
          <p:cNvPicPr/>
          <p:nvPr/>
        </p:nvPicPr>
        <p:blipFill>
          <a:blip r:embed="rId2"/>
          <a:stretch/>
        </p:blipFill>
        <p:spPr>
          <a:xfrm>
            <a:off x="3164040" y="573120"/>
            <a:ext cx="2670120" cy="196848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7"/>
          <p:cNvSpPr/>
          <p:nvPr/>
        </p:nvSpPr>
        <p:spPr>
          <a:xfrm>
            <a:off x="3214800" y="642960"/>
            <a:ext cx="25714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мони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8"/>
          <p:cNvSpPr/>
          <p:nvPr/>
        </p:nvSpPr>
        <p:spPr>
          <a:xfrm>
            <a:off x="3214800" y="642960"/>
            <a:ext cx="257148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http://j-times.ru/wp-content/uploads/2010/09/Epson_cx3200a.jpg"/>
          <p:cNvPicPr/>
          <p:nvPr/>
        </p:nvPicPr>
        <p:blipFill>
          <a:blip r:embed="rId3"/>
          <a:stretch/>
        </p:blipFill>
        <p:spPr>
          <a:xfrm>
            <a:off x="6022800" y="512640"/>
            <a:ext cx="2670480" cy="183996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ый прямоугольник 12"/>
          <p:cNvSpPr/>
          <p:nvPr/>
        </p:nvSpPr>
        <p:spPr>
          <a:xfrm>
            <a:off x="6072120" y="587520"/>
            <a:ext cx="257184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13"/>
          <p:cNvSpPr/>
          <p:nvPr/>
        </p:nvSpPr>
        <p:spPr>
          <a:xfrm>
            <a:off x="6072120" y="615960"/>
            <a:ext cx="257184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http://j-times.ru/wp-content/uploads/2010/09/Epson_cx3200a.jpg"/>
          <p:cNvPicPr/>
          <p:nvPr/>
        </p:nvPicPr>
        <p:blipFill>
          <a:blip r:embed="rId4"/>
          <a:stretch/>
        </p:blipFill>
        <p:spPr>
          <a:xfrm>
            <a:off x="384120" y="2610000"/>
            <a:ext cx="2657520" cy="1839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5"/>
          <p:cNvSpPr/>
          <p:nvPr/>
        </p:nvSpPr>
        <p:spPr>
          <a:xfrm>
            <a:off x="500040" y="2643120"/>
            <a:ext cx="257184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скан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16"/>
          <p:cNvSpPr/>
          <p:nvPr/>
        </p:nvSpPr>
        <p:spPr>
          <a:xfrm>
            <a:off x="571680" y="2571840"/>
            <a:ext cx="257148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j-times.ru/wp-content/uploads/2010/09/Epson_cx3200a.jpg"/>
          <p:cNvPicPr/>
          <p:nvPr/>
        </p:nvPicPr>
        <p:blipFill>
          <a:blip r:embed="rId5"/>
          <a:stretch/>
        </p:blipFill>
        <p:spPr>
          <a:xfrm>
            <a:off x="3736800" y="2610000"/>
            <a:ext cx="1384560" cy="18396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18"/>
          <p:cNvSpPr/>
          <p:nvPr/>
        </p:nvSpPr>
        <p:spPr>
          <a:xfrm>
            <a:off x="3214800" y="2714760"/>
            <a:ext cx="300024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системный бл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кругленный прямоугольник 19"/>
          <p:cNvSpPr/>
          <p:nvPr/>
        </p:nvSpPr>
        <p:spPr>
          <a:xfrm>
            <a:off x="3214800" y="2714760"/>
            <a:ext cx="29289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http://j-times.ru/wp-content/uploads/2010/09/Epson_cx3200a.jpg"/>
          <p:cNvPicPr/>
          <p:nvPr/>
        </p:nvPicPr>
        <p:blipFill>
          <a:blip r:embed="rId6"/>
          <a:stretch/>
        </p:blipFill>
        <p:spPr>
          <a:xfrm>
            <a:off x="1017720" y="4645080"/>
            <a:ext cx="1609560" cy="184788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21"/>
          <p:cNvSpPr/>
          <p:nvPr/>
        </p:nvSpPr>
        <p:spPr>
          <a:xfrm>
            <a:off x="428760" y="4643280"/>
            <a:ext cx="25714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веб-кам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кругленный прямоугольник 22"/>
          <p:cNvSpPr/>
          <p:nvPr/>
        </p:nvSpPr>
        <p:spPr>
          <a:xfrm>
            <a:off x="357120" y="4643280"/>
            <a:ext cx="257184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http://j-times.ru/wp-content/uploads/2010/09/Epson_cx3200a.jpg"/>
          <p:cNvPicPr/>
          <p:nvPr/>
        </p:nvPicPr>
        <p:blipFill>
          <a:blip r:embed="rId7"/>
          <a:stretch/>
        </p:blipFill>
        <p:spPr>
          <a:xfrm>
            <a:off x="3524400" y="4925880"/>
            <a:ext cx="2705040" cy="1262160"/>
          </a:xfrm>
          <a:prstGeom prst="rect">
            <a:avLst/>
          </a:prstGeom>
          <a:ln w="0">
            <a:noFill/>
          </a:ln>
        </p:spPr>
      </p:pic>
      <p:sp>
        <p:nvSpPr>
          <p:cNvPr id="66" name="Скругленный прямоугольник 25"/>
          <p:cNvSpPr/>
          <p:nvPr/>
        </p:nvSpPr>
        <p:spPr>
          <a:xfrm>
            <a:off x="3214800" y="4643280"/>
            <a:ext cx="30718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кругленный прямоугольник 26"/>
          <p:cNvSpPr/>
          <p:nvPr/>
        </p:nvSpPr>
        <p:spPr>
          <a:xfrm>
            <a:off x="3214800" y="4714920"/>
            <a:ext cx="29289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42960" y="12142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go.mail.ru/search_imag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карти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http://pedsovet.su/ -  шаблон презен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Света</cp:lastModifiedBy>
  <dcterms:modified xsi:type="dcterms:W3CDTF">2015-10-17T12:56:26Z</dcterms:modified>
  <cp:revision>12</cp:revision>
  <dc:subject/>
  <dc:title>Слайд 1</dc:title>
</cp:coreProperties>
</file>