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6F8-F9E5-491C-82F8-F2E49303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C44-FC69-4262-8974-F0C36BE2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25B-7A01-46A9-955D-3AFEC3C9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04A-1F28-46C5-B4A0-2A579E01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0D24-5736-4610-87E3-E20F0995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A591-5B68-47BA-896F-9801B342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2FE3-C302-4BD5-A28F-BFE274AB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F1D1-AB22-4775-A293-1A7C48AA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A433-15B5-421D-926D-B880894E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F13C-D940-48FF-95FA-867DAC43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3CCA-D81D-4228-8ABC-0D89E79A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D14-4D9A-4594-B8B8-D1832685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32EF-82F4-4690-BF0B-4A100A70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FF0F-66FE-4018-8FF1-7DCFAAE4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A3FE-F2A1-4161-8E60-04BA6F23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FE21-ABC2-44A2-A440-1DA7FED0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34C5-709D-4F9A-BEEE-53CE9FC2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A95-59F4-4432-90E6-AB8CBFEF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313-2FB0-4664-87A9-B2EB0A88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823-72AB-4FD0-B7AA-99204CBA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F95-CA8C-452B-A17C-1E14B1E4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E72-BE78-4366-8E9B-E3473923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B01-14C1-43DE-A7FF-42D0C9DE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BB6-9AEC-4657-BB49-C0FDAF08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8A1B-3A8E-4B7E-819C-C90E68E3A75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69A7-9922-4D3A-83E9-2E1E239E2C6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ru.wikipedia.org/wiki/&#1053;&#1086;&#1074;&#1086;&#1077;_&#1074;&#1088;&#1077;&#1084;&#1103;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ru.wikipedia.org/wiki/&#1043;&#1072;&#1083;&#1080;&#1083;&#1077;&#1086;_&#1043;&#1072;&#1083;&#1080;&#1083;&#1077;&#1081;" TargetMode="External"/><Relationship Id="rId4" Type="http://schemas.openxmlformats.org/officeDocument/2006/relationships/hyperlink" Target="http://ru.wikipedia.org/wiki/XVII_&#1074;&#1077;&#1082;" TargetMode="External"/><Relationship Id="rId5" Type="http://schemas.openxmlformats.org/officeDocument/2006/relationships/hyperlink" Target="http://ru.wikipedia.org/wiki/XVII_&#1074;&#1077;&#1082;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ru.wikipedia.org/wiki/&#1047;&#1072;&#1082;&#1086;&#1085;_&#1074;&#1089;&#1077;&#1084;&#1080;&#1088;&#1085;&#1086;&#1075;&#1086;_&#1090;&#1103;&#1075;&#1086;&#1090;&#1077;&#1085;&#1080;&#1103;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7;&#1077;&#1084;&#1083;&#1103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&#1057;&#1086;&#1083;&#1085;&#1094;&#1077;" TargetMode="External"/><Relationship Id="rId4" Type="http://schemas.openxmlformats.org/officeDocument/2006/relationships/hyperlink" Target="http://ru.wikipedia.org/wiki/&#1047;&#1077;&#1084;&#1083;&#1103;" TargetMode="External"/><Relationship Id="rId5" Type="http://schemas.openxmlformats.org/officeDocument/2006/relationships/hyperlink" Target="http://ru.wikipedia.org/wiki/&#1055;&#1083;&#1072;&#1085;&#1077;&#1090;&#1099;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ru.wikipedia.org/wiki/&#1053;&#1080;&#1082;&#1086;&#1083;&#1072;&#1081;_&#1050;&#1086;&#1087;&#1077;&#1088;&#1085;&#1080;&#1082;" TargetMode="External"/><Relationship Id="rId4" Type="http://schemas.openxmlformats.org/officeDocument/2006/relationships/hyperlink" Target="http://ru.wikipedia.org/wiki/1543_&#1075;&#1086;&#1076;_&#1074;_&#1085;&#1072;&#1091;&#1082;&#1077;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ru.wikipedia.org/wiki/&#1041;&#1077;&#1089;&#1082;&#1086;&#1085;&#1077;&#1095;&#1085;&#1086;&#1089;&#1090;&#1100;" TargetMode="External"/><Relationship Id="rId5" Type="http://schemas.openxmlformats.org/officeDocument/2006/relationships/hyperlink" Target="http://ru.wikipedia.org/wiki/&#1044;&#1078;&#1086;&#1088;&#1076;&#1072;&#1085;&#1086;_&#1041;&#1088;&#1091;&#1085;&#1086;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-181080" y="476280"/>
            <a:ext cx="6778800" cy="321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любонька\Desktop\геоцентр система\Новая папка\миркосмоса.jpg"/>
          <p:cNvPicPr/>
          <p:nvPr/>
        </p:nvPicPr>
        <p:blipFill>
          <a:blip r:embed="rId3"/>
          <a:stretch/>
        </p:blipFill>
        <p:spPr>
          <a:xfrm>
            <a:off x="5929200" y="428760"/>
            <a:ext cx="2730600" cy="181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любонька\Desktop\геоцентр система\Новая папка\6.jpg"/>
          <p:cNvPicPr/>
          <p:nvPr/>
        </p:nvPicPr>
        <p:blipFill>
          <a:blip r:embed="rId4"/>
          <a:stretch/>
        </p:blipFill>
        <p:spPr>
          <a:xfrm>
            <a:off x="214200" y="3643200"/>
            <a:ext cx="3762360" cy="1928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5640" y="189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БОУ «Шолоховская гимназ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8000" y="4437000"/>
            <a:ext cx="38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зунов Валер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«Б»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гласно Бруно, при наблюдении из всех точек Вселенная должна выглядеть примерно одинаково. Из всех мыслителей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Нового времен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он первым предположил, что звезды  — это далёкие солнца и что физические законы во всем бесконечном и безграничном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странстве одинаков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C:\Users\любонька\Desktop\геоцентр система\Новая папка\21век.jpg"/>
          <p:cNvPicPr/>
          <p:nvPr/>
        </p:nvPicPr>
        <p:blipFill>
          <a:blip r:embed="rId4"/>
          <a:stretch/>
        </p:blipFill>
        <p:spPr>
          <a:xfrm rot="20852400">
            <a:off x="4508280" y="3800520"/>
            <a:ext cx="2692440" cy="241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любонька\Desktop\геоцентр система\Новая папка\миркосмоса.jpg"/>
          <p:cNvPicPr/>
          <p:nvPr/>
        </p:nvPicPr>
        <p:blipFill>
          <a:blip r:embed="rId5"/>
          <a:stretch/>
        </p:blipFill>
        <p:spPr>
          <a:xfrm rot="762000">
            <a:off x="5451120" y="1701720"/>
            <a:ext cx="3152880" cy="209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0" y="1357200"/>
            <a:ext cx="44956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 Италии трудился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Галилео Галиле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оказавший двоякую поддержку гелиоцентрической теории.   Во второй половине 20-х годов 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XVII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ве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Галилей счёл, что обстановка постепенно разряжается и выпустил свой знаменитый труд «Диалоги о двух главнейших системах мира, птолемеевой и коперниковой» (1632 г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2" descr="C:\Users\любонька\Desktop\геоцентр система\Новая папка\imagesптол.jpg"/>
          <p:cNvPicPr/>
          <p:nvPr/>
        </p:nvPicPr>
        <p:blipFill>
          <a:blip r:embed="rId6"/>
          <a:stretch/>
        </p:blipFill>
        <p:spPr>
          <a:xfrm>
            <a:off x="4643280" y="1450800"/>
            <a:ext cx="3429000" cy="408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274680"/>
            <a:ext cx="8328240" cy="1182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Галилео Галилей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стория приписывает ему следующую фразу о Земле, сказанную после приговора суда: </a:t>
            </a:r>
            <a:r>
              <a:rPr b="1" i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«И все же она вертится!»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8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C:\Users\любонька\Desktop\геоцентр система\Новая папка\images4.jpg"/>
          <p:cNvPicPr/>
          <p:nvPr/>
        </p:nvPicPr>
        <p:blipFill>
          <a:blip r:embed="rId3"/>
          <a:stretch/>
        </p:blipFill>
        <p:spPr>
          <a:xfrm>
            <a:off x="4818240" y="1643040"/>
            <a:ext cx="3611520" cy="433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42560" y="1428480"/>
            <a:ext cx="45003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есть вывода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закона всемирного тяготени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принадлежи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сааку Ньютон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после публикации которым «Математических начал натуральной философии» в 1687 году все споры о системе мира, не утихавшие в течение полутора столетий, утратили смысл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олнц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прочно заняло центр планетной системы, оказавшись одной из множества звёзд в бескрайней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селенно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C:\Users\любонька\Desktop\геоцентр система\Новая папка\9.jpg"/>
          <p:cNvPicPr/>
          <p:nvPr/>
        </p:nvPicPr>
        <p:blipFill>
          <a:blip r:embed="rId4"/>
          <a:stretch/>
        </p:blipFill>
        <p:spPr>
          <a:xfrm rot="518400">
            <a:off x="4483080" y="2090880"/>
            <a:ext cx="4378320" cy="350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4" descr=""/>
          <p:cNvPicPr/>
          <p:nvPr/>
        </p:nvPicPr>
        <p:blipFill>
          <a:blip r:embed="rId2"/>
          <a:stretch/>
        </p:blipFill>
        <p:spPr>
          <a:xfrm>
            <a:off x="274680" y="1371600"/>
            <a:ext cx="8736120" cy="240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Кругосветное путешествие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Фернана   Магеллана 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1519-1521г.г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C:\Users\любонька\Desktop\геоцентр система\Новая папка\15век.jpg"/>
          <p:cNvPicPr/>
          <p:nvPr/>
        </p:nvPicPr>
        <p:blipFill>
          <a:blip r:embed="rId3"/>
          <a:stretch/>
        </p:blipFill>
        <p:spPr>
          <a:xfrm>
            <a:off x="4357800" y="4143240"/>
            <a:ext cx="3214440" cy="22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любонька\Desktop\геоцентр система\Новая папка\магеллан.jpg"/>
          <p:cNvPicPr/>
          <p:nvPr/>
        </p:nvPicPr>
        <p:blipFill>
          <a:blip r:embed="rId4"/>
          <a:stretch/>
        </p:blipFill>
        <p:spPr>
          <a:xfrm>
            <a:off x="4786200" y="1214280"/>
            <a:ext cx="4098960" cy="2716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олет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Юр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лексеевич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агари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косм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C:\Users\любонька\Desktop\геоцентр система\Новая папка\images.jpg"/>
          <p:cNvPicPr/>
          <p:nvPr/>
        </p:nvPicPr>
        <p:blipFill>
          <a:blip r:embed="rId3"/>
          <a:stretch/>
        </p:blipFill>
        <p:spPr>
          <a:xfrm rot="716400">
            <a:off x="4250880" y="2014560"/>
            <a:ext cx="4357800" cy="388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3840" y="1143000"/>
            <a:ext cx="4429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ристотель обосновывал геоцентризм следующим образом: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Земл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является тяжёлым телом, а естественным местом для тяжёлых тел является центр Вселенной; как показывает опыт, все тяжёлые тела падают, а поскольку они движутся к центру мира, Земля находится в цен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3" descr="C:\Users\любонька\Desktop\геоцентр система\Новая папка\геоц.jpg"/>
          <p:cNvPicPr/>
          <p:nvPr/>
        </p:nvPicPr>
        <p:blipFill>
          <a:blip r:embed="rId3"/>
          <a:stretch/>
        </p:blipFill>
        <p:spPr>
          <a:xfrm>
            <a:off x="4597560" y="1857240"/>
            <a:ext cx="3903480" cy="378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любонька\Desktop\геоцентр система\Новая папка\гелиоц.jpg"/>
          <p:cNvPicPr/>
          <p:nvPr/>
        </p:nvPicPr>
        <p:blipFill>
          <a:blip r:embed="rId2"/>
          <a:stretch/>
        </p:blipFill>
        <p:spPr>
          <a:xfrm>
            <a:off x="714240" y="1643040"/>
            <a:ext cx="3957840" cy="3957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Солнце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является центральным небесным телом, вокруг которого обращается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Земля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и другие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планеты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281160" y="274680"/>
            <a:ext cx="8667720" cy="1262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Польский астроном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Николай Коперник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разработал теорию движения планет вокруг Солнца. Результаты своих трудов он обнародовал в книге «О вращениях небесных сфер», изданной в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1543 год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C:\Users\любонька\Desktop\геоцентр система\Новая папка\images2.jpg"/>
          <p:cNvPicPr/>
          <p:nvPr/>
        </p:nvPicPr>
        <p:blipFill>
          <a:blip r:embed="rId5"/>
          <a:stretch/>
        </p:blipFill>
        <p:spPr>
          <a:xfrm>
            <a:off x="5000760" y="1571760"/>
            <a:ext cx="3357360" cy="41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перник полагал, что Земля совершает троякое движе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ращение вокруг оси с периодом в одни сутки, следствием чего является суточное вращение небесной сфер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вижение вокруг Солнца с периодом в год, приводящее к попятным движениям плане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перник  объяснил причины движений планет, вычислил расстояния планет от Солнца и периоды их обращ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любонька\Desktop\геоцентр система\Новая папка\8.jpg"/>
          <p:cNvPicPr/>
          <p:nvPr/>
        </p:nvPicPr>
        <p:blipFill>
          <a:blip r:embed="rId2"/>
          <a:stretch/>
        </p:blipFill>
        <p:spPr>
          <a:xfrm>
            <a:off x="4357800" y="1928880"/>
            <a:ext cx="458316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любонька\Desktop\геоцентр система\Новая папка\images3.jpg"/>
          <p:cNvPicPr/>
          <p:nvPr/>
        </p:nvPicPr>
        <p:blipFill>
          <a:blip r:embed="rId3"/>
          <a:stretch/>
        </p:blipFill>
        <p:spPr>
          <a:xfrm>
            <a:off x="782640" y="1571760"/>
            <a:ext cx="3075120" cy="4159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Решительный шаг от гелиоцентризма к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бесконечной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Вселенной, равномерно заполненной звёздами, сделал итальянский философ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Джордано Бруно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7:39:30Z</dcterms:created>
  <dc:creator>любонька</dc:creator>
  <dc:description/>
  <dc:language>en-US</dc:language>
  <cp:lastModifiedBy>Admin</cp:lastModifiedBy>
  <dcterms:modified xsi:type="dcterms:W3CDTF">2015-10-15T17:55:09Z</dcterms:modified>
  <cp:revision>12</cp:revision>
  <dc:subject/>
  <dc:title>Развитие науки.  Устройство Вселенной.</dc:title>
</cp:coreProperties>
</file>