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23C-01DD-4225-8C73-AEB78240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77C-DA22-491F-9F35-64BFC1B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51D-0F72-4F69-88D0-A6AF56C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CAE-C0DD-4E02-9403-B3A5CE19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39E7-D9D6-4D24-81FC-8FF19F30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A069-C329-4C6B-BB05-F8FE2F6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2FC3-1BC6-4828-8887-9C20474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7795-E0B8-447B-A67D-A2F3E6A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BA03-7446-4B21-9F9B-53B21E60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AB18-EFDF-4182-B796-808261CC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925-0CD0-44B8-97A5-6BD7B96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C59-A0EF-4788-A0C2-5F2BEF2B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A57E-0217-4DFB-81AF-A0ED81B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7F65-7754-4D7F-BCD3-75F2F2B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9DCA-EDBF-4A7A-8381-3ECDA31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44D0-A24A-40F7-9F3B-07D6BA5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357-AE23-46D3-A376-CE3CEEB0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936-C587-4D52-85B6-9D172304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C33-21E0-4A46-8141-8FB33A5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F47-637B-4B4B-BF81-AD135280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514-CA73-41BD-B6FA-D3785E0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7CE-73B3-42F0-B420-4FE8364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661-CED1-4B73-A26B-33E190A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E43-53CC-4331-A7C0-F21E425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65CE-CF8C-4F3B-A42B-3F5A4C646E5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BF15-F0CF-4C9D-9E87-464FAC65BA3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53;&#1086;&#1074;&#1086;&#1077;_&#1074;&#1088;&#1077;&#1084;&#1103;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43;&#1072;&#1083;&#1080;&#1083;&#1077;&#1086;_&#1043;&#1072;&#1083;&#1080;&#1083;&#1077;&#1081;" TargetMode="External"/><Relationship Id="rId4" Type="http://schemas.openxmlformats.org/officeDocument/2006/relationships/hyperlink" Target="http://ru.wikipedia.org/wiki/XVII_&#1074;&#1077;&#1082;" TargetMode="External"/><Relationship Id="rId5" Type="http://schemas.openxmlformats.org/officeDocument/2006/relationships/hyperlink" Target="http://ru.wikipedia.org/wiki/XVII_&#1074;&#1077;&#1082;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ru.wikipedia.org/wiki/&#1047;&#1072;&#1082;&#1086;&#1085;_&#1074;&#1089;&#1077;&#1084;&#1080;&#1088;&#1085;&#1086;&#1075;&#1086;_&#1090;&#1103;&#1075;&#1086;&#1090;&#1077;&#1085;&#1080;&#1103;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7;&#1077;&#1084;&#1083;&#1103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57;&#1086;&#1083;&#1085;&#1094;&#1077;" TargetMode="External"/><Relationship Id="rId4" Type="http://schemas.openxmlformats.org/officeDocument/2006/relationships/hyperlink" Target="http://ru.wikipedia.org/wiki/&#1047;&#1077;&#1084;&#1083;&#1103;" TargetMode="External"/><Relationship Id="rId5" Type="http://schemas.openxmlformats.org/officeDocument/2006/relationships/hyperlink" Target="http://ru.wikipedia.org/wiki/&#1055;&#1083;&#1072;&#1085;&#1077;&#1090;&#1099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ru.wikipedia.org/wiki/&#1053;&#1080;&#1082;&#1086;&#1083;&#1072;&#1081;_&#1050;&#1086;&#1087;&#1077;&#1088;&#1085;&#1080;&#1082;" TargetMode="External"/><Relationship Id="rId4" Type="http://schemas.openxmlformats.org/officeDocument/2006/relationships/hyperlink" Target="http://ru.wikipedia.org/wiki/1543_&#1075;&#1086;&#1076;_&#1074;_&#1085;&#1072;&#1091;&#1082;&#1077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ru.wikipedia.org/wiki/&#1041;&#1077;&#1089;&#1082;&#1086;&#1085;&#1077;&#1095;&#1085;&#1086;&#1089;&#1090;&#1100;" TargetMode="External"/><Relationship Id="rId5" Type="http://schemas.openxmlformats.org/officeDocument/2006/relationships/hyperlink" Target="http://ru.wikipedia.org/wiki/&#1044;&#1078;&#1086;&#1088;&#1076;&#1072;&#1085;&#1086;_&#1041;&#1088;&#1091;&#1085;&#1086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-181080" y="476280"/>
            <a:ext cx="6778800" cy="321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любонька\Desktop\геоцентр система\Новая папка\миркосмоса.jpg"/>
          <p:cNvPicPr/>
          <p:nvPr/>
        </p:nvPicPr>
        <p:blipFill>
          <a:blip r:embed="rId3"/>
          <a:stretch/>
        </p:blipFill>
        <p:spPr>
          <a:xfrm>
            <a:off x="5929200" y="428760"/>
            <a:ext cx="2730600" cy="181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любонька\Desktop\геоцентр система\Новая папка\6.jpg"/>
          <p:cNvPicPr/>
          <p:nvPr/>
        </p:nvPicPr>
        <p:blipFill>
          <a:blip r:embed="rId4"/>
          <a:stretch/>
        </p:blipFill>
        <p:spPr>
          <a:xfrm>
            <a:off x="214200" y="3643200"/>
            <a:ext cx="3762360" cy="192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189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«Шолоховская гимн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4437000"/>
            <a:ext cx="38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зунов Валер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«Б»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гласно Бруно, при наблюдении из всех точек Вселенная должна выглядеть примерно одинаково. Из всех мыслителей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Нового време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он первым предположил, что звезды  — это далёкие солнца и что физические законы во всем бесконечном и безгранично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странстве одинак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любонька\Desktop\геоцентр система\Новая папка\21век.jpg"/>
          <p:cNvPicPr/>
          <p:nvPr/>
        </p:nvPicPr>
        <p:blipFill>
          <a:blip r:embed="rId4"/>
          <a:stretch/>
        </p:blipFill>
        <p:spPr>
          <a:xfrm rot="20852400">
            <a:off x="4508280" y="3800520"/>
            <a:ext cx="2692440" cy="24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любонька\Desktop\геоцентр система\Новая папка\миркосмоса.jpg"/>
          <p:cNvPicPr/>
          <p:nvPr/>
        </p:nvPicPr>
        <p:blipFill>
          <a:blip r:embed="rId5"/>
          <a:stretch/>
        </p:blipFill>
        <p:spPr>
          <a:xfrm rot="762000">
            <a:off x="5451120" y="1701720"/>
            <a:ext cx="3152880" cy="20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1357200"/>
            <a:ext cx="4495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Италии трудился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Галилео Галиле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оказавший двоякую поддержку гелиоцентрической теории.   Во второй половине 20-х годов 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XVII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ве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алилей счёл, что обстановка постепенно разряжается и выпустил свой знаменитый труд «Диалоги о двух главнейших системах мира, птолемеевой и коперниковой» (1632 г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C:\Users\любонька\Desktop\геоцентр система\Новая папка\imagesптол.jpg"/>
          <p:cNvPicPr/>
          <p:nvPr/>
        </p:nvPicPr>
        <p:blipFill>
          <a:blip r:embed="rId6"/>
          <a:stretch/>
        </p:blipFill>
        <p:spPr>
          <a:xfrm>
            <a:off x="4643280" y="145080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74680"/>
            <a:ext cx="8328240" cy="118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Галилео Галилей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стория приписывает ему следующую фразу о Земле, сказанную после приговора суда: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«И все же она вертится!»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Users\любонька\Desktop\геоцентр система\Новая папка\images4.jpg"/>
          <p:cNvPicPr/>
          <p:nvPr/>
        </p:nvPicPr>
        <p:blipFill>
          <a:blip r:embed="rId3"/>
          <a:stretch/>
        </p:blipFill>
        <p:spPr>
          <a:xfrm>
            <a:off x="4818240" y="1643040"/>
            <a:ext cx="3611520" cy="43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42560" y="1428480"/>
            <a:ext cx="4500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сть вывода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закона всемирного тяготе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принадлежи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сааку Ньютон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после публикации которым «Математических начал натуральной философии» в 1687 году все споры о системе мира, не утихавшие в течение полутора столетий, утратили смысл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лнц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прочно заняло центр планетной системы, оказавшись одной из множества звёзд в бескрайней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селенно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Users\любонька\Desktop\геоцентр система\Новая папка\9.jpg"/>
          <p:cNvPicPr/>
          <p:nvPr/>
        </p:nvPicPr>
        <p:blipFill>
          <a:blip r:embed="rId4"/>
          <a:stretch/>
        </p:blipFill>
        <p:spPr>
          <a:xfrm rot="518400">
            <a:off x="4483080" y="2090880"/>
            <a:ext cx="4378320" cy="350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4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8736120" cy="240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Кругосветное путешествие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Фернана   Магеллана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1519-1521г.г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C:\Users\любонька\Desktop\геоцентр система\Новая папка\15век.jpg"/>
          <p:cNvPicPr/>
          <p:nvPr/>
        </p:nvPicPr>
        <p:blipFill>
          <a:blip r:embed="rId3"/>
          <a:stretch/>
        </p:blipFill>
        <p:spPr>
          <a:xfrm>
            <a:off x="4357800" y="4143240"/>
            <a:ext cx="321444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любонька\Desktop\геоцентр система\Новая папка\магеллан.jpg"/>
          <p:cNvPicPr/>
          <p:nvPr/>
        </p:nvPicPr>
        <p:blipFill>
          <a:blip r:embed="rId4"/>
          <a:stretch/>
        </p:blipFill>
        <p:spPr>
          <a:xfrm>
            <a:off x="4786200" y="1214280"/>
            <a:ext cx="4098960" cy="271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лет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Ю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лексеевич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агари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осм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Users\любонька\Desktop\геоцентр система\Новая папка\images.jpg"/>
          <p:cNvPicPr/>
          <p:nvPr/>
        </p:nvPicPr>
        <p:blipFill>
          <a:blip r:embed="rId3"/>
          <a:stretch/>
        </p:blipFill>
        <p:spPr>
          <a:xfrm rot="716400">
            <a:off x="4250880" y="2014560"/>
            <a:ext cx="4357800" cy="388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3840" y="1143000"/>
            <a:ext cx="442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истотель обосновывал геоцентризм следующим образом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Земл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является тяжёлым телом, а естественным местом для тяжёлых тел является центр Вселенной; как показывает опыт, все тяжёлые тела падают, а поскольку они движутся к центру мира, Земля находится в цен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Users\любонька\Desktop\геоцентр система\Новая папка\геоц.jpg"/>
          <p:cNvPicPr/>
          <p:nvPr/>
        </p:nvPicPr>
        <p:blipFill>
          <a:blip r:embed="rId3"/>
          <a:stretch/>
        </p:blipFill>
        <p:spPr>
          <a:xfrm>
            <a:off x="4597560" y="1857240"/>
            <a:ext cx="3903480" cy="378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любонька\Desktop\геоцентр система\Новая папка\гелиоц.jpg"/>
          <p:cNvPicPr/>
          <p:nvPr/>
        </p:nvPicPr>
        <p:blipFill>
          <a:blip r:embed="rId2"/>
          <a:stretch/>
        </p:blipFill>
        <p:spPr>
          <a:xfrm>
            <a:off x="714240" y="1643040"/>
            <a:ext cx="3957840" cy="395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Солнце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является центральным небесным телом, вокруг которого обращается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Земля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и другие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планеты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8667720" cy="126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ольский астроном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Николай Коперник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разработал теорию движения планет вокруг Солнца. Результаты своих трудов он обнародовал в книге «О вращениях небесных сфер», изданной в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1543 год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C:\Users\любонька\Desktop\геоцентр система\Новая папка\images2.jpg"/>
          <p:cNvPicPr/>
          <p:nvPr/>
        </p:nvPicPr>
        <p:blipFill>
          <a:blip r:embed="rId5"/>
          <a:stretch/>
        </p:blipFill>
        <p:spPr>
          <a:xfrm>
            <a:off x="5000760" y="1571760"/>
            <a:ext cx="3357360" cy="41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перник полагал, что Земля совершает троякое движ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щение вокруг оси с периодом в одни сутки, следствием чего является суточное вращение небесной сфер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вижение вокруг Солнца с периодом в год, приводящее к попятным движениям план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перник  объяснил причины движений планет, вычислил расстояния планет от Солнца и периоды их обращ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любонька\Desktop\геоцентр система\Новая папка\8.jpg"/>
          <p:cNvPicPr/>
          <p:nvPr/>
        </p:nvPicPr>
        <p:blipFill>
          <a:blip r:embed="rId2"/>
          <a:stretch/>
        </p:blipFill>
        <p:spPr>
          <a:xfrm>
            <a:off x="4357800" y="1928880"/>
            <a:ext cx="458316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любонька\Desktop\геоцентр система\Новая папка\images3.jpg"/>
          <p:cNvPicPr/>
          <p:nvPr/>
        </p:nvPicPr>
        <p:blipFill>
          <a:blip r:embed="rId3"/>
          <a:stretch/>
        </p:blipFill>
        <p:spPr>
          <a:xfrm>
            <a:off x="782640" y="1571760"/>
            <a:ext cx="3075120" cy="415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Решительный шаг от гелиоцентризма к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бесконечной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Вселенной, равномерно заполненной звёздами, сделал итальянский философ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Джордано Бруно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7:39:30Z</dcterms:created>
  <dc:creator>любонька</dc:creator>
  <dc:description/>
  <dc:language>en-US</dc:language>
  <cp:lastModifiedBy>Admin</cp:lastModifiedBy>
  <dcterms:modified xsi:type="dcterms:W3CDTF">2015-10-15T17:55:09Z</dcterms:modified>
  <cp:revision>12</cp:revision>
  <dc:subject/>
  <dc:title>Развитие науки.  Устройство Вселенной.</dc:title>
</cp:coreProperties>
</file>