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0D11-A982-43BD-89BA-A108C2983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EB58-5E8C-4C21-BCD5-3495C57AA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B541-FF97-462C-98AE-440995494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4C47-BB04-4676-A1E3-E5DECC122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6786-6633-4044-9FE1-9B7222D32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6E86-B68C-42C8-B894-6296D7FA6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235A-FBE1-49AC-A030-DA53CD826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D489-271F-4F5F-94B8-2F8AFB48D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ABEC-288A-4367-80F8-C7D455B2E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6415-B6FF-44CE-AE9B-5D3E8A73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2ED5-9AF7-4024-92F0-AFCE23E65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A03F-E5DB-4DEC-BE03-A820A396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F00B2-D336-45C0-A875-95A497399E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-4680" y="237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0" y="0"/>
            <a:ext cx="9036000" cy="49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За день до рождения </a:t>
            </a:r>
            <a:br>
              <a:rPr sz="2000"/>
            </a:b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Ребенок спросил у Бога: «Я не знаю, что я </a:t>
            </a:r>
            <a:br>
              <a:rPr sz="2000"/>
            </a:b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должен делать </a:t>
            </a:r>
            <a:br>
              <a:rPr sz="2000"/>
            </a:b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в этом Мире…» Бог ответил:</a:t>
            </a:r>
            <a:br>
              <a:rPr sz="2000"/>
            </a:b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«Я подарю тебе АНГЕЛА, который ВСЕГДА </a:t>
            </a:r>
            <a:br>
              <a:rPr sz="2000"/>
            </a:b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будет с тобой!» «Но я не понимаю его язык…» «Ангел будет учить тебя    своему языку» «Он будет охранять тебя</a:t>
            </a:r>
            <a:br>
              <a:rPr sz="2000"/>
            </a:b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 от всех бед» «Как и когда я должен </a:t>
            </a:r>
            <a:br>
              <a:rPr sz="2000"/>
            </a:b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вернуться к тебе?» «Твой ангел скажет тебе </a:t>
            </a:r>
            <a:br>
              <a:rPr sz="2000"/>
            </a:b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                                           всё»   «А как зовут </a:t>
            </a:r>
            <a:br>
              <a:rPr sz="2000"/>
            </a:b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             МОЕГО АНГЕЛА ??» «Не важно </a:t>
            </a:r>
            <a:br>
              <a:rPr sz="2000"/>
            </a:b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            как его зовут…» «Ты будешь </a:t>
            </a:r>
            <a:br>
              <a:rPr sz="2000"/>
            </a:b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         звать его… МАМА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440" y="115920"/>
            <a:ext cx="9217080" cy="69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69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0" y="168120"/>
            <a:ext cx="9244080" cy="693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1160" y="122400"/>
            <a:ext cx="9209160" cy="69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-14400" y="147600"/>
            <a:ext cx="917604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0" y="147600"/>
            <a:ext cx="91756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7" name="Прямоугольник 3" descr=""/>
          <p:cNvPicPr/>
          <p:nvPr/>
        </p:nvPicPr>
        <p:blipFill>
          <a:blip r:embed="rId2"/>
          <a:stretch/>
        </p:blipFill>
        <p:spPr>
          <a:xfrm>
            <a:off x="225360" y="2908440"/>
            <a:ext cx="8845560" cy="11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-147600"/>
            <a:ext cx="9185400" cy="68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0" y="-12600"/>
            <a:ext cx="9247320" cy="67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9360"/>
            <a:ext cx="91296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-936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3240" y="0"/>
            <a:ext cx="9151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15:56:00Z</dcterms:created>
  <dc:creator>зам по УВР</dc:creator>
  <dc:description/>
  <dc:language>en-US</dc:language>
  <cp:lastModifiedBy>ASUS</cp:lastModifiedBy>
  <dcterms:modified xsi:type="dcterms:W3CDTF">2015-10-18T14:22:08Z</dcterms:modified>
  <cp:revision>14</cp:revision>
  <dc:subject/>
  <dc:title>Слайд 1</dc:title>
</cp:coreProperties>
</file>