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AE7-4D0A-4AD8-AA43-D5E050CD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C06-FDF8-4C71-AEE8-A061DA18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7F4-C28E-4B22-AB88-7F849A64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16D-920F-427D-A3B4-9731031D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BDC-E9DA-4085-9000-A94EAE85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E7F-0647-4C7F-8939-A397D92D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ABC-CDDD-4429-B36C-79FC957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CD1-69A0-4CFC-A45A-AB1471DB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7F9-CC4E-46AE-9BE8-DFE91A1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7E6-CA67-4D96-B80D-8A520F6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EA8-A97A-4142-A297-E7CBA95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F91-DDDD-4B95-8CFA-A3579F0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0C2-70D8-4BDF-BC8D-E082D35BE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468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0"/>
            <a:ext cx="9036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За день до рождения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ебенок спросил у Бога: «Я не знаю, что я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лжен делать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 этом Мире…» Бог ответил: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Я подарю тебе АНГЕЛА, который ВСЕГДА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будет с тобой!» «Но я не понимаю его язык…» «Ангел будет учить тебя    своему языку» «Он будет охранять тебя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от всех бед» «Как и когда я должен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ернуться к тебе?» «Твой ангел скажет тебе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всё»   «А как зовут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МОЕГО АНГЕЛА ??» «Не важно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как его зовут…» «Ты будешь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звать его… МАМ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40" y="115920"/>
            <a:ext cx="9217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8120"/>
            <a:ext cx="9244080" cy="69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160" y="122400"/>
            <a:ext cx="92091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4400" y="147600"/>
            <a:ext cx="91760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75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2908440"/>
            <a:ext cx="88455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147600"/>
            <a:ext cx="91854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24732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29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5:56:00Z</dcterms:created>
  <dc:creator>зам по УВР</dc:creator>
  <dc:description/>
  <dc:language>en-US</dc:language>
  <cp:lastModifiedBy>ASUS</cp:lastModifiedBy>
  <dcterms:modified xsi:type="dcterms:W3CDTF">2015-10-18T14:22:08Z</dcterms:modified>
  <cp:revision>14</cp:revision>
  <dc:subject/>
  <dc:title>Слайд 1</dc:title>
</cp:coreProperties>
</file>