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524-5D65-48CF-B5DB-A2E3887D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EEC-C28F-44EF-949D-02BA690E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821-E78E-4B49-9646-DF07660D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E9A-2460-47CE-AA0B-4C5ACB12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280-BCFB-4EB8-88C7-019CB8BF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57CF-E0FC-4B18-A892-D440C743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A14-536B-4ACA-B3C2-9A3D474D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B61A-076E-41E7-9A7B-64B4712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128-8C45-449B-B49E-36A05D8E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200" y="609120"/>
            <a:ext cx="80787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BF7C-011F-4E6C-89D6-88DF2445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477F-2CA9-4368-AA56-DF04B04C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D9A-B4C2-4C8A-B1DE-4C0C874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57E-9A72-416E-B42E-3E5C605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DEA-29B9-4490-8412-D3CA8E5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F644-E09B-430A-8E09-64C65E8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5A7-C114-4252-9096-66A856AB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2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74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2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74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A2AD-9AA9-46E5-BC07-60367B22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E8E-3196-4039-84F5-F7532711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A6D-FC93-4957-9498-60738F3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B36-D312-4956-9980-4B9652B2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200" y="609120"/>
            <a:ext cx="80787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5B1-1469-4026-B30A-E7DE92D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0A7-FDE2-477E-A094-A3EEB13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59A-79E3-4A0F-AAC9-A9CD666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718-3747-4664-BE36-2521BE1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640" y="4680"/>
            <a:ext cx="33639120" cy="16038720"/>
            <a:chOff x="-8405640" y="4680"/>
            <a:chExt cx="33639120" cy="160387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280" cy="525960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640" y="4680"/>
              <a:ext cx="33639120" cy="16038720"/>
            </a:xfrm>
            <a:custGeom>
              <a:avLst/>
              <a:gdLst>
                <a:gd name="textAreaLeft" fmla="*/ 0 w 33639120"/>
                <a:gd name="textAreaRight" fmla="*/ 16818120 w 33639120"/>
                <a:gd name="textAreaTop" fmla="*/ 0 h 16038720"/>
                <a:gd name="textAreaBottom" fmla="*/ 13688640 h 160387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3163" y="18437"/>
                  </a:moveTo>
                  <a:arcTo wR="10800" hR="10800" stAng="8100000" swAng="81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810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0787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20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fld id="{D8013544-EC00-4F95-96F5-B765C96140D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8000" y="1463760"/>
            <a:ext cx="23147280" cy="12388680"/>
            <a:chOff x="-7758000" y="1463760"/>
            <a:chExt cx="23147280" cy="1238868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0880" cy="41468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8000" y="1463760"/>
              <a:ext cx="23147280" cy="12388680"/>
            </a:xfrm>
            <a:custGeom>
              <a:avLst/>
              <a:gdLst>
                <a:gd name="textAreaLeft" fmla="*/ 0 w 23147280"/>
                <a:gd name="textAreaRight" fmla="*/ 13449960 w 23147280"/>
                <a:gd name="textAreaTop" fmla="*/ 0 h 12388680"/>
                <a:gd name="textAreaBottom" fmla="*/ 10792080 h 123886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3451" y="18714"/>
                  </a:moveTo>
                  <a:arcTo wR="10800" hR="10800" stAng="7972795" swAng="8767205"/>
                  <a:lnTo>
                    <a:pt x="10800" y="10800"/>
                  </a:lnTo>
                  <a:close/>
                </a:path>
                <a:path fill="none" w="21600" h="21600">
                  <a:moveTo>
                    <a:pt x="3451" y="18714"/>
                  </a:moveTo>
                  <a:arcTo wR="10800" hR="10800" stAng="7972795" swAng="8767205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492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E3550D-9563-423E-8038-378F4FBE186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174240"/>
            <a:ext cx="2708280" cy="12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варо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2000" y="1800360"/>
            <a:ext cx="764712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1680" y="287280"/>
            <a:ext cx="401796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3240" y="177480"/>
            <a:ext cx="4370400" cy="64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й Бог, которого создал бог «Род» , т. е. Первое воплощение «Рода»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7920" y="19810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65600" y="647640"/>
            <a:ext cx="4191120" cy="5448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арог-Бог-кузнец.Верховный бог восточных славян.В славянских сказаниях говорится что Сварог породил всех других богов. Сварог-сварганил(создал) зем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87280" y="286920"/>
            <a:ext cx="4464000" cy="5808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нашел волшебный камень Алатырь,произнёс магическое заклинание- камень вырос, и стал огромный. С помощью этого камня бог вспенил океан и морская пена застыла и стала первой суш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75280" y="36036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11640" y="2579760"/>
            <a:ext cx="2925720" cy="39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94920" y="216000"/>
            <a:ext cx="860580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же есть другое мнение, что Алатырь это метеорит, который Сварог метнул в землю, чем вызвал тектонические движения и появилась зем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11640" y="2087640"/>
            <a:ext cx="3760920" cy="457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08000" y="2664000"/>
            <a:ext cx="2879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2200" y="286920"/>
            <a:ext cx="3494160" cy="583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нно из Алатыря Сварог создал новых Богов и небесных воинов. Дажьбог- один из сыновей Свар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48000" y="287280"/>
            <a:ext cx="475164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60360" y="21600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арога называют Отец Небесный.    Именно он дал славянам плуг и научил плавить метал, и возделывать зем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0360" y="2016000"/>
            <a:ext cx="3494160" cy="4494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64000" y="2367000"/>
            <a:ext cx="352764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50880" y="439236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арог сотворил для нас Солнце (РА) . Он так же является богом огня и древние славяне считали себя внуками Свар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0000" y="71280"/>
            <a:ext cx="59734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463680"/>
            <a:ext cx="80805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имвол Сварога это МОЛОТ И НАКОВАЛЬНЯ,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52360" y="2017800"/>
            <a:ext cx="6983640" cy="424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с </cp:lastModifiedBy>
  <dcterms:modified xsi:type="dcterms:W3CDTF">2015-10-08T20:58:25Z</dcterms:modified>
  <cp:revision>16</cp:revision>
  <dc:subject/>
  <dc:title>PowerPoint Presentation</dc:title>
</cp:coreProperties>
</file>