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2F9-EFE5-4867-8C16-4225FE25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FDB-31B7-42AD-8D35-A6DE4CBD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E30-AB60-4435-A715-56176F1B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2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2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4D2-4866-4A78-A79D-F845CFE9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6226-5E96-427F-A652-D4816B23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D64A-9C9E-4BD7-A7B9-BE9B067F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6AFC-8381-4588-9BDB-FE52E284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FC4D-0346-4380-875D-3FC74A53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19EA-6B50-4A12-A34D-007F370E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200" y="609120"/>
            <a:ext cx="80787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A58A-1E2E-42D4-A019-58C59CA0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5A00-12E3-4661-8A63-704F0629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52A-C315-4C1C-849C-8DFB4A34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193E-F22F-4DF2-9B41-A76E193B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F915-7998-431B-B253-9369CC04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0B0D-C327-40FA-BC88-E15F279A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5BAE-DA78-4D68-A578-F8E5D695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2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748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2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748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24AA-CAA5-47C8-9B74-AF313F30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D52-3A0D-4961-A9A4-22F27F66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5D9-FEEA-411A-8E83-CC8817B3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0E6-EAC1-44C0-8B4D-72DCA7BB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200" y="609120"/>
            <a:ext cx="80787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FF1-08CA-4724-B5C6-8D813BB5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A5F-CFEF-4EC2-89AF-EC13BA96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E0E-9032-4166-A622-2D94977A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4DE-AFEB-4D28-9DFE-51CA4DF6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640" y="4680"/>
            <a:ext cx="33639120" cy="16038720"/>
            <a:chOff x="-8405640" y="4680"/>
            <a:chExt cx="33639120" cy="160387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280" cy="525960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640" y="4680"/>
              <a:ext cx="33639120" cy="16038720"/>
            </a:xfrm>
            <a:custGeom>
              <a:avLst/>
              <a:gdLst>
                <a:gd name="textAreaLeft" fmla="*/ 0 w 33639120"/>
                <a:gd name="textAreaRight" fmla="*/ 16818120 w 33639120"/>
                <a:gd name="textAreaTop" fmla="*/ 0 h 16038720"/>
                <a:gd name="textAreaBottom" fmla="*/ 13688640 h 160387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3163" y="18437"/>
                  </a:moveTo>
                  <a:arcTo wR="10800" hR="10800" stAng="8100000" swAng="81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810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4760" y="644220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200" y="6365880"/>
            <a:ext cx="4265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8920" y="614844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fld id="{4264B3CA-4CD6-4CDD-B598-620D3B6BC28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8000" y="1463760"/>
            <a:ext cx="23147280" cy="12388680"/>
            <a:chOff x="-7758000" y="1463760"/>
            <a:chExt cx="23147280" cy="1238868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0880" cy="41468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8000" y="1463760"/>
              <a:ext cx="23147280" cy="12388680"/>
            </a:xfrm>
            <a:custGeom>
              <a:avLst/>
              <a:gdLst>
                <a:gd name="textAreaLeft" fmla="*/ 0 w 23147280"/>
                <a:gd name="textAreaRight" fmla="*/ 13449960 w 23147280"/>
                <a:gd name="textAreaTop" fmla="*/ 0 h 12388680"/>
                <a:gd name="textAreaBottom" fmla="*/ 10792080 h 123886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3451" y="18714"/>
                  </a:moveTo>
                  <a:arcTo wR="10800" hR="10800" stAng="7972795" swAng="8767205"/>
                  <a:lnTo>
                    <a:pt x="10800" y="10800"/>
                  </a:lnTo>
                  <a:close/>
                </a:path>
                <a:path fill="none" w="21600" h="21600">
                  <a:moveTo>
                    <a:pt x="3451" y="18714"/>
                  </a:moveTo>
                  <a:arcTo wR="10800" hR="10800" stAng="7972795" swAng="8767205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4760" y="644220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4920" y="6365880"/>
            <a:ext cx="4265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8920" y="614844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52C4A8-1F42-4AE1-A623-2AECE90A769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174240"/>
            <a:ext cx="2708280" cy="12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варо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92000" y="1800360"/>
            <a:ext cx="7647120" cy="49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1680" y="287280"/>
            <a:ext cx="4017960" cy="6191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13240" y="177480"/>
            <a:ext cx="4370400" cy="64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вый Бог, которого создал бог «Род» , т. е. Первое воплощение «Рода»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7920" y="1981080"/>
            <a:ext cx="334008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65600" y="647640"/>
            <a:ext cx="4191120" cy="5448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арог-Бог-кузнец.Верховный бог восточных славян.В славянских сказаниях говорится что Сварог породил всех других богов. Сварог-сварганил(создал) земл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87280" y="286920"/>
            <a:ext cx="4464000" cy="5808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 нашел волшебный камень Алатырь,произнёс магическое заклинание- камень вырос, и стал огромный. С помощью этого камня бог вспенил океан и морская пена застыла и стала первой суш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75280" y="36036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11640" y="2579760"/>
            <a:ext cx="2925720" cy="39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94920" y="216000"/>
            <a:ext cx="860580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к же есть другое мнение, что Алатырь это метеорит, который Сварог метнул в землю, чем вызвал тектонические движения и появилась земл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11640" y="2087640"/>
            <a:ext cx="3760920" cy="457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08000" y="2664000"/>
            <a:ext cx="287964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2200" y="286920"/>
            <a:ext cx="3494160" cy="583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менно из Алатыря Сварог создал новых Богов и небесных воинов. Дажьбог- один из сыновей Сваро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48000" y="287280"/>
            <a:ext cx="475164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60360" y="216000"/>
            <a:ext cx="8640720" cy="1944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арога называют Отец Небесный.    Именно он дал славянам плуг и научил плавить метал, и возделывать земл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0360" y="2016000"/>
            <a:ext cx="3494160" cy="4494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64000" y="2367000"/>
            <a:ext cx="352764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50880" y="439236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арог сотворил для нас Солнце (РА) . Он так же является богом огня и древние славяне считали себя внуками Сваро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0000" y="71280"/>
            <a:ext cx="59734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463680"/>
            <a:ext cx="808056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имвол Сварога это МОЛОТ И НАКОВАЛЬНЯ,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52360" y="2017800"/>
            <a:ext cx="6983640" cy="424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ас </cp:lastModifiedBy>
  <dcterms:modified xsi:type="dcterms:W3CDTF">2015-10-08T20:58:25Z</dcterms:modified>
  <cp:revision>16</cp:revision>
  <dc:subject/>
  <dc:title>PowerPoint Presentation</dc:title>
</cp:coreProperties>
</file>