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24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5.jpeg" ContentType="image/jpeg"/>
  <Override PartName="/ppt/media/image26.jpeg" ContentType="image/jpeg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50C-AFAD-42E1-A414-BC06F0B2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DF2-1A0E-43BF-AD38-54BF595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819-2141-4A9A-8F07-BF02B115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FFE-99AA-4A69-8A0B-A09C75C3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A48-61D5-4989-9DA1-1C330742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51E-E447-400B-B94F-14423A6E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7A0-07A3-4AFD-A357-ED0B548C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992-1A42-4E48-9A9F-2DC9B172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764-C80D-4EEF-8D8F-0653C480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0EB-738C-4A65-BC50-2514B46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E9B-06E1-47EB-87D9-23DAC70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A64-6B0C-43A8-945C-CDC7E0B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2FE-3D4A-4094-8ED9-43654F2EE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530532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сш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БОУ №17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авкина Юли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5920"/>
            <a:ext cx="691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ем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А. С. Пушки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казка о царе Салтане...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вуки [б], [б’]. Буквы Б, 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028000" cy="681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81360" y="0"/>
            <a:ext cx="4562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344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365560" cy="163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387520" cy="31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08360" y="1844640"/>
            <a:ext cx="2016000" cy="16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222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6924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опрос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521080" cy="1522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907920"/>
            <a:ext cx="2376360" cy="15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16072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2529000" cy="1865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227640" y="2708280"/>
            <a:ext cx="2325960" cy="13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84360" y="4941720"/>
            <a:ext cx="3311280" cy="141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219640" y="5084640"/>
            <a:ext cx="356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322280" cy="655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69058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265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771640" y="4422600"/>
            <a:ext cx="36482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194940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700360" y="3141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8:31:10Z</dcterms:created>
  <dc:creator>Admin</dc:creator>
  <dc:description/>
  <dc:language>en-US</dc:language>
  <cp:lastModifiedBy>Admin</cp:lastModifiedBy>
  <dcterms:modified xsi:type="dcterms:W3CDTF">2015-10-18T12:19:31Z</dcterms:modified>
  <cp:revision>46</cp:revision>
  <dc:subject/>
  <dc:title>Слайд 1</dc:title>
</cp:coreProperties>
</file>