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24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5.jpeg" ContentType="image/jpeg"/>
  <Override PartName="/ppt/media/image26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3F6-6BF4-4489-8B94-6533E93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574-71F3-4622-9BDC-EC3A951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165-B327-4CA7-9E08-61C20BFE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510-FBEF-4E1C-89F7-58C67CFC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21A-5976-4BC2-8E17-0A5C3FBD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9ED-DF00-42A0-9A56-84A8C77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DA7-277C-4DDB-BACF-41D7143C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2A8-FE80-4A0B-B1B6-F64CA51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DF4-63FE-4987-9CC1-0B51B6F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D40-7756-48A7-ACCC-9BF0CE10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AEE-AB2E-48A6-905D-006A672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1A5-18D3-41B3-831C-40B5FF9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562-BE47-4DCD-A0E4-7730CA115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53053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ш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БОУ №17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авкина Юл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5920"/>
            <a:ext cx="691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ем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А. С. Пушк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казка о царе Салтане...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вуки [б], [б’]. Буквы Б, 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02800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81360" y="0"/>
            <a:ext cx="4562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365560" cy="163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387520" cy="31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08360" y="184464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22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6924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опрос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521080" cy="1522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907920"/>
            <a:ext cx="2376360" cy="15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16072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2529000" cy="1865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227640" y="2708280"/>
            <a:ext cx="2325960" cy="13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84360" y="4941720"/>
            <a:ext cx="3311280" cy="141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219640" y="5084640"/>
            <a:ext cx="356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322280" cy="655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69058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265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71640" y="4422600"/>
            <a:ext cx="36482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194940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700360" y="3141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8:31:10Z</dcterms:created>
  <dc:creator>Admin</dc:creator>
  <dc:description/>
  <dc:language>en-US</dc:language>
  <cp:lastModifiedBy>Admin</cp:lastModifiedBy>
  <dcterms:modified xsi:type="dcterms:W3CDTF">2015-10-18T12:19:31Z</dcterms:modified>
  <cp:revision>46</cp:revision>
  <dc:subject/>
  <dc:title>Слайд 1</dc:title>
</cp:coreProperties>
</file>