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9C94-BB44-401D-B8FA-867ED531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9B64-F8A7-4C7F-AD8A-235C7B5E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3821-11B1-4C92-A1A6-33504618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7649-F4D8-4A4A-843A-6906B47D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C328-F750-4B13-8BB8-3039284D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6A55-84DB-4A77-B0ED-53C1BBC8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CDD4-171C-46B7-825F-ED9D8177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8E0E-9E94-4770-BDA5-8C3D8459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B0C7-A21F-4E07-9B26-846B8437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4B05-969C-4D7E-88D1-0EB1D660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A1BA-37E4-4EE8-8DDB-22C82ADF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426E4-2E1E-4484-978E-DB8552D6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A8B6-0666-4919-ACD9-B4B04C01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5156-8DDD-41E3-A7AC-59A8FEB6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0E94-7114-46FE-AFF4-25E931A1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AF9A-9AFC-48A6-9D68-380B53C2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4E39-33EF-42DF-B22D-AB421973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F9837-02CC-43FA-B3E7-1B990225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CF85-8D83-4AE3-851D-88951EB6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53F8E-B3C4-4650-9AD6-55EC4BE5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6D1D-94EC-4390-A0EC-0366E750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A04FA-E0C4-4CE3-B327-1282652C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E288-BF70-42B9-8499-EECF9157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88186-9808-4878-BFC0-7AFD391C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4C4D-9C41-408B-B0B3-062F4B5B8F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00EE-4C78-492A-BF9F-DBAA061CCB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Das Skelett</a:t>
            </a:r>
            <a:br>
              <a:rPr sz="75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8920" y="90756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as Skelett ist das St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zger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 des K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ö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p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&amp;Rcy;&amp;icy;&amp;scy;. 23. &amp;Scy;&amp;kcy;&amp;iecy;&amp;lcy;&amp;iecy;&amp;tcy; &amp;chcy;&amp;iecy;&amp;lcy;&amp;ocy;&amp;vcy;&amp;iecy;&amp;kcy;&amp;acy; (&amp;vcy;&amp;icy;&amp;dcy; &amp;scy;&amp;pcy;&amp;iecy;&amp;rcy;&amp;iecy;&amp;dcy;&amp;icy;). 1 - &amp;chcy;&amp;iecy;&amp;rcy;&amp;iecy;&amp;pcy;; 2 - &amp;pcy;&amp;ocy;&amp;zcy;&amp;vcy;&amp;ocy;&amp;ncy;&amp;ocy;&amp;chcy;&amp;ncy;&amp;ycy;&amp;jcy; &amp;scy;&amp;tcy;&amp;ocy;&amp;lcy;&amp;bcy;; 3 - &amp;kcy;&amp;lcy;&amp;yucy;&amp;chcy;&amp;icy;&amp;tscy;&amp;acy;; 4 - &amp;rcy;&amp;iecy;&amp;bcy;&amp;rcy;&amp;ocy;; 5 - &amp;gcy;&amp;rcy;&amp;ucy;&amp;dcy;&amp;icy;&amp;ncy;&amp;acy;; 6 - &amp;pcy;&amp;lcy;&amp;iecy;&amp;chcy;&amp;iecy;&amp;vcy;&amp;acy;&amp;yacy; &amp;kcy;&amp;ocy;&amp;scy;&amp;tcy;&amp;softcy;; 7 - &amp;lcy;&amp;ucy;&amp;chcy;&amp;iecy;&amp;vcy;&amp;acy;&amp;yacy; &amp;kcy;&amp;ocy;&amp;scy;&amp;tcy;&amp;softcy;; 8 - &amp;lcy;&amp;ocy;&amp;kcy;&amp;tcy;&amp;iecy;&amp;vcy;&amp;acy;&amp;yacy; &amp;kcy;&amp;ocy;&amp;scy;&amp;tcy;&amp;softcy;; 9 - &amp;kcy;&amp;ocy;&amp;scy;&amp;tcy;&amp;icy; &amp;zcy;&amp;acy;&amp;pcy;&amp;yacy;&amp;scy;&amp;tcy;&amp;softcy;&amp;yacy;; 10 - &amp;pcy;&amp;yacy;&amp;scy;&amp;tcy;&amp;ncy;&amp;ycy;&amp;iecy; &amp;kcy;&amp;ocy;&amp;scy;&amp;tcy;&amp;icy;; 11 - &amp;fcy;&amp;acy;&amp;lcy;&amp;acy;&amp;ncy;&amp;gcy;&amp;icy;; 12 - &amp;scy;&amp;iecy;&amp;dcy;&amp;acy;&amp;lcy;&amp;icy;&amp;shchcy;&amp;ncy;&amp;acy;&amp;yacy; &amp;kcy;&amp;ocy;&amp;scy;&amp;tcy;&amp;softcy;; 13 - &amp;pcy;&amp;lcy;&amp;yucy;&amp;scy;&amp;ncy;&amp;iecy;&amp;vcy;&amp;ycy;&amp;iecy; &amp;kcy;&amp;ocy;&amp;scy;&amp;tcy;&amp;icy;; 14 - &amp;kcy;&amp;ocy;&amp;scy;&amp;tcy;&amp;icy; &amp;pcy;&amp;rcy;&amp;iecy;&amp;dcy;&amp;pcy;&amp;lcy;&amp;yucy;&amp;scy;&amp;ncy;&amp;ycy;; 15 - &amp;bcy;&amp;ocy;&amp;lcy;&amp;softcy;&amp;shcy;&amp;iecy;&amp;bcy;&amp;iecy;&amp;rcy;&amp;tscy;&amp;ocy;&amp;vcy;&amp;acy;&amp;yacy; &amp;kcy;&amp;ocy;&amp;scy;&amp;tcy;&amp;softcy;; 16 - &amp;mcy;&amp;acy;&amp;lcy;&amp;ocy;&amp;bcy;&amp;rcy;&amp;tscy;&amp;ocy;&amp;vcy;&amp;acy;&amp;yacy; &amp;kcy;&amp;ocy;&amp;scy;&amp;tcy;&amp;softcy;; 17 - &amp;ncy;&amp;acy;&amp;dcy;&amp;kcy;&amp;ocy;&amp;lcy;&amp;iecy;&amp;ncy;&amp;ncy;&amp;icy;&amp;kcy;; 18 - &amp;bcy;&amp;iecy;&amp;dcy;&amp;rcy;&amp;iecy;&amp;ncy;&amp;ncy;&amp;acy;&amp;yacy; &amp;kcy;&amp;ocy;&amp;scy;&amp;tcy;&amp;softcy;; 19 - &amp;lcy;&amp;ocy;&amp;bcy;&amp;kcy;&amp;ocy;&amp;vcy;&amp;acy;&amp;yacy; &amp;kcy;&amp;ocy;&amp;scy;&amp;tcy;&amp;softcy;; 20 - &amp;pcy;&amp;ocy;&amp;dcy;&amp;vcy;&amp;zcy;&amp;dcy;&amp;ocy;&amp;shcy;&amp;ncy;&amp;acy;&amp;yacy; &amp;kcy;&amp;ocy;&amp;scy;&amp;tcy;&amp;softcy;"/>
          <p:cNvPicPr/>
          <p:nvPr/>
        </p:nvPicPr>
        <p:blipFill>
          <a:blip r:embed="rId1"/>
          <a:stretch/>
        </p:blipFill>
        <p:spPr>
          <a:xfrm>
            <a:off x="5508720" y="620640"/>
            <a:ext cx="26096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e Knochen des Skeletts sind durch bindgewebige B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ä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der miteinander verbunden und durch Gelenke gegeneinander bewegli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2093760"/>
            <a:ext cx="4038480" cy="3659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456160" y="1981080"/>
            <a:ext cx="2422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as Skelett wird in folgende Abschnitte eingeteil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s Rumpfskelett enth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ä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t die Wirbel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ä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le, die Rippen und das Brustb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&amp;Rcy;&amp;icy;&amp;scy;. 35. &amp;Scy;&amp;kcy;&amp;iecy;&amp;lcy;&amp;iecy;&amp;tcy; &amp;gcy;&amp;rcy;&amp;ucy;&amp;dcy;&amp;ncy;&amp;ocy;&amp;jcy; &amp;kcy;&amp;lcy;&amp;iecy;&amp;tcy;&amp;kcy;&amp;icy;. 1 - I &amp;gcy;&amp;rcy;&amp;ucy;&amp;dcy;&amp;ncy;&amp;ocy;&amp;jcy; &amp;pcy;&amp;ocy;&amp;zcy;&amp;vcy;&amp;ocy;&amp;ncy;&amp;ocy;&amp;kcy;; 2 - &amp;kcy;&amp;lcy;&amp;yucy;&amp;chcy;&amp;icy;&amp;tscy;&amp;acy;; 3 - &amp;acy;&amp;kcy;&amp;rcy;&amp;ocy;&amp;mcy;&amp;icy;&amp;ocy;&amp;ncy;; 4 - &amp;kcy;&amp;lcy;&amp;yucy;&amp;vcy;&amp;ocy;&amp;vcy;&amp;icy;&amp;dcy;&amp;ncy;&amp;ycy;&amp;jcy; &amp;ocy;&amp;tcy;&amp;rcy;&amp;ocy;&amp;scy;&amp;tcy;&amp;ocy;&amp;kcy; &amp;lcy;&amp;ocy;&amp;pcy;&amp;acy;&amp;tcy;&amp;kcy;&amp;icy;; 5 - &amp;scy;&amp;ucy;&amp;scy;&amp;tcy;&amp;acy;&amp;vcy;&amp;ncy;&amp;acy;&amp;yacy; &amp;vcy;&amp;pcy;&amp;acy;&amp;dcy;&amp;icy;&amp;ncy;&amp;acy; &amp;lcy;&amp;ocy;&amp;pcy;&amp;acy;&amp;tcy;&amp;kcy;&amp;icy;; 6 - &amp;rcy;&amp;iecy;&amp;bcy;&amp;rcy;&amp;ocy; (IV); 7 - XII &amp;gcy;&amp;rcy;&amp;ucy;&amp;dcy;&amp;ncy;&amp;ocy;&amp;jcy; &amp;pcy;&amp;ocy;&amp;zcy;&amp;vcy;&amp;ocy;&amp;ncy;&amp;ocy;&amp;kcy;; 8 - XII &amp;rcy;&amp;iecy;&amp;bcy;&amp;rcy;&amp;ocy;; 9 - I &amp;rcy;&amp;iecy;&amp;bcy;&amp;rcy;&amp;ocy;; 10 - &amp;rcy;&amp;ucy;&amp;kcy;&amp;ocy;&amp;yacy;&amp;tcy;&amp;kcy;&amp;acy; &amp;gcy;&amp;rcy;&amp;ucy;&amp;dcy;&amp;icy;&amp;ncy;&amp;ycy;; 11 - &amp;tcy;&amp;iecy;&amp;lcy;&amp;ocy; &amp;gcy;&amp;rcy;&amp;ucy;&amp;dcy;&amp;icy;&amp;ncy;&amp;ycy;; 12 - &amp;mcy;&amp;iecy;&amp;chcy;&amp;iecy;&amp;vcy;&amp;icy;&amp;dcy;&amp;ncy;&amp;ycy;&amp;jcy; &amp;ocy;&amp;tcy;&amp;rcy;&amp;ocy;&amp;scy;&amp;tcy;&amp;ocy;&amp;kcy;"/>
          <p:cNvPicPr/>
          <p:nvPr/>
        </p:nvPicPr>
        <p:blipFill>
          <a:blip r:embed="rId1"/>
          <a:stretch/>
        </p:blipFill>
        <p:spPr>
          <a:xfrm>
            <a:off x="4356000" y="1989000"/>
            <a:ext cx="378612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403848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s Kopfskelett setzt sich aus dem Hirnsch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ä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 und dem Gesichtssch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ä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 zusam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&amp;Rcy;&amp;icy;&amp;scy;. 55. &amp;CHcy;&amp;iecy;&amp;rcy;&amp;iecy;&amp;pcy; (&amp;vcy;&amp;icy;&amp;dcy; &amp;scy;&amp;pcy;&amp;iecy;&amp;rcy;&amp;iecy;&amp;dcy;&amp;icy;). 1 - &amp;lcy;&amp;ocy;&amp;bcy;&amp;ncy;&amp;acy;&amp;yacy; &amp;kcy;&amp;ocy;&amp;scy;&amp;tcy;&amp;softcy;; 2 - &amp;tcy;&amp;iecy;&amp;mcy;&amp;iecy;&amp;ncy;&amp;ncy;&amp;acy;&amp;yacy; &amp;kcy;&amp;ocy;&amp;scy;&amp;tcy;&amp;softcy;; 3 - &amp;ncy;&amp;ocy;&amp;scy;&amp;ocy;&amp;vcy;&amp;acy;&amp;yacy; &amp;kcy;&amp;ocy;&amp;scy;&amp;tcy;&amp;softcy;; 4 - &amp;kcy;&amp;lcy;&amp;icy;&amp;ncy;&amp;ocy;&amp;vcy;&amp;icy;&amp;dcy;&amp;ncy;&amp;acy;&amp;yacy; &amp;kcy;&amp;ocy;&amp;scy;&amp;tcy;&amp;softcy;; 5 - &amp;vcy;&amp;icy;&amp;scy;&amp;ocy;&amp;chcy;&amp;ncy;&amp;acy;&amp;yacy; &amp;kcy;&amp;ocy;&amp;scy;&amp;tcy;&amp;softcy;; 6 - &amp;gcy;&amp;lcy;&amp;acy;&amp;zcy;&amp;ncy;&amp;icy;&amp;tscy;&amp;acy;; 7 - &amp;scy;&amp;lcy;&amp;iecy;&amp;zcy;&amp;ncy;&amp;acy;&amp;yacy; &amp;kcy;&amp;ocy;&amp;scy;&amp;tcy;&amp;softcy;; 8 - &amp;scy;&amp;kcy;&amp;ucy;&amp;lcy;&amp;ocy;&amp;vcy;&amp;acy;&amp;yacy; &amp;kcy;&amp;ocy;&amp;scy;&amp;tcy;&amp;softcy;; 9 - &amp;vcy;&amp;iecy;&amp;rcy;&amp;khcy;&amp;ncy;&amp;yacy;&amp;yacy; &amp;chcy;&amp;iecy;&amp;lcy;&amp;yucy;&amp;scy;&amp;tcy;&amp;softcy;; 10 - &amp;gcy;&amp;rcy;&amp;ucy;&amp;shcy;&amp;iecy;&amp;vcy;&amp;icy;&amp;dcy;&amp;ncy;&amp;acy;&amp;yacy; &amp;acy;&amp;pcy;&amp;iecy;&amp;rcy;&amp;tcy;&amp;ucy;&amp;rcy;&amp;acy;; 11 - &amp;ncy;&amp;icy;&amp;zhcy;&amp;ncy;&amp;yacy;&amp;yacy; &amp;chcy;&amp;iecy;&amp;lcy;&amp;yucy;&amp;scy;&amp;tcy;&amp;softcy;; 12 - &amp;pcy;&amp;ocy;&amp;dcy;&amp;bcy;&amp;ocy;&amp;rcy;&amp;ocy;&amp;dcy;&amp;ocy;&amp;chcy;&amp;ncy;&amp;ocy;&amp;iecy; &amp;ocy;&amp;tcy;&amp;vcy;&amp;iecy;&amp;rcy;&amp;scy;&amp;tcy;&amp;icy;&amp;iecy;; 13 - &amp;pcy;&amp;ocy;&amp;dcy;&amp;gcy;&amp;lcy;&amp;acy;&amp;zcy;&amp;ncy;&amp;icy;&amp;chcy;&amp;ncy;&amp;ocy;&amp;iecy; &amp;ocy;&amp;tcy;&amp;vcy;&amp;iecy;&amp;rcy;&amp;scy;&amp;tcy;&amp;icy;&amp;iecy;; 14 - &amp;pcy;&amp;ocy;&amp;dcy;&amp;gcy;&amp;lcy;&amp;acy;&amp;zcy;&amp;ncy;&amp;icy;&amp;chcy;&amp;ncy;&amp;ycy;&amp;jcy; &amp;kcy;&amp;rcy;&amp;acy;&amp;jcy;; 15 - &amp;ncy;&amp;icy;&amp;zhcy;&amp;ncy;&amp;yacy;&amp;yacy; &amp;gcy;&amp;lcy;&amp;acy;&amp;zcy;&amp;ncy;&amp;icy;&amp;chcy;&amp;ncy;&amp;acy;&amp;yacy; &amp;shchcy;&amp;iecy;&amp;lcy;&amp;softcy;; 16 - &amp;zcy;&amp;rcy;&amp;icy;&amp;tcy;&amp;iecy;&amp;lcy;&amp;softcy;&amp;ncy;&amp;ycy;&amp;jcy; &amp;kcy;&amp;acy;&amp;ncy;&amp;acy;&amp;lcy;; 17 - &amp;vcy;&amp;iecy;&amp;rcy;&amp;khcy;&amp;ncy;&amp;yacy;&amp;yacy; &amp;gcy;&amp;lcy;&amp;acy;&amp;zcy;&amp;ncy;&amp;icy;&amp;chcy;&amp;ncy;&amp;acy;&amp;yacy; &amp;shchcy;&amp;iecy;&amp;lcy;&amp;softcy;; 18 - &amp;ncy;&amp;acy;&amp;dcy;&amp;gcy;&amp;lcy;&amp;acy;&amp;zcy;&amp;ncy;&amp;icy;&amp;chcy;&amp;ncy;&amp;ycy;&amp;jcy; &amp;kcy;&amp;rcy;&amp;acy;&amp;jcy;; 19 - &amp;vcy;&amp;iecy;&amp;rcy;&amp;khcy;&amp;ncy;&amp;yacy;&amp;yacy; &amp;vcy;&amp;icy;&amp;scy;&amp;ocy;&amp;chcy;&amp;ncy;&amp;acy;&amp;yacy; &amp;lcy;&amp;icy;&amp;ncy;&amp;icy;&amp;yacy;; 20 - &amp;lcy;&amp;ocy;&amp;bcy;&amp;ncy;&amp;ycy;&amp;jcy; &amp;bcy;&amp;ucy;&amp;gcy;&amp;ocy;&amp;rcy;; 21 - &amp;lcy;&amp;ocy;&amp;bcy;&amp;ncy;&amp;acy;&amp;yacy; &amp;chcy;&amp;iecy;&amp;shcy;&amp;ucy;&amp;yacy;"/>
          <p:cNvPicPr/>
          <p:nvPr/>
        </p:nvPicPr>
        <p:blipFill>
          <a:blip r:embed="rId1"/>
          <a:stretch/>
        </p:blipFill>
        <p:spPr>
          <a:xfrm>
            <a:off x="5651640" y="476280"/>
            <a:ext cx="2590560" cy="3333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&amp;Rcy;&amp;icy;&amp;scy;. 56. &amp;CHcy;&amp;iecy;&amp;rcy;&amp;iecy;&amp;pcy; (&amp;vcy;&amp;icy;&amp;dcy; &amp;scy;&amp;lcy;&amp;iecy;&amp;vcy;&amp;acy;). 1 - &amp;lcy;&amp;ocy;&amp;bcy;&amp;ncy;&amp;acy;&amp;yacy; &amp;kcy;&amp;ocy;&amp;scy;&amp;tcy;&amp;softcy;; 2, 3 - &amp;vcy;&amp;iecy;&amp;rcy;&amp;khcy;&amp;ncy;&amp;icy;&amp;iecy; &amp;vcy;&amp;icy;&amp;scy;&amp;ocy;&amp;chcy;&amp;ncy;&amp;ycy;&amp;iecy; &amp;lcy;&amp;icy;&amp;ncy;&amp;icy;&amp;icy;; 4 - &amp;ncy;&amp;icy;&amp;zhcy;&amp;ncy;&amp;yacy;&amp;yacy; &amp;vcy;&amp;icy;&amp;scy;&amp;ocy;&amp;chcy;&amp;ncy;&amp;acy;&amp;yacy; &amp;lcy;&amp;icy;&amp;ncy;&amp;icy;&amp;yacy;; 5 - &amp;tcy;&amp;iecy;&amp;mcy;&amp;iecy;&amp;ncy;&amp;ncy;&amp;acy;&amp;yacy; &amp;kcy;&amp;ocy;&amp;scy;&amp;tcy;&amp;softcy;; 6 - &amp;zcy;&amp;acy;&amp;tcy;&amp;ycy;&amp;lcy;&amp;ocy;&amp;chcy;&amp;ncy;&amp;acy;&amp;yacy; &amp;kcy;&amp;ocy;&amp;scy;&amp;tcy;&amp;softcy;; 7 - &amp;vcy;&amp;icy;&amp;scy;&amp;ocy;&amp;chcy;&amp;ncy;&amp;acy;&amp;yacy; &amp;kcy;&amp;ocy;&amp;scy;&amp;tcy;&amp;softcy;; 8 - &amp;scy;&amp;ocy;&amp;scy;&amp;tscy;&amp;iecy;&amp;vcy;&amp;icy;&amp;dcy;&amp;ncy;&amp;ycy;&amp;jcy; &amp;ocy;&amp;tcy;&amp;rcy;&amp;ocy;&amp;scy;&amp;tcy;&amp;ocy;&amp;kcy;; 9 - &amp;ncy;&amp;acy;&amp;rcy;&amp;ucy;&amp;zhcy;&amp;ncy;&amp;ycy;&amp;jcy; &amp;scy;&amp;lcy;&amp;ucy;&amp;khcy;&amp;ocy;&amp;vcy;&amp;ocy;&amp;jcy; &amp;pcy;&amp;rcy;&amp;ocy;&amp;khcy;&amp;ocy;&amp;dcy;; 10 - &amp;scy;&amp;kcy;&amp;ucy;&amp;lcy;&amp;ocy;&amp;vcy;&amp;acy;&amp;yacy; &amp;dcy;&amp;ucy;&amp;gcy;&amp;acy;; 11 - &amp;ncy;&amp;icy;&amp;zhcy;&amp;ncy;&amp;yacy;&amp;yacy; &amp;chcy;&amp;iecy;&amp;lcy;&amp;yucy;&amp;scy;&amp;tcy;&amp;softcy;; 12 - &amp;pcy;&amp;ocy;&amp;dcy;&amp;bcy;&amp;ocy;&amp;rcy;&amp;ocy;&amp;dcy;&amp;ocy;&amp;chcy;&amp;ncy;&amp;ocy;&amp;iecy; &amp;ocy;&amp;tcy;&amp;vcy;&amp;iecy;&amp;rcy;&amp;scy;&amp;tcy;&amp;icy;&amp;iecy;; 13 - &amp;vcy;&amp;iecy;&amp;rcy;&amp;khcy;&amp;ncy;&amp;yacy;&amp;yacy; &amp;chcy;&amp;iecy;&amp;lcy;&amp;yucy;&amp;scy;&amp;tcy;&amp;softcy;; 14 - &amp;scy;&amp;kcy;&amp;ucy;&amp;lcy;&amp;ocy;&amp;vcy;&amp;acy;&amp;yacy; &amp;kcy;&amp;ocy;&amp;scy;&amp;tcy;&amp;softcy;; 15 - &amp;scy;&amp;lcy;&amp;iecy;&amp;zcy;&amp;ncy;&amp;acy;&amp;yacy; &amp;kcy;&amp;ocy;&amp;scy;&amp;tcy;&amp;softcy;; 16 - &amp;ncy;&amp;ocy;&amp;scy;&amp;ocy;&amp;vcy;&amp;acy;&amp;yacy; &amp;kcy;&amp;ocy;&amp;scy;&amp;tcy;&amp;softcy;; 17 - &amp;kcy;&amp;lcy;&amp;icy;&amp;ncy;&amp;ocy;&amp;vcy;&amp;icy;&amp;dcy;&amp;ncy;&amp;acy;&amp;yacy; &amp;kcy;&amp;ocy;&amp;scy;&amp;tcy;&amp;softcy; (&amp;bcy;&amp;ocy;&amp;lcy;&amp;softcy;&amp;shcy;&amp;ocy;&amp;iecy; &amp;kcy;&amp;rcy;&amp;ycy;&amp;lcy;&amp;ocy;); &amp;Acy; - &amp;vcy;&amp;iecy;&amp;ncy;&amp;iecy;&amp;chcy;&amp;ncy;&amp;ycy;&amp;jcy; &amp;shcy;&amp;ocy;&amp;vcy;; &amp;Bcy; - &amp;chcy;&amp;iecy;&amp;shcy;&amp;ucy;&amp;jcy;&amp;chcy;&amp;acy;&amp;tcy;&amp;ycy;&amp;jcy; &amp;shcy;&amp;ocy;&amp;vcy;; &amp;Vcy; - &amp;lcy;&amp;acy;&amp;mcy;&amp;bcy;&amp;dcy;&amp;ocy;&amp;vcy;&amp;icy;&amp;dcy;&amp;ncy;&amp;ycy;&amp;jcy; &amp;shcy;&amp;ocy;&amp;vcy;"/>
          <p:cNvPicPr/>
          <p:nvPr/>
        </p:nvPicPr>
        <p:blipFill>
          <a:blip r:embed="rId2"/>
          <a:stretch/>
        </p:blipFill>
        <p:spPr>
          <a:xfrm>
            <a:off x="5508720" y="3913200"/>
            <a:ext cx="295092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umpfskelett und Kopfskelett zusammen bilden das Stammskelet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&amp;Rcy;&amp;icy;&amp;scy;. 30. &amp;Pcy;&amp;ocy;&amp;zcy;&amp;vcy;&amp;ocy;&amp;ncy;&amp;ocy;&amp;chcy;&amp;ncy;&amp;ycy;&amp;jcy; &amp;scy;&amp;tcy;&amp;ocy;&amp;lcy;&amp;bcy;. &amp;Acy; - &amp;vcy;&amp;icy;&amp;dcy; &amp;scy;&amp;pcy;&amp;iecy;&amp;rcy;&amp;iecy;&amp;dcy;&amp;icy;; 1 - &amp;shcy;&amp;iecy;&amp;jcy;&amp;ncy;&amp;ycy;&amp;iecy; &amp;pcy;&amp;ocy;&amp;zcy;&amp;vcy;&amp;ocy;&amp;ncy;&amp;kcy;&amp;icy;; 2 - &amp;gcy;&amp;rcy;&amp;ucy;&amp;dcy;&amp;ncy;&amp;ycy;&amp;iecy; &amp;pcy;&amp;ocy;&amp;zcy;&amp;vcy;&amp;ocy;&amp;ncy;&amp;kcy;&amp;icy;; 3 - &amp;pcy;&amp;ocy;&amp;yacy;&amp;scy;&amp;ncy;&amp;icy;&amp;chcy;&amp;ncy;&amp;ycy;&amp;iecy; &amp;pcy;&amp;ocy;&amp;zcy;&amp;vcy;&amp;ocy;&amp;ncy;&amp;kcy;&amp;icy;; 4 - &amp;kcy;&amp;rcy;&amp;iecy;&amp;scy;&amp;tcy;&amp;iecy;&amp;tscy;; 5 - &amp;kcy;&amp;ocy;&amp;pcy;&amp;chcy;&amp;icy;&amp;kcy;; &amp;Bcy; - &amp;scy;&amp;rcy;&amp;iecy;&amp;dcy;&amp;icy;&amp;ncy;&amp;ncy;&amp;ycy;&amp;jcy; &amp;rcy;&amp;acy;&amp;scy;&amp;pcy;&amp;icy;&amp;lcy; &amp;chcy;&amp;iecy;&amp;rcy;&amp;iecy;&amp;zcy; &amp;pcy;&amp;ocy;&amp;zcy;&amp;vcy;&amp;ocy;&amp;ncy;&amp;ocy;&amp;chcy;&amp;ncy;&amp;ycy;&amp;jcy; &amp;scy;&amp;tcy;&amp;ocy;&amp;lcy;&amp;bcy;; I, II, III, IV - &amp;gcy;&amp;rcy;&amp;acy;&amp;ncy;&amp;icy;&amp;tscy;&amp;ycy; &amp;mcy;&amp;iecy;&amp;zhcy;&amp;dcy;&amp;ucy; &amp;ocy;&amp;tcy;&amp;dcy;&amp;iecy;&amp;lcy;&amp;acy;&amp;mcy;&amp;icy; &amp;pcy;&amp;ocy;&amp;zcy;&amp;vcy;&amp;ocy;&amp;ncy;&amp;ocy;&amp;chcy;&amp;ncy;&amp;ocy;&amp;gcy;&amp;ocy; &amp;scy;&amp;tcy;&amp;ocy;&amp;lcy;&amp;bcy;&amp;acy;; V - &amp;gcy;&amp;rcy;&amp;ucy;&amp;dcy;&amp;ncy;&amp;ocy;&amp;jcy; &amp;kcy;&amp;icy;&amp;fcy;&amp;ocy;&amp;zcy;; VI - &amp;pcy;&amp;ocy;&amp;yacy;&amp;scy;&amp;ncy;&amp;icy;&amp;chcy;&amp;ncy;&amp;ycy;&amp;jcy; &amp;lcy;&amp;ocy;&amp;rcy;&amp;dcy;&amp;ocy;&amp;zcy;"/>
          <p:cNvPicPr/>
          <p:nvPr/>
        </p:nvPicPr>
        <p:blipFill>
          <a:blip r:embed="rId1"/>
          <a:stretch/>
        </p:blipFill>
        <p:spPr>
          <a:xfrm>
            <a:off x="3708360" y="1557360"/>
            <a:ext cx="220032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s Gliedermassenskelett  (oder das Extremi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ä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nskelett) besteht aus den Knochen des Schulterg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ü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es und des Beckeng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ü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es sowie aus den Knochen der freien Gliederma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&amp;Rcy;&amp;icy;&amp;scy;. 36. &amp;Scy;&amp;kcy;&amp;iecy;&amp;lcy;&amp;iecy;&amp;tcy; &amp;vcy;&amp;iecy;&amp;rcy;&amp;khcy;&amp;ncy;&amp;iecy;&amp;jcy; &amp;kcy;&amp;ocy;&amp;ncy;&amp;iecy;&amp;chcy;&amp;ncy;&amp;ocy;&amp;scy;&amp;tcy;&amp;icy; (&amp;pcy;&amp;rcy;&amp;acy;&amp;vcy;&amp;ocy;&amp;jcy;). 1 - &amp;kcy;&amp;lcy;&amp;yucy;&amp;chcy;&amp;icy;&amp;tscy;&amp;acy;; 2 - &amp;lcy;&amp;ocy;&amp;pcy;&amp;acy;&amp;tcy;&amp;kcy;&amp;acy;; 3 - &amp;pcy;&amp;lcy;&amp;iecy;&amp;chcy;&amp;iecy;&amp;vcy;&amp;acy;&amp;yacy; &amp;kcy;&amp;ocy;&amp;scy;&amp;tcy;&amp;softcy;; 4 - &amp;lcy;&amp;ocy;&amp;kcy;&amp;tcy;&amp;iecy;&amp;vcy;&amp;acy;&amp;yacy; &amp;kcy;&amp;ocy;&amp;scy;&amp;tcy;&amp;softcy;;. 5 - &amp;lcy;&amp;ucy;&amp;chcy;&amp;iecy;&amp;vcy;&amp;acy;&amp;yacy; &amp;kcy;&amp;ocy;&amp;scy;&amp;tcy;&amp;softcy;; 6 - &amp;kcy;&amp;ocy;&amp;scy;&amp;tcy;&amp;icy; &amp;zcy;&amp;acy;&amp;pcy;&amp;yacy;&amp;scy;&amp;tcy;&amp;softcy;&amp;yacy;; 7 - &amp;kcy;&amp;ocy;&amp;scy;&amp;tcy;&amp;icy; &amp;pcy;&amp;yacy;&amp;scy;&amp;tcy;&amp;icy;; 8 - &amp;fcy;&amp;acy;&amp;lcy;&amp;acy;&amp;ncy;&amp;gcy;&amp;icy; &amp;pcy;&amp;acy;&amp;lcy;&amp;softcy;&amp;tscy;&amp;iecy;&amp;vcy;"/>
          <p:cNvPicPr/>
          <p:nvPr/>
        </p:nvPicPr>
        <p:blipFill>
          <a:blip r:embed="rId1"/>
          <a:stretch/>
        </p:blipFill>
        <p:spPr>
          <a:xfrm>
            <a:off x="4788000" y="404640"/>
            <a:ext cx="1785960" cy="5950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&amp;Rcy;&amp;icy;&amp;scy;. 44. &amp;Scy;&amp;kcy;&amp;iecy;&amp;lcy;&amp;iecy;&amp;tcy; &amp;ncy;&amp;icy;&amp;zhcy;&amp;ncy;&amp;iecy;&amp;jcy; &amp;kcy;&amp;ocy;&amp;ncy;&amp;iecy;&amp;chcy;&amp;ncy;&amp;ocy;&amp;scy;&amp;tcy;&amp;icy; (&amp;pcy;&amp;rcy;&amp;acy;&amp;vcy;&amp;ocy;&amp;jcy;). 1 - &amp;kcy;&amp;rcy;&amp;iecy;&amp;scy;&amp;tcy;&amp;iecy;&amp;tscy;; 2 - &amp;tcy;&amp;acy;&amp;zcy;&amp;ocy;&amp;vcy;&amp;acy;&amp;yacy; &amp;kcy;&amp;ocy;&amp;scy;&amp;tcy;&amp;softcy;; 3 - &amp;bcy;&amp;iecy;&amp;dcy;&amp;rcy;&amp;iecy;&amp;ncy;&amp;ncy;&amp;acy;&amp;yacy; &amp;kcy;&amp;ocy;&amp;scy;&amp;tcy;&amp;softcy;; 4 - &amp;ncy;&amp;acy;&amp;dcy;&amp;kcy;&amp;ocy;&amp;lcy;&amp;iecy;&amp;ncy;&amp;ncy;&amp;icy;&amp;kcy;; 5 - &amp;bcy;&amp;ocy;&amp;lcy;&amp;softcy;&amp;shcy;&amp;iecy;&amp;bcy;&amp;iecy;&amp;rcy;&amp;tscy;&amp;ocy;&amp;vcy;&amp;acy;&amp;yacy; &amp;kcy;&amp;ocy;&amp;scy;&amp;tcy;&amp;softcy;; 6 - &amp;mcy;&amp;acy;&amp;lcy;&amp;ocy;&amp;bcy;&amp;iecy;&amp;rcy;&amp;tscy;&amp;ocy;&amp;vcy;&amp;acy;&amp;yacy; &amp;kcy;&amp;ocy;&amp;scy;&amp;tcy;&amp;softcy;; 7 - &amp;kcy;&amp;ocy;&amp;scy;&amp;tcy;&amp;icy; &amp;pcy;&amp;rcy;&amp;iecy;&amp;dcy;&amp;pcy;&amp;lcy;&amp;yucy;&amp;scy;&amp;ncy;&amp;ycy;; 8 - &amp;pcy;&amp;lcy;&amp;yucy;&amp;scy;&amp;ncy;&amp;iecy;&amp;vcy;&amp;ycy;&amp;iecy; &amp;kcy;&amp;ocy;&amp;scy;&amp;tcy;&amp;icy;; 9 - &amp;fcy;&amp;acy;&amp;lcy;&amp;acy;&amp;ncy;&amp;gcy;&amp;icy;"/>
          <p:cNvPicPr/>
          <p:nvPr/>
        </p:nvPicPr>
        <p:blipFill>
          <a:blip r:embed="rId2"/>
          <a:stretch/>
        </p:blipFill>
        <p:spPr>
          <a:xfrm>
            <a:off x="6877080" y="404640"/>
            <a:ext cx="148572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as Skelett vereinigt in sich hohe Festigkeit und grosse Elastizit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ä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5594"/>
          <a:stretch/>
        </p:blipFill>
        <p:spPr>
          <a:xfrm>
            <a:off x="3348000" y="2060640"/>
            <a:ext cx="2786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300" spc="-1" strike="noStrike">
                <a:solidFill>
                  <a:srgbClr val="ffffff"/>
                </a:solidFill>
                <a:latin typeface="Arial"/>
              </a:rPr>
              <a:t>Vielen Dank für Ihre Aufmerksamkeit</a:t>
            </a:r>
            <a:r>
              <a:rPr b="0" lang="ru-RU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5:25:13Z</dcterms:created>
  <dc:creator>PC</dc:creator>
  <dc:description/>
  <dc:language>en-US</dc:language>
  <cp:lastModifiedBy>STOSCOMP</cp:lastModifiedBy>
  <dcterms:modified xsi:type="dcterms:W3CDTF">2015-10-13T08:25:42Z</dcterms:modified>
  <cp:revision>7</cp:revision>
  <dc:subject/>
  <dc:title>Das Skelett </dc:title>
</cp:coreProperties>
</file>