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6.jpeg" ContentType="image/jpeg"/>
  <Override PartName="/ppt/media/chimes.wav" ContentType="audio/x-wav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  <p:custShowLst>
    <p:custShow name="Произвольный показ 1" id="0">
      <p:sldLst>
        <p:sld r:id="rId7"/>
        <p:sld r:id="rId16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F21-A936-4DE2-AF50-356DF98E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626-47B5-430A-A88A-B86BAD6A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86E-F5E4-4EBB-B2E9-58B0AFE0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FDF-2628-4D8E-ABBA-CD87FE0E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7D19-5134-489D-A28C-ED2B49A2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AD78-6F1A-473B-91CD-E4B4D6A8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B0A5-CF2E-48C6-A707-A98D64AE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99CC-D68C-40C8-9D06-C1E40CA9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45C0-4B02-454E-A8AD-5F29404E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8E9B-2746-42B4-B4C6-97850E5E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3418-411A-4CD6-931F-7A115A92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3B2-565C-4AFE-8BD8-E4422419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3F89-EC31-4F24-9FD6-28B30D9B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8C41-5D4C-4DB2-9866-F50C63C0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74D9-2EF5-45CF-8FB8-F20BBC8D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1FC6-8A6B-46E5-AA75-C6AE1519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E801-3F4E-4D08-9A7D-CF157755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5783E-9869-4E7D-B847-B8275D19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D83EF-7239-4609-A69C-F16F6CCE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4F795-9BB7-46DF-946A-229A4C58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C3F05-7C40-48CD-9830-CF49F3B1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9CDAB-FD78-451F-A0F5-4499F875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49A-46F1-4D2F-9793-0AD7DB4C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65C95-8004-4B0F-8E18-93599754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04170-5452-4676-82AD-EC705E51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9040E-F8FE-4D2F-A274-79375E41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581AC-E931-41A5-92D9-8F4FB7BC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7F2D2-2ED0-4850-8654-CEC036DF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52435-AA31-443E-8812-DB1DAA1E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FE940-5088-4DEB-BEFF-785D4996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518ED-1F78-40FA-81A9-DDC96A3B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DD222-45D0-4C03-84B2-AA91BB9E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05A2D-4860-4E17-86B8-6A0CA6CE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F45-5F03-40A1-8B18-EF07A5EB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F7C4A-9B70-46FC-A07B-14673CE9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3027F-8AB3-432E-B605-D6A6F5A2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7EBB8-AC2A-44C9-AE30-7F45CB4C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79EB1-919E-4843-9AE0-E6F6AC00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7A930-48E8-4857-848C-2877D4BB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6C6DB-7521-4E9A-AE1E-4A607B1C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70BE7-B84C-414C-A467-47E5CA33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163B2-FEE4-4983-9142-2DBA927D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EDB70-FB71-4BE2-A5CD-D9AC0A35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1C38B-02F6-4FEA-ACCF-AB6556A0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497-60C4-408A-8605-50DF1354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111E2-0B20-47C9-B500-89BE1A01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310EA-D6A1-4A49-B1D7-CE0BCE87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E4494-027C-4784-B4CC-816C01B1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FE61F-5625-4CAB-B303-BDE64E32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9CD84-B755-433A-80F4-923E9BB9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CBB21-B703-49F6-890F-DC15B28F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4313D-14CC-462C-9A9E-BA66354F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8B7E1-BBF2-4FF0-A16D-6C97CDC2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1CD65-FD7F-4F73-80C2-73BF2C59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9B328-77CF-4D29-B0A4-935D71A7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E91-1E89-4D35-A3BC-CC3813A7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3DDDD-08DE-429A-BCC7-6DA83469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6259-D302-4E0F-95EE-842DEBA1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210-40D5-48DF-92DD-F5CC0D72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94EA-0F0C-4C0D-97F0-06545995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D6C9-FC45-4B4F-B12E-85FA98AEF06C}" type="slidenum">
              <a:rPr b="0" lang="ru-RU" sz="1000" spc="-1" strike="noStrike">
                <a:solidFill>
                  <a:srgbClr val="a2aba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6F53-4ECF-4127-ADDC-0C5AB5CDB1F3}" type="slidenum">
              <a:rPr b="0" lang="ru-RU" sz="1000" spc="-1" strike="noStrike">
                <a:solidFill>
                  <a:srgbClr val="a2aba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BF11-0B8E-4534-B54F-DC2308C9ACB5}" type="slidenum">
              <a:rPr b="0" lang="ru-RU" sz="1000" spc="-1" strike="noStrike">
                <a:solidFill>
                  <a:srgbClr val="a2aba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D44B-3A9F-4F3A-87DA-78729109F47B}" type="slidenum">
              <a:rPr b="0" lang="ru-RU" sz="1000" spc="-1" strike="noStrike">
                <a:solidFill>
                  <a:srgbClr val="a2aba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3BA9-CBCA-468E-BEE7-F1CF44F8F5DE}" type="slidenum">
              <a:rPr b="0" lang="ru-RU" sz="1000" spc="-1" strike="noStrike">
                <a:solidFill>
                  <a:srgbClr val="a2aba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857840"/>
            <a:ext cx="81835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848fba"/>
                </a:solidFill>
                <a:latin typeface="Verdana"/>
              </a:rPr>
              <a:t>2014 ел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21" name="~PP34067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356840" y="1214280"/>
            <a:ext cx="6357960" cy="3857760"/>
          </a:xfrm>
          <a:prstGeom prst="rect">
            <a:avLst/>
          </a:prstGeom>
          <a:solidFill>
            <a:srgbClr val="ecf1f5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70c0"/>
                </a:solidFill>
                <a:latin typeface="Verdana"/>
              </a:rPr>
              <a:t>Кыргый хайваннар темасына презента</a:t>
            </a:r>
            <a:r>
              <a:rPr b="0" lang="ru-RU" sz="4400" spc="-1" strike="noStrike">
                <a:solidFill>
                  <a:srgbClr val="0070c0"/>
                </a:solidFill>
                <a:latin typeface="Verdana"/>
              </a:rPr>
              <a:t>ц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Verdana"/>
              </a:rPr>
              <a:t>Волк - бүре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44" name="~PP117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:\Users\User\Desktop\фотки\волк.jpg"/>
          <p:cNvPicPr/>
          <p:nvPr/>
        </p:nvPicPr>
        <p:blipFill>
          <a:blip r:embed="rId2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Обезьяна - маймыл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47" name="Picture 4" descr="C:\Users\User\Desktop\фотки\обезьяна.jpg"/>
          <p:cNvPicPr/>
          <p:nvPr/>
        </p:nvPicPr>
        <p:blipFill>
          <a:blip r:embed="rId1"/>
          <a:stretch/>
        </p:blipFill>
        <p:spPr>
          <a:xfrm>
            <a:off x="711360" y="530280"/>
            <a:ext cx="776736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fba"/>
                </a:solidFill>
                <a:latin typeface="Verdana"/>
              </a:rPr>
              <a:t>Медведь - аю </a:t>
            </a:r>
            <a:br>
              <a:rPr sz="3200"/>
            </a:br>
            <a:endParaRPr b="1" lang="en-US" sz="3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49" name="~PP217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C:\Users\User\Desktop\фотки\медведь1.jpg"/>
          <p:cNvPicPr/>
          <p:nvPr/>
        </p:nvPicPr>
        <p:blipFill>
          <a:blip r:embed="rId2"/>
          <a:stretch/>
        </p:blipFill>
        <p:spPr>
          <a:xfrm>
            <a:off x="1141560" y="530280"/>
            <a:ext cx="690696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848fba"/>
                </a:solidFill>
                <a:latin typeface="Verdana"/>
              </a:rPr>
              <a:t>Лось - поши</a:t>
            </a:r>
            <a:br>
              <a:rPr sz="3200"/>
            </a:br>
            <a:endParaRPr b="1" lang="en-US" sz="3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52" name="~PP233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User\Desktop\фотки\лось.jpg"/>
          <p:cNvPicPr/>
          <p:nvPr/>
        </p:nvPicPr>
        <p:blipFill>
          <a:blip r:embed="rId2"/>
          <a:stretch/>
        </p:blipFill>
        <p:spPr>
          <a:xfrm>
            <a:off x="873000" y="530280"/>
            <a:ext cx="744408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Кенгуру - көнгерә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55" name="Picture 2" descr="C:\Users\User\Desktop\фотки\кенгуру.jpg"/>
          <p:cNvPicPr/>
          <p:nvPr/>
        </p:nvPicPr>
        <p:blipFill>
          <a:blip r:embed="rId1"/>
          <a:stretch/>
        </p:blipFill>
        <p:spPr>
          <a:xfrm>
            <a:off x="3198960" y="530280"/>
            <a:ext cx="279216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~PP333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200" spc="-1" strike="noStrike">
                <a:solidFill>
                  <a:srgbClr val="ff4995"/>
                </a:solidFill>
                <a:latin typeface="Verdana"/>
              </a:rPr>
              <a:t>Назовите животных – хайваннарны атагыз</a:t>
            </a:r>
            <a:br>
              <a:rPr sz="2200"/>
            </a:br>
            <a:endParaRPr b="1" lang="en-US" sz="2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58" name="Picture 5" descr="C:\Users\User\Desktop\фотки\угадай.jpg"/>
          <p:cNvPicPr/>
          <p:nvPr/>
        </p:nvPicPr>
        <p:blipFill>
          <a:blip r:embed="rId2"/>
          <a:stretch/>
        </p:blipFill>
        <p:spPr>
          <a:xfrm>
            <a:off x="1427040" y="1017720"/>
            <a:ext cx="633600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848fba"/>
                </a:solidFill>
                <a:latin typeface="Verdana"/>
              </a:rPr>
              <a:t>Белка - тиен</a:t>
            </a:r>
            <a:br>
              <a:rPr sz="3200"/>
            </a:br>
            <a:endParaRPr b="1" lang="en-US" sz="3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24" name="~PP34082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Users\User\Desktop\фотки\белка.jpg"/>
          <p:cNvPicPr/>
          <p:nvPr/>
        </p:nvPicPr>
        <p:blipFill>
          <a:blip r:embed="rId2"/>
          <a:stretch/>
        </p:blipFill>
        <p:spPr>
          <a:xfrm>
            <a:off x="2095560" y="530280"/>
            <a:ext cx="499896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848fba"/>
                </a:solidFill>
                <a:latin typeface="Verdana"/>
              </a:rPr>
              <a:t>Заяц - куян</a:t>
            </a:r>
            <a:br>
              <a:rPr sz="3200"/>
            </a:br>
            <a:endParaRPr b="1" lang="en-US" sz="3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27" name="~PP22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:\Users\User\Desktop\фотки\013.jpeg"/>
          <p:cNvPicPr/>
          <p:nvPr/>
        </p:nvPicPr>
        <p:blipFill>
          <a:blip r:embed="rId2"/>
          <a:stretch/>
        </p:blipFill>
        <p:spPr>
          <a:xfrm>
            <a:off x="2214720" y="103824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652640"/>
            <a:ext cx="8183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Слон - фил</a:t>
            </a:r>
            <a:endParaRPr b="1" lang="en-US" sz="3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382840" y="1284120"/>
            <a:ext cx="4424400" cy="26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fba"/>
                </a:solidFill>
                <a:latin typeface="Verdana"/>
              </a:rPr>
              <a:t>Ёж - керпе</a:t>
            </a:r>
            <a:endParaRPr b="1" lang="en-US" sz="3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32" name="~PP42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Users\User\Desktop\фотки\ёж.jpg"/>
          <p:cNvPicPr/>
          <p:nvPr/>
        </p:nvPicPr>
        <p:blipFill>
          <a:blip r:embed="rId2"/>
          <a:stretch/>
        </p:blipFill>
        <p:spPr>
          <a:xfrm>
            <a:off x="1876320" y="530280"/>
            <a:ext cx="543744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501300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Лев - арыслан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35" name="Picture 2" descr="C:\Users\User\Desktop\фотки\лев.jpg"/>
          <p:cNvPicPr/>
          <p:nvPr/>
        </p:nvPicPr>
        <p:blipFill>
          <a:blip r:embed="rId1"/>
          <a:stretch/>
        </p:blipFill>
        <p:spPr>
          <a:xfrm>
            <a:off x="2016000" y="530280"/>
            <a:ext cx="515808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ff4995"/>
                </a:solidFill>
                <a:latin typeface="Verdana"/>
              </a:rPr>
              <a:t>Кабан – кабан ду</a:t>
            </a:r>
            <a:r>
              <a:rPr b="1" lang="tt-RU" sz="3200" spc="-1" strike="noStrike">
                <a:solidFill>
                  <a:srgbClr val="ff4995"/>
                </a:solidFill>
                <a:latin typeface="Verdana"/>
              </a:rPr>
              <a:t>ңгызы</a:t>
            </a:r>
            <a:endParaRPr b="1" lang="en-US" sz="3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37" name="Picture 2" descr="C:\Users\User\Desktop\фотки\кабан.jpg"/>
          <p:cNvPicPr/>
          <p:nvPr/>
        </p:nvPicPr>
        <p:blipFill>
          <a:blip r:embed="rId1"/>
          <a:stretch/>
        </p:blipFill>
        <p:spPr>
          <a:xfrm>
            <a:off x="1706400" y="530280"/>
            <a:ext cx="577692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fba"/>
                </a:solidFill>
                <a:latin typeface="Verdana"/>
              </a:rPr>
              <a:t>Лиса - төлке</a:t>
            </a:r>
            <a:endParaRPr b="1" lang="en-US" sz="32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39" name="~PP617.WAV" descr=""/>
          <p:cNvPicPr/>
          <p:nvPr/>
        </p:nvPicPr>
        <p:blipFill>
          <a:blip r:embed="rId1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:\Users\User\Desktop\фотки\лиса.jpg"/>
          <p:cNvPicPr/>
          <p:nvPr/>
        </p:nvPicPr>
        <p:blipFill>
          <a:blip r:embed="rId2"/>
          <a:stretch/>
        </p:blipFill>
        <p:spPr>
          <a:xfrm>
            <a:off x="2351160" y="530280"/>
            <a:ext cx="448776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797360"/>
            <a:ext cx="8183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4995"/>
                </a:solidFill>
                <a:latin typeface="Verdana"/>
              </a:rPr>
              <a:t>Тигр -юлбарыс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pic>
        <p:nvPicPr>
          <p:cNvPr id="242" name="Picture 2" descr="C:\Users\User\Desktop\фотки\тигр.jpg"/>
          <p:cNvPicPr/>
          <p:nvPr/>
        </p:nvPicPr>
        <p:blipFill>
          <a:blip r:embed="rId1"/>
          <a:stretch/>
        </p:blipFill>
        <p:spPr>
          <a:xfrm>
            <a:off x="1547640" y="836640"/>
            <a:ext cx="5832720" cy="35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12:53:42Z</dcterms:created>
  <dc:creator>ФАИЗ</dc:creator>
  <dc:description/>
  <dc:language>en-US</dc:language>
  <cp:lastModifiedBy>User</cp:lastModifiedBy>
  <dcterms:modified xsi:type="dcterms:W3CDTF">2015-10-18T13:15:59Z</dcterms:modified>
  <cp:revision>78</cp:revision>
  <dc:subject/>
  <dc:title>Учитель татарского языка и литературы в Лагерской СОШ</dc:title>
</cp:coreProperties>
</file>