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DEF-11FF-4BD3-B00F-0FFBD900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3F0-428E-4239-AC8F-58D2B554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B08-1BFF-4699-A7B9-815987ED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EB0-E5F3-4C7C-B2CC-5BCCBFC6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C1E4-DD3C-4B37-A12A-9A505C2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4C0-6CD0-40EE-AD98-3FED9482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4EE1-6EDB-4AF6-95EC-CBA512D6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9EA3-B25D-4B76-A564-13F0F6D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BCD-BB89-4348-A4FF-7B5DC57F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9E4B-AC60-46C8-950C-7D16FAF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2B4-0008-4E79-9487-BE40E07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026-0563-43CF-B695-B070FF8B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1CF-449A-4446-AAB1-54035BC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4F31-930B-44E6-BCC6-CC2DFD7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2BA5-8464-4168-9C71-94750D2D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558C-A321-4501-AF04-0841014A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AE1-B77C-4906-98F8-6536D529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B98-E30D-4F5D-956C-333289AC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A7F-5D61-462C-B419-B121644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39C-6BF5-4909-943B-3D247B6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4D4-31F1-4A9B-AAE8-194366E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CCF-94FD-4935-A4C8-BB3D7CA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709-E105-41B3-82D2-AD990FF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F94-2B70-481A-8048-4F2A291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286-90DB-4DFD-9E3D-F81468BBD5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58B-6E3B-45B2-83AA-0B4A3470EB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Нормативно-правовая база инклюзивного образования в России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5333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ГОСУДАРСТВЕННА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ОГРАММА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«Доступная среда»на 2011-2015 год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а 9.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предпосылок для развития инклюзивного образования, в том числе создания безбарьерной школьной среды для детей-инвалид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Требования налич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пециальных образовательных программ, разработанных с учетом индивидуальной программы реабилитации инвалид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рекционных метод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хнических средств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пециально подготовленных педагог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едицинское обслуживани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циальные и иные услов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З «Об образовани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атья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Инклюзивное образование - обеспечение равного доступа к образованию для всех обучающихся с учетом разнообразия особых образовательных потребностей и индивидуальных возможнос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атья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беспечение права на образование в течение всей жизни в соответствии с потребностями личности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к уровню подготовки, особенностям развития, способностям и интересам человека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Национальная образовательная инициатива  Наша новая школа (2010 год)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для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личностного разви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психологического  комфо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здоров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фессиональный стандарт педагог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ость  овладения новыми компетенция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в условиях программ  инклюзивного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с учащимися,  имеющими проблемы в разви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ФГОС для детей с ОВ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арантировать каждому ребенку с ОВЗ реализацию права на образование, соответствующего его потребностям и возможностям, в не зависимости о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епени тяжести нарушения психического развит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и к освоению цензового уровня образова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ида учебного заведе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гиона прожи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отребность в дифференцированном ФГОС для детей с ОВЗ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-за неоднородности состава учащихся требуется дифференцированный стандарт для каждой категории детей с ОВЗ-разработка вариантов, на практике обеспечивающих охват всех детей образованием, соответствующим их возможностям и потребност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02680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ам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е  основной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иям  образов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онечному уровню образования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(цензовый, нецензовый, индивидуальный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d050"/>
                </a:solidFill>
                <a:latin typeface="Arial"/>
              </a:rPr>
              <a:t>Предмет стандартизации – требования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Академический» компон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копление  ЗУН для их активной реализации в настоящем и будущем для личного, профессионального и социального разви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омпонент «жизненной  компетенции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владение  знаниями, умениями и навыками, уже сейчас  необходимыми ребенку в обыденной жиз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ec"/>
                </a:solidFill>
                <a:latin typeface="Arial"/>
              </a:rPr>
              <a:t>Нормативно-правовая баз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ждународные (подписанные СССР или  Россие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едеральные(Конституция, законы, кодексы- семейный, гражданский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авительственные( постановления, распоряж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домственные(Министерства образования СССР и РФ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гиональ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витие адекватных представлений о собственных возможностях и ограничениях, о насущно необходимом жизнеобеспечен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владение социально-бытовыми умениями, используемыми в повседневной жиз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владение навыками коммуник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ифференциация и осмысление картины мира, ее временно-пространственно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смысление своего социального окружения и освоению соответствующих возрасту системы ценностей и социальных ро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543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Первый вариант СФГОС (цензовый уровень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95280" y="1341000"/>
            <a:ext cx="4691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лноценное осво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ервого варианта СФГОС ребенком с ОВЗ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ычной школе возможно при создании услов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реализации особых образователь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требностей, включая специальную помощь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формировании жизненной компет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308320"/>
            <a:ext cx="3249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ебенок получает цензовое образование - сопоставимое по уровню с образованием здоровых сверстников, находясь в их среде и в те же календарные сроки. При этом среда и рабочее место ребенка должны быть организованы в соответствии с особенностями ограничений его здоровь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Второй вариант СФГОС (цензовый уровень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лноценное освоение второго варианта стандарта возможно при создании специальных условий для реализации как общих, так и особых образовательных потребностей всех обучающихся дет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торой вариант стандарта отличается от первого усилением внимания к формированию полноценной жизненной компетенции, использованию полученных знаний в повседневн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работа по введению ребенка в более сложную социальную среду. Обязательной является организованная интеграция, выбор ее формы должен отвечать индивидуальным потребностям каждого учащего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ебенок получает цензовое образование, но в иные - пролонгированные - сроки, находясь в среде сверстников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со сходными проблемами здоровья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Допускается введение 1-2 учащихся с иными проблемами здоровья, но сходными возможностями в получении цензового образования в данных условиях. Среда и рабочее место организуются в соответствии с составом учащихся клас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Третий вариант СФГОС (не цензовый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Ребенок получает  школьное образование, по уровню соответствующее возможностям ребенка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с умеренной умственной отсталостью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группе детей со сходными образовательными потребностя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язательной является организация специального обучения и воспит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структуре основной образовательной программы при неизбежном значительном редуцировании “академического” компонента кардинально расширяется область развития жизненной компетенции применительно к каждой области образ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работа по введению ребенка в более сложную социальную среду с целью расширения опыта контактов и </a:t>
            </a:r>
            <a:r>
              <a:rPr b="0" lang="en-US" sz="1500" spc="-1" strike="noStrike">
                <a:solidFill>
                  <a:srgbClr val="330066"/>
                </a:solidFill>
                <a:latin typeface="Arial"/>
              </a:rPr>
              <a:t>максимально возможной для него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циальной интегр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едусматривается для детей с ОВЗ, не способных к освоению  цензового уровня школьного образования даже в пролонгированные сроки и при наличии специальных условий обуч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Этот вариант СФГОС ориентирован на детей с умеренной умственной отсталостью или детей с множественными нарушениями развития, чьи возможности в получении образования сопоставимы с ни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1100" spc="-1" strike="noStrike">
                <a:solidFill>
                  <a:srgbClr val="330066"/>
                </a:solidFill>
                <a:latin typeface="Arial"/>
              </a:rPr>
              <a:t>Четвертый вариант 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330066"/>
                </a:solidFill>
                <a:latin typeface="Arial"/>
              </a:rPr>
              <a:t>( индивидуальный уровень образования</a:t>
            </a:r>
            <a:r>
              <a:rPr b="0" lang="en-US" sz="1300" spc="-1" strike="noStrike">
                <a:solidFill>
                  <a:srgbClr val="330066"/>
                </a:solidFill>
                <a:latin typeface="Arial"/>
              </a:rPr>
              <a:t>)</a:t>
            </a:r>
            <a:br>
              <a:rPr sz="1300"/>
            </a:br>
            <a:endParaRPr b="1" lang="en-US" sz="1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бязательной и единственно возможной является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ая основная образовательная программа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 структуре индивидуальной основной образовательной программы при неизбежном и существенном редуцировании “академического” компонента кардинально расширяется область развития жизненной компетенци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организация всей жизни ребенка для реализации его особых образовательных потребностей в условиях школы и дом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ограммой предусматривается специальная работа по включению ребенка в детский коллектив, введение в более сложную предметную и социальную среду. Поэтапно и планомерно расширяется жизненный опыт и повседневные социальные контакты в доступных для ребенка предела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сключается изоляция ребенка от образовательной системы и замыкание в условиях дома или учреждения социальной защи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Этот вариант стандарта предусматривается для детей, в силу выраженности и тяжести проблем здоровья, находившихся до настоящего времени вне системы образования, фактически признаваемых «необучаемыми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0066"/>
                </a:solidFill>
                <a:latin typeface="Arial"/>
              </a:rPr>
              <a:t>Варианты СФГОС, предусмотренные для детей с ОВЗ: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55640" y="1601640"/>
          <a:ext cx="7777080" cy="5054760"/>
        </p:xfrm>
        <a:graphic>
          <a:graphicData uri="http://schemas.openxmlformats.org/drawingml/2006/table">
            <a:tbl>
              <a:tblPr/>
              <a:tblGrid>
                <a:gridCol w="1555920"/>
                <a:gridCol w="1555560"/>
                <a:gridCol w="1554120"/>
                <a:gridCol w="1555920"/>
                <a:gridCol w="1555560"/>
              </a:tblGrid>
              <a:tr h="50508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детей с ОВ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рианты СФГО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ух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ослышащ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еп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овидящ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47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речевыми нарушениям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47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двигательными нарушения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ЗП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0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ственно отстал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расстройствами аутистического спект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Отдельный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Какие надо внести изменения в законодательство для развития инклюзиии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ьные станд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специальных условий для обучения и воспит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нняя помощ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фессиональное образ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8d8ec"/>
                </a:solidFill>
                <a:latin typeface="Arial"/>
              </a:rPr>
              <a:t>Международные документы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от 10 декабря 1948год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прав ребенка ( провозглашена Резолюцией Генеральной Ассамблеи ООН от 20 ноября 1959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о правах умственно- отсталых лиц (от 20 декабря 1971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о правах инвалидов( 09 декабря 1975г.), которая признала все гражданские  и политические права инвали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андартные Правила обеспечения равных возможностей для инвалидов (1993г.). Это основной всеобъемлющий документ, посвященный правам инвали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аламанкская декларация «Рамки действий по образованию лиц с особыми  потребностями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нвенция о правах инвалидов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ec"/>
                </a:solidFill>
                <a:latin typeface="Arial"/>
              </a:rPr>
              <a:t>Федеральные документы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онституция РФ, статья 43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Федеральный Закон «Об образовани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Федеральный Закон «О социальной защите инвалидов в Российской Федерации»,1995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Федеральный Закон «Об основных гарантиях прав ребенка в Российской Федерации», от 24. 07. 1998г.№124-Ф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Национальная образовательная инициатива «Наша новая школа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 утверждена Президентом РФ Д.А.Медведевым 04.02 2010г., Пр-27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8d8ec"/>
                </a:solidFill>
                <a:latin typeface="Arial"/>
              </a:rPr>
              <a:t>Документы Правительства РФ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№288 от 12. 03.1997г. «Об утверждении Типового положения о специальном (коррекционном) образовательном учреждении для обучающихся, воспитанников с отклонениями в развитии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поряжением  Правительства РФ от 07.02.2011г.№163-р утверждена Концепция Федеральной целевой программы развития образования на 2011-2015г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сударственная программа РФ «Доступная среда» на 2011-2015годы, утвержденная  Постановлением Правительства РФ от 17.03.2011г. № 17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2.09.2008г. № 666 «Об утверждении Типового положения о ДОУ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(Приказ Минобрнауки РФ от 23. 11.2009г. №655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 разработке основной общеобразовательной программы дошкольного образования» ( Письмо Минобрнауки от 21.10.2010г.№03-248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"Рекомендации по организации групп кратковременного пребывания детей в дошкольных образовательных учреждениях" (Минобразование России) 31.07.2ОО2г. № 271/23-16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ec"/>
                </a:solidFill>
                <a:latin typeface="Arial"/>
              </a:rPr>
              <a:t>Ведомственные документ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цепция интегрированного обучения лиц с ограниченными возможностями здоровь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Письмо Минобрнауки от 16.04.2001г.№29/1524-6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 создании условий для получения образования детьми с ограниченными возможностями здоровья и детьми- инвалидами» (Письмо Минобрнауки Р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 18 04 2008г. №АФ-150/06). В данном письме рассматриваются вопросы организации инклюзивного образов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  интегрированном воспитании и обучении детей с отклонениями в развитии в дошкольных образовательных учреждениях» ( Письмо Минобразования РФ от 16.01.2002г.№03-51-5ин/23-03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Всемирная конференция по образованию лиц с особыми потребностями: доступность и качество (Саламанка, Испания, 7-10 июня 1994 г.)</a:t>
            </a:r>
            <a:br>
              <a:rPr sz="1600"/>
            </a:b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Декларация о принципах, политике и практической деятельности в сфере образования лиц с особыми потребностями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аждый ребенок имеет основное право на образование и должен иметь возможности  получать и поддерживать приемлемый уровень знаний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лица, имеющие особые потребности в области образования, должны иметь доступ к обучению в обычных школах, которые должны создать им условия на основе педагогических методов, ориентированных в первую очередь на детей с целью удовлетворения этих потребностей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обычные школы с такой инклюзивной ориентацией являются наиболее эффективным средством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борьбы с дискриминационными воззрениями,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 создания благоприятной атмосферы в общинах, построения инклюзивного общества и обеспечения образования для всех; более того, они обеспечивают реальное образование для большинства детей и повышают эффективнос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и в конечном счете рентабельность системы образования.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Конвенция о правах инвалидов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татья 24 Образ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Государства-участники признают право инвалидов на образование. В целях реализации этого права без дискриминации и на основе равенства возможностей государства-участники обеспечивают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нклюзивно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разование на всех уровнях и обучение в течение всей жиз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ри реализации этого права государства-участники обеспечивают, чтоб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) инвалиды не исключались по причине инвалидности из системы общего образования, а дети-инвалиды  — из системы бесплатного и обязательного начального образования или среднего образов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нвалиды имели наравне с другими доступ к инклюзивному, качественному и бесплатному начальному образованию и среднему образованию в местах своего прожив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) обеспечивалось разумное приспособление, учитывающее индивидуальные потреб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инвалиды получали внутри системы общего образования требуемую поддержку для облегчения их эффективного обуч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5-15T14:21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