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BD3-93FF-4155-BC7E-FC95267A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F20-505E-47FF-AFEF-53D99E0F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DB0F-DF16-4BA6-B730-83DDC420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6B8-7A2B-4AF1-92BA-719E0187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1314-FE2E-4E00-9660-428DBEAA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DB08-9C3C-4B4E-A8D4-F758BB38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87C4-0DD7-42F3-B075-931CE820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BFDE-71A3-4A77-A2D2-93FD59B6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A2F1-43A2-4F52-8860-C8DFEF9B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3A57-3C2A-4A33-832B-12EF6B8C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43F2-8201-402D-B0EE-AF397F74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9F3-84E2-46C4-AE50-81BD5757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B779-951D-4D35-B75D-51C68755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5430-51B4-44A2-8574-2E899875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A0D3-6725-47A7-98C9-83FF5C0C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5BA6-AAD1-4BCF-A536-65A1D1DA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D5F1-B72C-4D20-A291-2DCE1ADA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AB1-832E-4BB8-B584-43D6A95E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5A2-2DF9-486B-92B0-F3141D15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849-150B-4CEA-A4AB-C19DEA50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179-11FC-46C4-8064-4937E86B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E6C-1D70-48E6-B174-3A975AFD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1966-A182-4274-816D-B642D55F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619-4158-4609-8462-82F75C54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0F23-E467-4F4A-9E98-E5CE4A19AB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460E-A718-4299-B3EF-ED75103CE7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Нормативно-правовая база инклюзивного образования в России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720" y="53337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ГОСУДАРСТВЕННАЯ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ПРОГРАММА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«Доступная среда»на 2011-2015 годы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ава 9.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здание предпосылок для развития инклюзивного образования, в том числе создания безбарьерной школьной среды для детей-инвалид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Требования наличи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пециальных образовательных программ, разработанных с учетом индивидуальной программы реабилитации инвалидов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ррекционных методов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технических средств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пециально подготовленных педагогов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едицинское обслуживание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циальные и иные услов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З «Об образовании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татья 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Инклюзивное образование - обеспечение равного доступа к образованию для всех обучающихся с учетом разнообразия особых образовательных потребностей и индивидуальных возможност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татья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беспечение права на образование в течение всей жизни в соответствии с потребностями личности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адаптивность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системы образования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к уровню подготовки, особенностям развития, способностям и интересам человека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Национальная образовательная инициатива  Наша новая школа (2010 год)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кола для все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кола личностного развит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кола психологического  комфо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кола здоровь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офессиональный стандарт педагог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обходимость  овладения новыми компетенциям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бота в условиях программ  инклюзивного образ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бота с учащимися,  имеющими проблемы в развит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СФГОС для детей с ОВЗ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арантировать каждому ребенку с ОВЗ реализацию права на образование, соответствующего его потребностям и возможностям, в не зависимости о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епени тяжести нарушения психического развити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особности к освоению цензового уровня образовани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ида учебного заведени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гиона прожи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Потребность в дифференцированном ФГОС для детей с ОВЗ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-за неоднородности состава учащихся требуется дифференцированный стандарт для каждой категории детей с ОВЗ-разработка вариантов, на практике обеспечивающих охват всех детей образованием, соответствующим их возможностям и потребност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202680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зультатам образ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е  основной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ловиям  образов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конечному уровню образования 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(цензовый, нецензовый, индивидуальный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2d050"/>
                </a:solidFill>
                <a:latin typeface="Arial"/>
              </a:rPr>
              <a:t>Предмет стандартизации – требования: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«Академический» компонен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копление  ЗУН для их активной реализации в настоящем и будущем для личного, профессионального и социального развит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Компонент «жизненной  компетенции»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владение  знаниями, умениями и навыками, уже сейчас  необходимыми ребенку в обыденной жиз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8d8ec"/>
                </a:solidFill>
                <a:latin typeface="Arial"/>
              </a:rPr>
              <a:t>Нормативно-правовая баз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международные (подписанные СССР или  Россией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федеральные(Конституция, законы, кодексы- семейный, гражданский и др.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авительственные( постановления, распоряжения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едомственные(Министерства образования СССР и РФ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егиональны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азвитие адекватных представлений о собственных возможностях и ограничениях, о насущно необходимом жизнеобеспечен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владение социально-бытовыми умениями, используемыми в повседневной жиз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владение навыками коммуник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Дифференциация и осмысление картины мира, ее временно-пространственной орган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смысление своего социального окружения и освоению соответствующих возрасту системы ценностей и социальных роле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5438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0066"/>
                </a:solidFill>
                <a:latin typeface="Arial"/>
              </a:rPr>
              <a:t>Первый вариант СФГОС (цензовый уровень)</a:t>
            </a:r>
            <a:br>
              <a:rPr sz="1700"/>
            </a:b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95280" y="1341000"/>
            <a:ext cx="4691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олноценное освоен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ервого варианта СФГОС ребенком с ОВЗ 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бычной школе возможно при создании услов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для реализации особых образователь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отребностей, включая специальную помощь 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формировании жизненной компетенц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2308320"/>
            <a:ext cx="324972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Ребенок получает цензовое образование - сопоставимое по уровню с образованием здоровых сверстников, находясь в их среде и в те же календарные сроки. При этом среда и рабочее место ребенка должны быть организованы в соответствии с особенностями ограничений его здоровь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0066"/>
                </a:solidFill>
                <a:latin typeface="Arial"/>
              </a:rPr>
              <a:t>Второй вариант СФГОС (цензовый уровень)</a:t>
            </a:r>
            <a:br>
              <a:rPr sz="1700"/>
            </a:b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олноценное освоение второго варианта стандарта возможно при создании специальных условий для реализации как общих, так и особых образовательных потребностей всех обучающихся дете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торой вариант стандарта отличается от первого усилением внимания к формированию полноценной жизненной компетенции, использованию полученных знаний в повседневной жизн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редусматривается специальная работа по введению ребенка в более сложную социальную среду. Обязательной является организованная интеграция, выбор ее формы должен отвечать индивидуальным потребностям каждого учащего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Ребенок получает цензовое образование, но в иные - пролонгированные - сроки, находясь в среде сверстников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со сходными проблемами здоровья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Допускается введение 1-2 учащихся с иными проблемами здоровья, но сходными возможностями в получении цензового образования в данных условиях. Среда и рабочее место организуются в соответствии с составом учащихся клас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0066"/>
                </a:solidFill>
                <a:latin typeface="Arial"/>
              </a:rPr>
              <a:t>Третий вариант СФГОС (не цензовый)</a:t>
            </a:r>
            <a:br>
              <a:rPr sz="1700"/>
            </a:b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Ребенок получает  школьное образование, по уровню соответствующее возможностям ребенка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с умеренной умственной отсталостью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группе детей со сходными образовательными потребностя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бязательной является организация специального обучения и воспита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структуре основной образовательной программы при неизбежном значительном редуцировании “академического” компонента кардинально расширяется область развития жизненной компетенции применительно к каждой области образова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редусматривается специальная работа по введению ребенка в более сложную социальную среду с целью расширения опыта контактов и </a:t>
            </a:r>
            <a:r>
              <a:rPr b="0" lang="en-US" sz="1500" spc="-1" strike="noStrike">
                <a:solidFill>
                  <a:srgbClr val="330066"/>
                </a:solidFill>
                <a:latin typeface="Arial"/>
              </a:rPr>
              <a:t>максимально возможной для него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социальной интеграц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редусматривается для детей с ОВЗ, не способных к освоению  цензового уровня школьного образования даже в пролонгированные сроки и при наличии специальных условий обуч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Этот вариант СФГОС ориентирован на детей с умеренной умственной отсталостью или детей с множественными нарушениями развития, чьи возможности в получении образования сопоставимы с ним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1100" spc="-1" strike="noStrike">
                <a:solidFill>
                  <a:srgbClr val="330066"/>
                </a:solidFill>
                <a:latin typeface="Arial"/>
              </a:rPr>
              <a:t>Четвертый вариант 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330066"/>
                </a:solidFill>
                <a:latin typeface="Arial"/>
              </a:rPr>
              <a:t>( индивидуальный уровень образования</a:t>
            </a:r>
            <a:r>
              <a:rPr b="0" lang="en-US" sz="1300" spc="-1" strike="noStrike">
                <a:solidFill>
                  <a:srgbClr val="330066"/>
                </a:solidFill>
                <a:latin typeface="Arial"/>
              </a:rPr>
              <a:t>)</a:t>
            </a:r>
            <a:br>
              <a:rPr sz="1300"/>
            </a:br>
            <a:endParaRPr b="1" lang="en-US" sz="1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Обязательной и единственно возможной является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индивидуальная основная образовательная программа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В структуре индивидуальной основной образовательной программы при неизбежном и существенном редуцировании “академического” компонента кардинально расширяется область развития жизненной компетенци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редусматривается специальная организация всей жизни ребенка для реализации его особых образовательных потребностей в условиях школы и дома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рограммой предусматривается специальная работа по включению ребенка в детский коллектив, введение в более сложную предметную и социальную среду. Поэтапно и планомерно расширяется жизненный опыт и повседневные социальные контакты в доступных для ребенка пределах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Исключается изоляция ребенка от образовательной системы и замыкание в условиях дома или учреждения социальной защит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Этот вариант стандарта предусматривается для детей, в силу выраженности и тяжести проблем здоровья, находившихся до настоящего времени вне системы образования, фактически признаваемых «необучаемыми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0066"/>
                </a:solidFill>
                <a:latin typeface="Arial"/>
              </a:rPr>
              <a:t>Варианты СФГОС, предусмотренные для детей с ОВЗ: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755640" y="1601640"/>
          <a:ext cx="7777080" cy="5054760"/>
        </p:xfrm>
        <a:graphic>
          <a:graphicData uri="http://schemas.openxmlformats.org/drawingml/2006/table">
            <a:tbl>
              <a:tblPr/>
              <a:tblGrid>
                <a:gridCol w="1555920"/>
                <a:gridCol w="1555560"/>
                <a:gridCol w="1554120"/>
                <a:gridCol w="1555920"/>
                <a:gridCol w="1555560"/>
              </a:tblGrid>
              <a:tr h="505080"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ия детей с ОВ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рианты СФГО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лухи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абослышащи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635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епы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абовидящ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7477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ти с речевыми нарушениям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7477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ти с двигательными нарушения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ти с ЗП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5047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мственно отсталы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ти с расстройствами аутистического спект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4" descr="Отдельный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Какие надо внести изменения в законодательство для развития инклюзиии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пециальные станда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здание специальных условий для обучения и воспит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ормативы финанс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нняя помощ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фессиональное образ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8d8ec"/>
                </a:solidFill>
                <a:latin typeface="Arial"/>
              </a:rPr>
              <a:t>Международные документы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сеобщая декларация прав человека от 10 декабря 1948год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екларация прав ребенка ( провозглашена Резолюцией Генеральной Ассамблеи ООН от 20 ноября 1959г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екларация о правах умственно- отсталых лиц (от 20 декабря 1971г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екларация о правах инвалидов( 09 декабря 1975г.), которая признала все гражданские  и политические права инвалид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тандартные Правила обеспечения равных возможностей для инвалидов (1993г.). Это основной всеобъемлющий документ, посвященный правам инвалид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аламанкская декларация «Рамки действий по образованию лиц с особыми  потребностями»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Конвенция о правах инвалидов 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8d8ec"/>
                </a:solidFill>
                <a:latin typeface="Arial"/>
              </a:rPr>
              <a:t>Федеральные документы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Конституция РФ, статья 43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Федеральный Закон «Об образовани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Федеральный Закон «О социальной защите инвалидов в Российской Федерации»,1995г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Федеральный Закон «Об основных гарантиях прав ребенка в Российской Федерации», от 24. 07. 1998г.№124-ФЗ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 Национальная образовательная инициатива «Наша новая школа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 утверждена Президентом РФ Д.А.Медведевым 04.02 2010г., Пр-271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8d8ec"/>
                </a:solidFill>
                <a:latin typeface="Arial"/>
              </a:rPr>
              <a:t>Документы Правительства РФ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№288 от 12. 03.1997г. «Об утверждении Типового положения о специальном (коррекционном) образовательном учреждении для обучающихся, воспитанников с отклонениями в развитии»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споряжением  Правительства РФ от 07.02.2011г.№163-р утверждена Концепция Федеральной целевой программы развития образования на 2011-2015год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Государственная программа РФ «Доступная среда» на 2011-2015годы, утвержденная  Постановлением Правительства РФ от 17.03.2011г. № 175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от 12.09.2008г. № 666 «Об утверждении Типового положения о ДОУ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 утверждении и введении в действие Федеральных Государственных Требований к структуре основной общеобразовательной программы дошкольного образования(Приказ Минобрнауки РФ от 23. 11.2009г. №655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 разработке основной общеобразовательной программы дошкольного образования» ( Письмо Минобрнауки от 21.10.2010г.№03-248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"Рекомендации по организации групп кратковременного пребывания детей в дошкольных образовательных учреждениях" (Минобразование России) 31.07.2ОО2г. № 271/23-16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8d8ec"/>
                </a:solidFill>
                <a:latin typeface="Arial"/>
              </a:rPr>
              <a:t>Ведомственные документы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нцепция интегрированного обучения лиц с ограниченными возможностями здоровья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Письмо Минобрнауки от 16.04.2001г.№29/1524-6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 создании условий для получения образования детьми с ограниченными возможностями здоровья и детьми- инвалидами» (Письмо Минобрнауки РФ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 18 04 2008г. №АФ-150/06). В данном письме рассматриваются вопросы организации инклюзивного образов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  интегрированном воспитании и обучении детей с отклонениями в развитии в дошкольных образовательных учреждениях» ( Письмо Минобразования РФ от 16.01.2002г.№03-51-5ин/23-03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Всемирная конференция по образованию лиц с особыми потребностями: доступность и качество (Саламанка, Испания, 7-10 июня 1994 г.)</a:t>
            </a:r>
            <a:br>
              <a:rPr sz="1600"/>
            </a:br>
            <a:r>
              <a:rPr b="1" lang="en-US" sz="1600" spc="-1" strike="noStrike">
                <a:solidFill>
                  <a:srgbClr val="330066"/>
                </a:solidFill>
                <a:latin typeface="Arial"/>
              </a:rPr>
              <a:t>Декларация о принципах, политике и практической деятельности в сфере образования лиц с особыми потребностями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каждый ребенок имеет основное право на образование и должен иметь возможности  получать и поддерживать приемлемый уровень знаний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лица, имеющие особые потребности в области образования, должны иметь доступ к обучению в обычных школах, которые должны создать им условия на основе педагогических методов, ориентированных в первую очередь на детей с целью удовлетворения этих потребностей,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обычные школы с такой инклюзивной ориентацией являются наиболее эффективным средством </a:t>
            </a: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борьбы с дискриминационными воззрениями,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 создания благоприятной атмосферы в общинах, построения инклюзивного общества и обеспечения образования для всех; более того, они обеспечивают реальное образование для большинства детей и повышают эффективность </a:t>
            </a: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и в конечном счете рентабельность системы образования.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Конвенция о правах инвалидов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Статья 24 Образов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 Государства-участники признают право инвалидов на образование. В целях реализации этого права без дискриминации и на основе равенства возможностей государства-участники обеспечивают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инклюзивное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разование на всех уровнях и обучение в течение всей жизн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При реализации этого права государства-участники обеспечивают, чтобы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а) инвалиды не исключались по причине инвалидности из системы общего образования, а дети-инвалиды  — из системы бесплатного и обязательного начального образования или среднего образова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инвалиды имели наравне с другими доступ к инклюзивному, качественному и бесплатному начальному образованию и среднему образованию в местах своего прожива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) обеспечивалось разумное приспособление, учитывающее индивидуальные потребност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инвалиды получали внутри системы общего образования требуемую поддержку для облегчения их эффективного обуч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5-15T14:21:2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