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B8CB-39E0-4F1E-B6EB-93E9505D6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1BCF-0CFF-46F3-AEF7-19A4D32E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5E3A-6B18-4F96-882C-92EFA12CB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D5B4-D7BA-4023-A7CA-825942675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536F-82FD-4C86-8FA5-E9AA16838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69D6-BC8A-4597-B488-78D743E0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7080-E36D-487B-92E2-282F6E3F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1CFF-B140-4DD9-9CF4-12F10EBC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E523-084A-4186-9F9F-97F262F2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A807-810A-4EBF-8F05-859B9AD8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0A05-7E4A-4499-88B9-28EF6F42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EA86-FFF2-40E6-98E5-853C0E1D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B072-C9A9-41BE-A056-1487DC79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5D79-D90F-4DDD-912C-0007DAEE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3649-535C-4AD1-9796-CE00BC88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A8FC-72D7-49C9-825B-2F56DB947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7C83-F55E-4CE3-88C7-F3100F955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69CD-F40F-457F-9652-4B580418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41B0-C85F-49FA-8B4D-0DEE45BE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777D-A069-44B3-9822-8C1BD1D1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0E17-2EA0-45EC-9D8C-ED96EABC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58C1-2438-4916-9B9C-6EA06296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BB03-B7E6-4720-8243-A40BD79D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D89C-AD23-4FBC-ADA1-6C2BF790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F69A-5A9C-4E63-AB14-5D7A0D82AC18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4D55-4F9A-42FA-A25E-09F1101771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C42B-D91F-482F-B373-84D0642431A5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DA5F-C403-4003-B87A-4CEC22D2A2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38512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Дуговая сварка углеродистых сталей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132000" y="3213000"/>
            <a:ext cx="2781360" cy="334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0B9BC9-9F58-41CD-8A9E-7891B8E602E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ыбор сварочных материалов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автоматической сварке под флюсом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олоки сплошного сечения марок 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08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08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08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А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08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олоки порошковые – ПП-АН3, ПП-АН120 самозащитные, ПП-АН4, ПП-АН8, ПП-АН9 – для сварки в среде углекислого га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кже могут применятся ленточные электрод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90FFF8-437A-4A7E-B95D-A8974BAF44A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5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0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5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0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5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одбор режима свар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C72BD0-EA77-4F91-90E7-D4F2C9BD484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одбор режима свар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ыбор диаметра электрода при сварке стыковых соедин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олщина деталей1,5-2,0  3,0 4,0-8,0  9,0-12,0 13,0-15,0 16,0-20,0 более 20 Диаметр электрода1,6-2,0  3,04,0 4,0-5,0  5,0 5,0-6,0 6,0-10,0 соответствен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ыбор диаметра электрода при угловых и тавровых соедин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тет шва 3,0 4,0-5,0 6,0-9,0 Диаметр электрода 3,0 4,0 5,0 соответствен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59B684-E4D5-4EF6-A341-7CF267E621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1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6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одбор режима свар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ежимы полуавтоматической и сварки в углекислом газ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2060640"/>
          <a:ext cx="9144000" cy="4106880"/>
        </p:xfrm>
        <a:graphic>
          <a:graphicData uri="http://schemas.openxmlformats.org/drawingml/2006/table">
            <a:tbl>
              <a:tblPr/>
              <a:tblGrid>
                <a:gridCol w="1308240"/>
                <a:gridCol w="1608120"/>
                <a:gridCol w="1000080"/>
                <a:gridCol w="1311120"/>
                <a:gridCol w="1216080"/>
                <a:gridCol w="1392120"/>
                <a:gridCol w="13082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атет ш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Диамет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роволо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Числ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слоё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Сила то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Напря-ж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Выл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электр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Расход газ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,2-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60-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8-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8-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08-0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.2-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80-1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8-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8-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1-0,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-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90-1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0-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0-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13-0,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-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30-3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0-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6-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27-0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-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50-3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7-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0-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27-0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7-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20-3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0-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0-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3-0,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9-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20-3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0-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0-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3-0,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1-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20-3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0-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0-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3-0,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D5A467-CB04-4A37-A5ED-C2684F339C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одбор режима свар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ежимы автоматической и сварки под флюс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1989000"/>
          <a:ext cx="9144000" cy="4106880"/>
        </p:xfrm>
        <a:graphic>
          <a:graphicData uri="http://schemas.openxmlformats.org/drawingml/2006/table">
            <a:tbl>
              <a:tblPr/>
              <a:tblGrid>
                <a:gridCol w="1258920"/>
                <a:gridCol w="1027080"/>
                <a:gridCol w="917640"/>
                <a:gridCol w="1081080"/>
                <a:gridCol w="1008000"/>
                <a:gridCol w="1366920"/>
                <a:gridCol w="1152360"/>
                <a:gridCol w="1332000"/>
              </a:tblGrid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Толщина метал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Тип ш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зазо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cc"/>
                          </a:solidFill>
                          <a:latin typeface="Symbol type A"/>
                          <a:ea typeface="Symbol type A"/>
                        </a:rPr>
                        <a:t></a:t>
                      </a:r>
                      <a:r>
                        <a:rPr b="0" lang="ru-RU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элект-р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числ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слоё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Сила то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Напря-ж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Скорость свар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одност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б/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-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4-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-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700-7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850-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900-9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0-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0-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0-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7,8-8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7-7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,6-6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двуст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б/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-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-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-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700-7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775-7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795-8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0-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0-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0-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7,8-8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7,8-8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7,5-8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Более 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многослойн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двуст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4-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4-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4-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-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-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750-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900-1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950-10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3-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3-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3-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.6-6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.6-6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.6-6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F46BC7-E92B-4EC5-ABE0-02C984C94A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При сварке рассматриваемых сталей обеспечиваются высо-кие механические свойства сварного соединения и поэто-му в большинстве случаев не требуются специальные меры, направленные на предотвра-щение образования в нем закалочных структур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161DDD-C2EF-408A-80AF-63E76BB13A7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одготовка металла перед сварко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готовку кромок и сборку соединения под сварку производят в зависимости от толщины металла, типа соединения и способа сварки согласно соответствующим ГОСТам или техническим условиям. Свариваемые детали для фиксации положения кромок относительно друг друга и выдерживания необходимых зазоров перед сваркой собирают в универсальных или специальных сборочных приспособлениях или с помощью прихваток. Длина прихватки зависит от толщины металла и изменяется в пределах 20—120 мм при расстоянии между ними 500— 800 мм. Сечение прихваток равно примерно 1/3 сечения шва, но не более 25—30 мм2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E80BF6-7538-4EB5-9DC9-702C254D3BB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0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едварительная сбор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хватки выполняют покрытыми электродами или на полуавтоматах в углекислом газе. При сварке прихватки следует переплавлять полностью, так как в них могут образовываться трещины из-за высокой скорости теплоотвода. Перед сваркой прихватки тщательно зачищают и осматривают. При наличии в прихватке трещины ее вырубают или удаляют другим способ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DB6E96-9126-4615-937A-1EC67882D8F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варочные рабо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арка стыковых швов вручную или полуавтоматами в защитных газах и порошковыми проволоками выполняется на весу. При автоматической сварке требуются приемы, обеспечивающие предупреждение прожогов и качественный провар корня шва. Это достигается применением остающихся или съемных подкладок, ручной или полуавтоматической в среде защитных газов подварки корня шва, флюсовой подушки и других прием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1F586F-B382-4568-A8F8-EB4B2DDCA4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Мероприятия по качеств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предупреждения образования в швах пор, трещин, непроваров и других дефектов свариваемые кромки перед сваркой тщательно зачищают от шлака, оставшегося после термической резки, ржавчины, масла и других загрязнений. Дуговую сварку ответственных конструкций лучше производить с двух сторо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1344A2-CDB3-4758-A9F4-E2BCF496B7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лассификация углеродистых стале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По содержанию углерод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изкоуглеродистые 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0,25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еднеуглеродистые С=0,46-0,76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сокоуглеродистые 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≥0,76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  <a:ea typeface="Arial"/>
              </a:rPr>
              <a:t>По качественному признаку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Обыкновенного каче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Качественные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&lt;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,03%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&lt;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,03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9658EB-1417-4072-B2B4-DB5C7E39C94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Технология свар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бор способа заполнения разделки при многослойной сварке зависит от толщины металла и термической обработки стали перед сваркой. При появлении в швах дефектов (пор, трещин, непроваров, подрезов и т. д.) металл в месте дефекта удаляют механическим путем или воздушно-дуговой или плазменной резкой и после зачистки подвариваю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036FD9-074D-4E33-8B75-B83A082E542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3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3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3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войства металла шв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 сварке низкоуглеродистых сталей от выбора техники и режима сварки (при изменении формы провара и доли участия основного металла в формировании шва) зависят состав и свойства металла ш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D62DC9-EE1F-4BCA-946D-25183E39DD6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5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аключ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тимальная технология сварки конкретной марки низкоуглеродистой стали апроби-руется и уточняется путём проведения опытно-экспериментальных работ с после-дующим исследованием химического сос-тава наплавленного металла шва и испы-танием его механических свойств на пред-мет соответствия их свойствам основного металла с целью обеспечения равнопроч-ности сварного ш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DB4B7C-3F34-4AB6-A877-80A166D2F98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780000" y="4365720"/>
            <a:ext cx="2152440" cy="207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8D651-9D70-4CBF-8001-D6618E7F8A9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лассификация углеродистых стале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По степени раскисле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окойные – с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успокойные – п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ипящие – кп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По гарантированным параметрам поставк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химическому составу – 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механическим свойствам – 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хим. составу и мех. свойствам –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E107D7-020E-4C07-B58C-852A31E99F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Область применения углеродистых сталей в сварных конструкциях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9325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варных конструкциях обычно применяют-ся малоуглеродистые стали, обладающие хорошей свариваемостью следующих марок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т.3 с содержанием углерода от 0,14% до 0,22%, марганца от 0,40% до 0,65%, кремния от 0,12% до 0,30%, с пределом прочности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=380-490 МПа и относительным удлинени-ем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=23-26% (Сталь обыкновенного качеств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1A11BE-8B35-46CC-B5C8-861CFA5AA2F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Область применения углеродистых сталей в сварных конструкциях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ли стали качественны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ль 20 с содержанием углерода от 0,17% до 0,24%, марганца от 0,35% до 0,65%, кремния от 0,17% до 0,37%, с пределом прочности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=420 МПа и относительным удлинением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=26% (Сталь качественна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3FD993-A3D0-4531-B8B1-6115F6EF809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Область применения углеродистых сталей в сварных конструкциях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арка вышеупомянутых сталей обычно не вызывает затруднений и такие марки стали свариваются без ограничений всеми способами сварочных технологий. Обычно для неответственных конструкций применяются стали группы А и Б, для особо ответственных конструкций желательно применять сталь группы В с гарантией её и по химическому составу и механическим свойствам. По сте-пени раскисления обычно применяются спокойные, реже полуспокойные стали. Применение кипящей стали не ре-комендуется из-за склонности её к образованию трещи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93EED4-35A9-4BB9-97B9-2336A560A62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Основные требования по сварке низкоуглеродистых сталей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учение равнопрочности сварного соеди-н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сутствие дефек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ебуемая форма сварного ш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изводитель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кономич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дёж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лговеч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3BF13D-0CF8-4253-AD4A-F6FE350852B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ыбор сварочных материалов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ручной дуговой сварке применяютс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крытые электроды типов Э-38, Э-42, Э-46 со всеми типами покрытий (кислое-А, основное-Б, рутиловое-Р, целлюлозное-Ц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едующих марок: МР-3, СМ-5, АНО-4, ОЗС-12, УОНИИ-13/45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требуются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вышенные требова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к сварному шву, то применяют электроды типов Э-42А, Э-46А и Э-50А (с пониженным содержанием вредных примесей – серы и фосфор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F1FFBB-0250-4556-A616-0B9D04EA20E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ыбор сварочных материалов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механизированной дуговой сварке в защитных газах применяются сварочные проволоки следующих тип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-08ГС,  Св-08Г2С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08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А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-10ГС и т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рошковые проволок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П-1ДСК, ПП-2ДСК, ПП-АНЗ, ПП-АН4, ЭПС-15/2 и др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ктивированные проволок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0ГСТЮА 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5ГСТЮ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0DFD3D-A5E0-4265-9E38-8975B921317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15:54:30Z</dcterms:created>
  <dc:creator>Admin</dc:creator>
  <dc:description/>
  <dc:language>en-US</dc:language>
  <cp:lastModifiedBy>Admin</cp:lastModifiedBy>
  <dcterms:modified xsi:type="dcterms:W3CDTF">2010-10-08T19:37:27Z</dcterms:modified>
  <cp:revision>14</cp:revision>
  <dc:subject/>
  <dc:title>Дуговая сварка углеродистых сталей</dc:title>
</cp:coreProperties>
</file>