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CE1-A9F8-4B20-8DF8-BDE8DB20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5A1-ABDB-4704-ACC3-BF5FFD7C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866-2867-4DC5-B212-11D349B8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5BC-E6D5-4A25-A582-3045F332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59DD-8346-4E93-A7CF-DDE98B73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C41B-66BB-4832-9F50-9D4CD8EF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3A81-DDB8-4663-B367-54DD4868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412D-9899-459C-BE45-B846AD85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EBED-A53C-408B-A58E-B28F399A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4742-B5D8-4F0F-B981-360366A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7054-1245-4153-A9A7-0BA443F4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02C-B5AA-4102-BFE8-FA3FEFA4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5893-7AC0-48B3-877F-2856E64B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8518-FBC8-4F3C-9A52-572F8302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286B-BB08-430C-A3E3-B500CE9F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AE88-28BB-4784-8041-DB3B78B3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7891-91F8-4A4C-BA6D-A5FF645B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8DD-008B-454E-9421-C7E055E8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710-536D-43C2-97BC-AAE89071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186-145B-444A-9676-245D5D39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79F-8A0E-4AAD-9D37-06EB6B9A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259-7ABE-4BBC-9DA7-226607D1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37B-61E9-4DB0-9C9C-AB0BB087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5FC-FC04-415D-B4C4-24CC7C84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375F-742E-4EE8-AE82-7AEB9A10B54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DC2E-450E-4F42-952F-5807725EE5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7FA5-51BC-4FF2-9F9D-C76EFD7E28F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AEE9-9EEF-4B98-8C78-7DAE81700B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Дуговая сварка углеродистых стале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2000" y="3213000"/>
            <a:ext cx="2781360" cy="334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F2374-643F-4349-B287-C62B876BCB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 сварочных материал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автоматической сварке под флюсо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локи сплошного сечения марок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локи порошковые – ПП-АН3, ПП-АН120 самозащитные, ПП-АН4, ПП-АН8, ПП-АН9 – для сварки в среде углекислого г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могут применятся ленточные электр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95B7F-008F-4D41-A824-3E7BD4C698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бор режима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83D7E-7C8D-4355-9909-7FC4A608C7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бор режима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бор диаметра электрода при сварке стыковых соеди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щина деталей1,5-2,0  3,0 4,0-8,0  9,0-12,0 13,0-15,0 16,0-20,0 более 20 Диаметр электрода1,6-2,0  3,04,0 4,0-5,0  5,0 5,0-6,0 6,0-10,0 соответстве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бор диаметра электрода при угловых и тавровых соеди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тет шва 3,0 4,0-5,0 6,0-9,0 Диаметр электрода 3,0 4,0 5,0 соответстве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91D1B-25B6-482A-B726-19FDD5E6AD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бор режима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имы полуавтоматической и сварки в углекислом газ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060640"/>
          <a:ext cx="9144000" cy="4106880"/>
        </p:xfrm>
        <a:graphic>
          <a:graphicData uri="http://schemas.openxmlformats.org/drawingml/2006/table">
            <a:tbl>
              <a:tblPr/>
              <a:tblGrid>
                <a:gridCol w="1308240"/>
                <a:gridCol w="1608120"/>
                <a:gridCol w="1000080"/>
                <a:gridCol w="1311120"/>
                <a:gridCol w="1216080"/>
                <a:gridCol w="1392120"/>
                <a:gridCol w="13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тет ш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иаме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вол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лоё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ила т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Напря-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ы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элект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ход га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,2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0-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8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08-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.2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0-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8-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-0,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0-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3-0,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30-3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6-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7-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-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7-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0-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-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-0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0-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-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-0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1-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0-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-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-0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7D3BF-4E16-4F64-ABF1-90014041B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бор режима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имы автоматической и сварки под флюс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989000"/>
          <a:ext cx="9144000" cy="4106880"/>
        </p:xfrm>
        <a:graphic>
          <a:graphicData uri="http://schemas.openxmlformats.org/drawingml/2006/table">
            <a:tbl>
              <a:tblPr/>
              <a:tblGrid>
                <a:gridCol w="1258920"/>
                <a:gridCol w="1027080"/>
                <a:gridCol w="917640"/>
                <a:gridCol w="1081080"/>
                <a:gridCol w="1008000"/>
                <a:gridCol w="1366920"/>
                <a:gridCol w="1152360"/>
                <a:gridCol w="1332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Толщина мет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Тип ш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заз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Symbol type A"/>
                          <a:ea typeface="Symbol type A"/>
                        </a:rPr>
                        <a:t>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лект-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лоё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ила т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апря-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корость свар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дно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б/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-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00-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50-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00-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,8-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-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,6-6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ву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б/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00-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75-7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95-8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,8-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,8-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,5-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Более 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многослой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ву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-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50-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0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50-10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6-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6-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6-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17D44-946A-48E9-BFAC-57436455F9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При сварке рассматриваемых сталей обеспечиваются высо-кие механические свойства сварного соединения и поэто-му в большинстве случаев не требуются специальные меры, направленные на предотвра-щение образования в нем закалочных структур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22139-D528-4B10-AB60-77E64B94BC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готовка металла перед сварк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у кромок и сборку соединения под сварку производят в зависимости от толщины металла, типа соединения и способа сварки согласно соответствующим ГОСТам или техническим условиям. Свариваемые детали для фиксации положения кромок относительно друг друга и выдерживания необходимых зазоров перед сваркой собирают в универсальных или специальных сборочных приспособлениях или с помощью прихваток. Длина прихватки зависит от толщины металла и изменяется в пределах 20—120 мм при расстоянии между ними 500— 800 мм. Сечение прихваток равно примерно 1/3 сечения шва, но не более 25—30 мм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6E9B9-F0E2-420C-A525-6840421081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едварительная сбор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хватки выполняют покрытыми электродами или на полуавтоматах в углекислом газе. При сварке прихватки следует переплавлять полностью, так как в них могут образовываться трещины из-за высокой скорости теплоотвода. Перед сваркой прихватки тщательно зачищают и осматривают. При наличии в прихватке трещины ее вырубают или удаляют другим способ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90AF9-0B63-425B-A7C0-06A92D5723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варочные раб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арка стыковых швов вручную или полуавтоматами в защитных газах и порошковыми проволоками выполняется на весу. При автоматической сварке требуются приемы, обеспечивающие предупреждение прожогов и качественный провар корня шва. Это достигается применением остающихся или съемных подкладок, ручной или полуавтоматической в среде защитных газов подварки корня шва, флюсовой подушки и других прием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C117B-928C-4CF3-AACD-85E3C49AF8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ероприятия по качеств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упреждения образования в швах пор, трещин, непроваров и других дефектов свариваемые кромки перед сваркой тщательно зачищают от шлака, оставшегося после термической резки, ржавчины, масла и других загрязнений. Дуговую сварку ответственных конструкций лучше производить с двух сторо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3DF30-2A53-4608-B3B0-C0D86E8E4E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лассификация углеродистых стал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 содержанию углеро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зкоуглеродистые 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еуглеродистые С=0,46-0,76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оуглеродистые 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≥0,76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  <a:ea typeface="Arial"/>
              </a:rPr>
              <a:t>По качественному признак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быкновенного ка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чественные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&lt;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,03%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&lt;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,03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D9B70-9003-4EB5-A20C-FF44FED784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хнология св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ор способа заполнения разделки при многослойной сварке зависит от толщины металла и термической обработки стали перед сваркой. При появлении в швах дефектов (пор, трещин, непроваров, подрезов и т. д.) металл в месте дефекта удаляют механическим путем или воздушно-дуговой или плазменной резкой и после зачистки подвариваю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301E5-7387-4505-99F6-29090218A8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войства металла ш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сварке низкоуглеродистых сталей от выбора техники и режима сварки (при изменении формы провара и доли участия основного металла в формировании шва) зависят состав и свойства металла ш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43396-173A-481F-8409-5FBDC6166E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тимальная технология сварки конкретной марки низкоуглеродистой стали апроби-руется и уточняется путём проведения опытно-экспериментальных работ с после-дующим исследованием химического сос-тава наплавленного металла шва и испы-танием его механических свойств на пред-мет соответствия их свойствам основного металла с целью обеспечения равнопроч-ности сварного ш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3941D-873F-497D-97B3-0A8EE46A2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780000" y="4365720"/>
            <a:ext cx="2152440" cy="20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D2DBE-4586-4760-8AB9-4E9D4060FC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лассификация углеродистых стал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о степени раскис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койные – 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спокойные – п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пящие – к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о гарантированным параметрам постав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имическому составу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механическим свойствам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им. составу и мех. свойствам –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EBDE5-A061-4579-B49B-9493100A0F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бласть применения углеродистых сталей в сварных конструкциях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325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арных конструкциях обычно применяют-ся малоуглеродистые стали, обладающие хорошей свариваемостью следующих мар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.3 с содержанием углерода от 0,14% до 0,22%, марганца от 0,40% до 0,65%, кремния от 0,12% до 0,30%, с пределом прочности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380-490 МПа и относительным удлинени-ем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23-26% (Сталь обыкновенного качест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D0F66-3A26-466F-A37E-5A0CD6C8C9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бласть применения углеродистых сталей в сварных конструкциях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 стали качественны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ль 20 с содержанием углерода от 0,17% до 0,24%, марганца от 0,35% до 0,65%, кремния от 0,17% до 0,37%, с пределом прочности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420 МПа и относительным удлинением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26% (Сталь качественн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9B8FC-1146-4C00-810F-A9DF6BB424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бласть применения углеродистых сталей в сварных конструкциях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рка вышеупомянутых сталей обычно не вызывает затруднений и такие марки стали свариваются без ограничений всеми способами сварочных технологий. Обычно для неответственных конструкций применяются стали группы А и Б, для особо ответственных конструкций желательно применять сталь группы В с гарантией её и по химическому составу и механическим свойствам. По сте-пени раскисления обычно применяются спокойные, реже полуспокойные стали. Применение кипящей стали не ре-комендуется из-за склонности её к образованию трещи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72B7B-96F7-49B5-A80C-334003C375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ные требования по сварке низкоуглеродистых сталей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ение равнопрочности сварного соеди-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утствие дефе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буемая форма сварного ш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гове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33D0B-EA65-4DA3-993E-655283D65F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 сварочных материал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учной дуговой сварке примен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рытые электроды типов Э-38, Э-42, Э-46 со всеми типами покрытий (кислое-А, основное-Б, рутиловое-Р, целлюлозное-Ц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едующих марок: МР-3, СМ-5, АНО-4, ОЗС-12, УОНИИ-13/45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ребуютс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енные треб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 сварному шву, то применяют электроды типов Э-42А, Э-46А и Э-50А (с пониженным содержанием вредных примесей – серы и фосфор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6B02A-1CC3-4FAE-8963-8D5BEF6AC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 сварочных материал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механизированной дуговой сварке в защитных газах применяются сварочные проволоки следующих тип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-08ГС,  Св-08Г2С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0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-10ГС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ошковые проволо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П-1ДСК, ПП-2ДСК, ПП-АНЗ, ПП-АН4, ЭПС-15/2 и д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ированные проволо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ГСТЮА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ГСТЮ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92A97-8280-478A-B9D4-C0CEC13106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5:54:30Z</dcterms:created>
  <dc:creator>Admin</dc:creator>
  <dc:description/>
  <dc:language>en-US</dc:language>
  <cp:lastModifiedBy>Admin</cp:lastModifiedBy>
  <dcterms:modified xsi:type="dcterms:W3CDTF">2010-10-08T19:37:27Z</dcterms:modified>
  <cp:revision>14</cp:revision>
  <dc:subject/>
  <dc:title>Дуговая сварка углеродистых сталей</dc:title>
</cp:coreProperties>
</file>