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5C2-5D0E-4EFE-8E8D-6F7B24AB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1C2-F457-4E2C-9264-E29F6E7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652-C395-4FEF-80D1-635EE81B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872-E1F0-41F7-966B-74B89179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1D73-9B31-444D-B5A6-2B337064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8B8A-8C3C-4F86-A111-E711C412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6F04-8932-459E-901F-5ED7F56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2EF1-8784-4534-B1A8-90CC3E36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DB6D-F67D-4F4E-84E2-024DD473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C08F-744F-4420-8194-EBDD91F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86B0-D631-4EEC-AB38-55EB3EB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932-CC00-400E-BA70-9DAC32B1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5C9F-DB12-4886-B0E6-2A2CF7C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CA59-688C-4EB5-90DA-6ED22E3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E76F-E1EE-4264-9478-B09F646C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1AFE-CD6A-418A-83FC-804F74EC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8E32-AD9B-45BA-A858-D1C36D1C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C65-EAB9-4955-8F13-CA6CED6A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9B0-CFDB-4B1F-8D8E-38C64732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512-605E-4268-907D-3EAF95D2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FC4-45CD-4C0E-B733-213C0E2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FF9-DA55-4028-BE11-7925565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500-60E1-487B-97CC-12C0F85E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962-FCAD-487B-9BE5-B4A5AC9B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5D3-E5C4-44D1-A7CD-09F359808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8460-6F1C-4419-84C2-3C07E95519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вижение в пространстве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Зеркальной симметрией (симметрией относительно плоскости </a:t>
            </a:r>
            <a:r>
              <a:rPr b="0" lang="el-GR" sz="4400" spc="-1" strike="noStrike" u="sng">
                <a:solidFill>
                  <a:srgbClr val="ccecff"/>
                </a:solidFill>
                <a:uFillTx/>
                <a:latin typeface="Arial"/>
              </a:rPr>
              <a:t>α</a:t>
            </a: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)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называется такое отображение пространства на себя, при котором любая точка М переходит в симметричную ей относительно плоскости </a:t>
            </a:r>
            <a:r>
              <a:rPr b="0" lang="el-GR" sz="4400" spc="-1" strike="noStrike">
                <a:solidFill>
                  <a:srgbClr val="ccecff"/>
                </a:solidFill>
                <a:latin typeface="Arial"/>
              </a:rPr>
              <a:t>α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точку М</a:t>
            </a:r>
            <a:r>
              <a:rPr b="0" lang="ru-RU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244440"/>
            <a:ext cx="80010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Параллельный пе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Параллельным переносом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на вектор р называется отображение пространства на себя, при котором любая точка М переходит в такую точку 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, что М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= 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15328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Преобразование подоб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Центральным подобие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с центром О и коэффициентом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≠0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зывается отображение пространства на себя, при котором каждая точка М переходит в такую точку М</a:t>
            </a:r>
            <a:r>
              <a:rPr b="0" lang="ru-RU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, что ОМ</a:t>
            </a:r>
            <a:r>
              <a:rPr b="0" lang="ru-RU" sz="4400" spc="-1" strike="noStrike" baseline="-25000">
                <a:solidFill>
                  <a:srgbClr val="ccecff"/>
                </a:solidFill>
                <a:latin typeface="Arial"/>
              </a:rPr>
              <a:t>1=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4400" y="244440"/>
            <a:ext cx="74674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Центральная симмет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Движение пространств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– это отображение пространства на себя, сохраняющее расстояние между точк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Центральная симметри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– отображение пространства на себя, при котором любая точка М переходит в симметричную ей точку 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относительно данного центра О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Осевая симмет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Осевой симметри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с осью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называется такое отображение пространства на себя, при котором любая точка М переходит в симметричную ей точку 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относительно оси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244440"/>
            <a:ext cx="78483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Зеркальная симмет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8T12:12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