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D55A-DDA0-4E6F-9720-9828CC08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5077-5848-44E5-85DC-A3DF14E4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7BA-2E9B-4C33-97F5-621ABAAB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2A1-5CD5-450D-90EB-7E504D56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9977-3180-4CC5-B905-42566D09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95A7-EF7A-475F-887F-49546B93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8200-E437-4C81-8E97-2B11F618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2C39-83FE-47FE-A608-3F002F63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85CA-AC94-4452-A668-C9D57503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28AD-0637-4C8A-AEE7-C534B88F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994F-DDE1-42DD-B680-9962B9F9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7BA9-5520-471E-84E3-C2E730DB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07B1-94EE-41CC-882A-B686E89C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1D38-409D-4DDB-8C9D-68811C84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93C6-E8BF-4066-8810-74447F0F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CAF9-96F6-425E-B253-7B80DFA5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2401-C93E-4147-B785-F53F2804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B1B-579E-43FA-86C1-F808F866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C1F-D0F8-4ADE-B24F-5594863E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E755-EBB1-43E4-894E-9FCD2AB9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88A7-1BBD-4A6B-A549-91CA38AE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ED0-6C29-4426-8827-8700A76D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D3B-835E-42CB-A851-2B3E7D35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CB2-08F9-4623-99B0-A5E3A9D6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7C2F-94A9-4E90-822E-B5228C7BFD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DCEF-7DFA-4FBB-866C-FC77F42C8F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3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вижение в пространстве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0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Зеркальной симметрией (симметрией относительно плоскости </a:t>
            </a:r>
            <a:r>
              <a:rPr b="0" lang="el-GR" sz="4400" spc="-1" strike="noStrike" u="sng">
                <a:solidFill>
                  <a:srgbClr val="ccecff"/>
                </a:solidFill>
                <a:uFillTx/>
                <a:latin typeface="Arial"/>
              </a:rPr>
              <a:t>α</a:t>
            </a: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)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называется такое отображение пространства на себя, при котором любая точка М переходит в симметричную ей относительно плоскости </a:t>
            </a:r>
            <a:r>
              <a:rPr b="0" lang="el-GR" sz="4400" spc="-1" strike="noStrike">
                <a:solidFill>
                  <a:srgbClr val="ccecff"/>
                </a:solidFill>
                <a:latin typeface="Arial"/>
              </a:rPr>
              <a:t>α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точку М</a:t>
            </a:r>
            <a:r>
              <a:rPr b="0" lang="ru-RU" sz="44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244440"/>
            <a:ext cx="800100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. Параллельный пе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Параллельным переносом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на вектор р называется отображение пространства на себя, при котором любая точка М переходит в такую точку М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, что ММ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= 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15328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. Преобразование подоб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0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Центральным подобием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с центром О и коэффициентом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≠0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зывается отображение пространства на себя, при котором каждая точка М переходит в такую точку М</a:t>
            </a:r>
            <a:r>
              <a:rPr b="0" lang="ru-RU" sz="44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, что ОМ</a:t>
            </a:r>
            <a:r>
              <a:rPr b="0" lang="ru-RU" sz="4400" spc="-1" strike="noStrike" baseline="-25000">
                <a:solidFill>
                  <a:srgbClr val="ccecff"/>
                </a:solidFill>
                <a:latin typeface="Arial"/>
              </a:rPr>
              <a:t>1=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14400" y="244440"/>
            <a:ext cx="746748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0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. Центральная симметр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Движение пространств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– это отображение пространства на себя, сохраняющее расстояние между точкам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Центральная симметрия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– отображение пространства на себя, при котором любая точка М переходит в симметричную ей точку М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относительно данного центра О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 Осевая симметр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0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Осевой симметрией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с осью </a:t>
            </a: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называется такое отображение пространства на себя, при котором любая точка М переходит в симметричную ей точку М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относительно оси </a:t>
            </a: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62120" y="244440"/>
            <a:ext cx="784836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. Зеркальная симметр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10-18T12:12:2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