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3A7-D611-485B-A51C-FBE48F27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205-E012-49BC-90C1-2F6E18B4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995-209B-4E26-BF43-0A5C76BF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F06-C38F-4EEB-8361-B5F6EE3D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2B1-72B9-42F1-AB7C-EF53B92F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C18-CB28-42A3-B6EB-88691853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75D-9D2A-42A0-9C97-A6E6DCD4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63E-1874-4D18-855A-B328A90B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F9E-B18B-477A-8D71-57348080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F12-37AD-4DAD-AEB4-699A27BC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C05-4641-4E98-803A-FAAFECB7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8AC-D26C-468A-9389-AE9A5E8E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CFCC-C024-44E2-B668-E458AE19A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60033"/>
                </a:solidFill>
                <a:latin typeface="Times New Roman"/>
              </a:rPr>
              <a:t>на тему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«Эмоциональное насилие со стороны родителей»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Times New Roman"/>
              </a:rPr>
              <a:t>по предмету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«Детская психолог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163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ла: Гилемханова Гульназ   Юнус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а 943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Слова-помощники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ы же можеш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ты хорошо это сделал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ты чудны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горжусь тобо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тебя я бы не смог это сдела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тебя любл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68709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Советы родителя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659640" y="2421000"/>
            <a:ext cx="2160360" cy="280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981000"/>
            <a:ext cx="6193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1. Уделяй время каждому своему ребёнку. Регулярно говори ему, что ты его люби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2. Будь опорой для своего ребёнка. Это не значит, что ты не можешь на него рассердиться. Но ребёнок должен знать, что ты любишь его даже если сердиш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3. Защищай своего ребёнка от насилия. Дом должен быть для ребёнка надёжным и безопасным местом. Но важно также научить его чувствовать себя уверенно и вне д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4. Хвали ребёнка. Хвали его способности, таланты, отмечай его сильные стороны. Если замечаешь как что-то получается у него лучше, чем у других, не забудь сказать ему об э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5. Научи ребёнка справляться с неудачами. Ни у кого не получается абсолютно всё. Ребёнок должен знать, что не всё будет удаваться. Неудачи должны служить стимулом для дальнейше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6. Научи ребёнка думать и самостоятельно решать проблемы. Но будь доступен для него, когда он хочет обсудить с тобой свои проблемы, мысли, чув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моциональное насил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длительное, постоянное или периодическое психическое воздействие, приводящее к формированию у ребенка патологических черт характера или нарушающее развитие его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урсовая. Тема: Синдром &quot;невидимки&quot;: почему некоторые страдают от незамеченности и невнимания. - Гифки со звездами"/>
          <p:cNvPicPr/>
          <p:nvPr/>
        </p:nvPicPr>
        <p:blipFill>
          <a:blip r:embed="rId1"/>
          <a:stretch/>
        </p:blipFill>
        <p:spPr>
          <a:xfrm>
            <a:off x="3780000" y="4005360"/>
            <a:ext cx="500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еляют две разновидности эмоционального насил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696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оциональное равнодуш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соблюдение эмоциональных потребностей ребёнка. Такое поведение родителей не даёт ребёнку необходимого ему внимания и поддержки, или их уровень не соответствует эмоциональным нуждам ребё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оциональное насил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одель поведения родителей, которая включает в себя такие воспитательные методы, как унижение, высмеивание, пренебрежение и т.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Формы эмоционального насили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Отталки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Игнор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Изол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Террориз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Безразличие, равнодуш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Эксплуат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Униж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Безжалост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6870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возникновения эмоционального насилия в семь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Финансов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облемы в браке – неразрешённые проблемы между партнёрами, ссоры и разногласия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Недостаток знаний – родители, у которых не хватает знаний о развитии и воспитании ребё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Болезнь – ребёнка или другого члена семьи создаёт серьёзную дополнительную эмоциональную нагруз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294806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294806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33"/>
                </a:solidFill>
                <a:latin typeface="Arial"/>
              </a:rPr>
              <a:t>Последствия эмоционального насил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зкая самооцен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дети на самом деле считают, что взрослый всегда прав, и действует в его интересах. Поэтому ребёнок, страдающий от эмоционального насилия, вырастает с уверенностью, что он плохой, бестолковый и заслуживает плохого отно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моциональные пробл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замедляется эмоциональное развитие ребёнка. Позже появляются трудности в проявлении собственных эмоций, ему тяжело понять чувства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блемы в построении отно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лабое эмоциональное развитие и отсутствие доверия к людям серьёзно мешают ребёнку строить и поддерживать отношения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енности детей, подвергающихся эмоциональному насилию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19760" y="1798560"/>
            <a:ext cx="2849400" cy="2940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51280" y="1268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28440" y="2331360"/>
            <a:ext cx="871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06064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40" y="360"/>
            <a:ext cx="6120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00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28440" y="2469240"/>
            <a:ext cx="871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484280"/>
            <a:ext cx="799128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нарушения с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депресс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низкая самооце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недоверие к людя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повышенная тревож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агресс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эмоциональная нестаби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чрезмерная пассивность,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отчуждение от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негативные высказывания о себ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чрезмерная потребность во внима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чрезмерная стеснительность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40" y="61200"/>
            <a:ext cx="61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40" y="0"/>
            <a:ext cx="6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00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собенности поведения взрослых, совершающих   эмоциональное насил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виняют или унижают ребё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норируют или отталкивают е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проявляют своей любви к не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-разному относятся к своим дет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азываются принимать участие в решении проблем ребё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аботятся о нё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урс: 2030. АНГЛИЙСКИЙ ЯЗЫК. 10 класс"/>
          <p:cNvPicPr/>
          <p:nvPr/>
        </p:nvPicPr>
        <p:blipFill>
          <a:blip r:embed="rId1"/>
          <a:stretch/>
        </p:blipFill>
        <p:spPr>
          <a:xfrm>
            <a:off x="5651640" y="5230800"/>
            <a:ext cx="3024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азы, которыми мы часто травмируем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459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ейчас же иди сюд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тобы я не видел, что ты это делаешь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ы что, дурак?! Я тебе миллион раз это говорил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ы ничего на можешь сделать как надо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крати постоянно есть! Будешь выглядеть, как толстая свинья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т тебя одни неприятности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йди! Мне надоело на тебя смотреть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ы мне надоел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молчи! Заткнис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6T17:41:57Z</dcterms:created>
  <dc:creator>илназ20</dc:creator>
  <dc:description/>
  <dc:language>en-US</dc:language>
  <cp:lastModifiedBy>илназ20</cp:lastModifiedBy>
  <dcterms:modified xsi:type="dcterms:W3CDTF">2015-01-26T18:05:55Z</dcterms:modified>
  <cp:revision>10</cp:revision>
  <dc:subject/>
  <dc:title>   Презентация  на тему: «Эмоциональное насилие со стороны родителей» по предмету:  «Детская психология»</dc:title>
</cp:coreProperties>
</file>