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F0F-B258-4EF1-A00D-3CC42CEB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05A-2767-4BFD-814F-65AA70EB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762-2D27-4FAC-AF83-6C94673C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838-09EA-4896-942A-0297320E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346-F931-44C8-821E-2671D7D1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4C9-0195-4B47-B658-6A24870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4FE-9BAB-4B7E-A085-6D4A8666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BB4-3094-4AD6-88CC-9F99CACC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575-0997-4DBD-9557-E48F7398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79B-4F7D-44C3-AC13-72C5341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BFD-CD7D-414C-B4FF-8E2E5F5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62B-2B3C-4EB2-AD44-DAF2FDE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EB53-1BAA-4A8D-83D3-B5478E340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Times New Roman"/>
              </a:rPr>
              <a:t>на тему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Эмоциональное насилие со стороны родителей»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Times New Roman"/>
              </a:rPr>
              <a:t>по предмету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Детская психолог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16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а: Гилемханова Гульназ   Юнус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а 943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лова-помощник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 же можеш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ы хорошо это сдела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ты чудны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горжусь тобо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тебя я бы не смог это сдела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тебя любл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8709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оветы родителя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216036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981000"/>
            <a:ext cx="6193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1. Уделяй время каждому своему ребёнку. Регулярно говори ему, что ты его люби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2. Будь опорой для своего ребёнка. Это не значит, что ты не можешь на него рассердиться. Но ребёнок должен знать, что ты любишь его даже если сердиш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3. Защищай своего ребёнка от насилия. Дом должен быть для ребёнка надёжным и безопасным местом. Но важно также научить его чувствовать себя уверенно и вне д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4. Хвали ребёнка. Хвали его способности, таланты, отмечай его сильные стороны. Если замечаешь как что-то получается у него лучше, чем у других, не забудь сказать ему об э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5. Научи ребёнка справляться с неудачами. Ни у кого не получается абсолютно всё. Ребёнок должен знать, что не всё будет удаваться. Неудачи должны служить стимулом для дальне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6. Научи ребёнка думать и самостоятельно решать проблемы. Но будь доступен для него, когда он хочет обсудить с тобой свои проблемы, мысли, чу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моциональное насил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длительное, постоянное или периодическое психическое воздействие, приводящее к формированию у ребенка патологических черт характера или нарушающее развитие его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урсовая. Тема: Синдром &quot;невидимки&quot;: почему некоторые страдают от незамеченности и невнимания. - Гифки со звездами"/>
          <p:cNvPicPr/>
          <p:nvPr/>
        </p:nvPicPr>
        <p:blipFill>
          <a:blip r:embed="rId1"/>
          <a:stretch/>
        </p:blipFill>
        <p:spPr>
          <a:xfrm>
            <a:off x="3780000" y="4005360"/>
            <a:ext cx="50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еляют две разновидности эмоционального насил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96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е равнодуш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соблюдение эмоциональных потребностей ребёнка. Такое поведение родителей не даёт ребёнку необходимого ему внимания и поддержки, или их уровень не соответствует эмоциональным нуждам ребё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е насил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одель поведения родителей, которая включает в себя такие воспитательные методы, как унижение, высмеивание, пренебрежение и т.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Формы эмоционального насил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тталк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гнор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Изол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Террориз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Безразличие, равнодуш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Эксплуат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Уни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Безжалост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6870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возникновения эмоционального насилия в семь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инансов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блемы в браке – неразрешённые проблемы между партнёрами, ссоры и разногласия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едостаток знаний – родители, у которых не хватает знаний о развитии и воспитании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Болезнь – ребёнка или другого члена семьи создаёт серьёзную дополнительную эмоциональную нагру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29480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29480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Arial"/>
              </a:rPr>
              <a:t>Последствия эмоционального насил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зкая самооцен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ти на самом деле считают, что взрослый всегда прав, и действует в его интересах. Поэтому ребёнок, страдающий от эмоционального насилия, вырастает с уверенностью, что он плохой, бестолковый и заслуживает плохого 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моциональные пробл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замедляется эмоциональное развитие ребёнка. Позже появляются трудности в проявлении собственных эмоций, ему тяжело понять чувства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ы в построении отно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лабое эмоциональное развитие и отсутствие доверия к людям серьёзно мешают ребёнку строить и поддерживать отношения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и детей, подвергающихся эмоциональному насилию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19760" y="1798560"/>
            <a:ext cx="2849400" cy="2940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1280" y="1268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28440" y="2331360"/>
            <a:ext cx="87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06064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40" y="360"/>
            <a:ext cx="6120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8440" y="2469240"/>
            <a:ext cx="871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484280"/>
            <a:ext cx="799128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арушения с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депрес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изкая самооц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едоверие к люд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повышенная тревож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агрес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эмоциональная нестаби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чрезмерная пассивность,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отчуждение от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егативные высказывания о себ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чрезмерная потребность во внима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чрезмерная стеснительность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40" y="61200"/>
            <a:ext cx="61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" y="0"/>
            <a:ext cx="6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собенности поведения взрослых, совершающих   эмоциональное насил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виняют или унижают ребё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норируют или отталкивают е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роявляют своей любви к не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-разному относятся к своим дет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ываются принимать участие в решении проблем ребё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ботятся о нё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урс: 2030. АНГЛИЙСКИЙ ЯЗЫК. 10 класс"/>
          <p:cNvPicPr/>
          <p:nvPr/>
        </p:nvPicPr>
        <p:blipFill>
          <a:blip r:embed="rId1"/>
          <a:stretch/>
        </p:blipFill>
        <p:spPr>
          <a:xfrm>
            <a:off x="5651640" y="52308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зы, которыми мы часто травмируем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йчас же иди сюд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бы я не видел, что ты это делаеш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что, дурак?! Я тебе миллион раз это говорил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ничего на можешь сделать как надо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крати постоянно есть! Будешь выглядеть, как толстая свинь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 тебя одни неприятности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йди! Мне надоело на тебя смотрет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мне надоел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молчи! Заткнис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17:41:57Z</dcterms:created>
  <dc:creator>илназ20</dc:creator>
  <dc:description/>
  <dc:language>en-US</dc:language>
  <cp:lastModifiedBy>илназ20</cp:lastModifiedBy>
  <dcterms:modified xsi:type="dcterms:W3CDTF">2015-01-26T18:05:55Z</dcterms:modified>
  <cp:revision>10</cp:revision>
  <dc:subject/>
  <dc:title>   Презентация  на тему: «Эмоциональное насилие со стороны родителей» по предмету:  «Детская психология»</dc:title>
</cp:coreProperties>
</file>