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.wmf" ContentType="image/x-wmf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A3D-8B63-4853-8F42-A7C128A1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007-3628-4B49-BF60-A81B38B2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BBE-D46D-4854-B4F1-F4BD80EB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B2F-6604-4685-BE0F-24A9E4B5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1B45-9DE0-42CA-B1CF-558ED1E1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201F-46EC-4DF6-A251-92597465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9E5-D50D-4A9E-96B0-83B739D2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8F1-77E1-4C3A-844A-5386D24A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850-AA74-4F5C-9F44-75D17483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BED-A24B-4CAC-B119-2E2F0BD9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D47C-93AF-4DF8-825E-8ACE40A8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A33-64A0-4F61-B86B-5474773E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2922-A2FC-4012-B43F-3A2EE3D5F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rcRect l="0" t="0" r="496" b="0"/>
          <a:stretch/>
        </p:blipFill>
        <p:spPr>
          <a:xfrm>
            <a:off x="457200" y="500040"/>
            <a:ext cx="826452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5727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914400" y="8380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mburg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57564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914400" y="12193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tdo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"/>
          <p:cNvPicPr/>
          <p:nvPr/>
        </p:nvPicPr>
        <p:blipFill>
          <a:blip r:embed="rId1"/>
          <a:srcRect l="0" t="0" r="1023" b="0"/>
          <a:stretch/>
        </p:blipFill>
        <p:spPr>
          <a:xfrm>
            <a:off x="457200" y="533520"/>
            <a:ext cx="8145360" cy="5769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048120" y="51055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7560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838080" y="12193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andwic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"/>
          <p:cNvPicPr/>
          <p:nvPr/>
        </p:nvPicPr>
        <p:blipFill>
          <a:blip r:embed="rId1"/>
          <a:srcRect l="0" t="0" r="885" b="0"/>
          <a:stretch/>
        </p:blipFill>
        <p:spPr>
          <a:xfrm>
            <a:off x="457200" y="533520"/>
            <a:ext cx="8005680" cy="56480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715000" y="48769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aco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rcRect l="0" t="0" r="723" b="0"/>
          <a:stretch/>
        </p:blipFill>
        <p:spPr>
          <a:xfrm>
            <a:off x="533520" y="514440"/>
            <a:ext cx="8001000" cy="5675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533520" y="57150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ereal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796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838080" y="10666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ese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5796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4038480" y="480060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acon and egg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5749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914400" y="52578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ic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5789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6019920" y="51055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teak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98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838080" y="51814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alad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710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838080" y="518148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read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702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838080" y="10666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paghetti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756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762120" y="76212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up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rcRect l="0" t="0" r="509" b="0"/>
          <a:stretch/>
        </p:blipFill>
        <p:spPr>
          <a:xfrm>
            <a:off x="457200" y="533520"/>
            <a:ext cx="8112240" cy="57560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62120" y="9144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is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07732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3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7279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838080" y="27432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rn do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457200" y="396720"/>
            <a:ext cx="8077320" cy="57754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914400" y="2438280"/>
            <a:ext cx="2362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renc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ri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0:54:36Z</dcterms:created>
  <dc:creator>User</dc:creator>
  <dc:description/>
  <dc:language>en-US</dc:language>
  <cp:lastModifiedBy>Пользователь</cp:lastModifiedBy>
  <dcterms:modified xsi:type="dcterms:W3CDTF">2015-10-18T13:29:39Z</dcterms:modified>
  <cp:revision>8</cp:revision>
  <dc:subject/>
  <dc:title>Slide 1</dc:title>
</cp:coreProperties>
</file>