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E26-773E-4615-B494-16162E8A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EEB-C772-4248-8BA6-38E658C4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ABE-67B8-47EE-A59E-A465B0A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7CD-489E-4073-A937-185B339B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6C3-7795-4ABD-B7F4-24A3F8B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FA9-FF26-4FDB-A666-7F580A09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CED-CA27-4639-9874-A23AFE2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0DE-8017-45AD-B6F0-5E5B2CB7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5A2-2A4A-4F44-A44D-B98CB8B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727-FA75-421C-8C26-B7ADA92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C71-1A67-4052-8616-307E7EA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40E-F231-45A5-A55E-76735AA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290-B245-4ED5-810D-47566488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rcRect l="0" t="0" r="496" b="0"/>
          <a:stretch/>
        </p:blipFill>
        <p:spPr>
          <a:xfrm>
            <a:off x="457200" y="500040"/>
            <a:ext cx="8264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2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1440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mbur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56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219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do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rcRect l="0" t="0" r="1023" b="0"/>
          <a:stretch/>
        </p:blipFill>
        <p:spPr>
          <a:xfrm>
            <a:off x="457200" y="533520"/>
            <a:ext cx="8145360" cy="576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048120" y="51055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56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838080" y="1219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ndwi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rcRect l="0" t="0" r="885" b="0"/>
          <a:stretch/>
        </p:blipFill>
        <p:spPr>
          <a:xfrm>
            <a:off x="457200" y="533520"/>
            <a:ext cx="8005680" cy="564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715000" y="4876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c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rcRect l="0" t="0" r="723" b="0"/>
          <a:stretch/>
        </p:blipFill>
        <p:spPr>
          <a:xfrm>
            <a:off x="533520" y="514440"/>
            <a:ext cx="8001000" cy="5675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352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erea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9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080" y="10666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ese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038480" y="4800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on and egg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74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14400" y="5257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i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78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019920" y="51055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ea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38080" y="5181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l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10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838080" y="5181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02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838080" y="1066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paghett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56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762120" y="7621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p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0" t="0" r="509" b="0"/>
          <a:stretch/>
        </p:blipFill>
        <p:spPr>
          <a:xfrm>
            <a:off x="457200" y="533520"/>
            <a:ext cx="8112240" cy="5756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62120" y="914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27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838080" y="2743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rn do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57200" y="396720"/>
            <a:ext cx="8077320" cy="5775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2438280"/>
            <a:ext cx="2362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Пользователь</cp:lastModifiedBy>
  <dcterms:modified xsi:type="dcterms:W3CDTF">2015-10-18T13:29:39Z</dcterms:modified>
  <cp:revision>8</cp:revision>
  <dc:subject/>
  <dc:title>Slide 1</dc:title>
</cp:coreProperties>
</file>